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9.jpeg" ContentType="image/jpeg"/>
  <Override PartName="/ppt/media/image1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11.png" ContentType="image/png"/>
  <Override PartName="/ppt/media/image13.png" ContentType="image/png"/>
  <Override PartName="/ppt/media/image8.wmf" ContentType="image/x-wmf"/>
  <Override PartName="/ppt/media/image12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FFD4-3709-4217-9D9A-707C31F08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6F92-E428-4499-8A3E-C9061BCA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5217-2D54-4911-88FD-67DFAC6F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4B70-089A-41C8-BA0F-B87BE0CD0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099C-170B-4A82-B8A1-FD60509F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1329-D6EB-4264-BDF3-1E2967DC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44D4-29A3-4B54-97E4-B49F8801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1B75-051B-4FC3-8575-84C3CD5E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2784-5778-4C8E-8D94-9542921C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C394-8C55-4396-8637-6F8ED9B4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4CEA-F47A-4746-B3B9-54369242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0591-38C5-4D5D-8085-09DCCBA9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73F6-769F-4F50-B019-A2690C37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348D-34D5-4291-9522-EC07FA8C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8039-9373-46A9-A022-3DD2AA5E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679C-C10C-4029-BCF5-01C42AB48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72BA-FBBD-4E69-875C-F33E795F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F45A-A7B3-499D-B592-5EF4CCAC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635D-FB0F-47C6-885A-0D02B6B4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64A5-4314-4599-BEF8-9499E526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B895-5D4C-49EC-B015-7EE618FC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D7FF-8549-4A31-849B-2039F0B1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535F-CCA2-4E86-8095-FCD44966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3FDE-16FC-46A4-8C32-BC8BA207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B263-F638-42E5-BB90-6F6CC28E5EB0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1E61-4891-47D6-8702-D5C6491E1CD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lez.coop.doc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file:///griglia%20progettazione.doc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14440" y="456840"/>
            <a:ext cx="8115120" cy="3429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APPRENDIMENTO COOPERATIVO</a:t>
            </a:r>
            <a:br>
              <a:rPr sz="3200"/>
            </a:br>
            <a:r>
              <a:rPr b="1" lang="en-US" sz="2800" spc="-1" strike="noStrike">
                <a:solidFill>
                  <a:srgbClr val="e05b00"/>
                </a:solidFill>
                <a:latin typeface="Verdana"/>
              </a:rPr>
              <a:t>2° incontro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13880" y="4500720"/>
            <a:ext cx="7667640" cy="1442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Taverne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Anna Segreto                                                     20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79520" y="5562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5b00"/>
                </a:solidFill>
                <a:latin typeface="Verdana"/>
              </a:rPr>
              <a:t>STRUTTURE COOPERATIVE 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456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 primo repertorio di modi semplic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coinvolgere gli alunni in attività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e vadano oltre l’ascoltare qualcuno che par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3124080"/>
            <a:ext cx="2057400" cy="609840"/>
          </a:xfrm>
          <a:prstGeom prst="wedgeRoundRectCallout">
            <a:avLst>
              <a:gd name="adj1" fmla="val -25000"/>
              <a:gd name="adj2" fmla="val 70050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ne al cent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009960"/>
            <a:ext cx="2057400" cy="838080"/>
          </a:xfrm>
          <a:prstGeom prst="wedgeRoundRectCallout">
            <a:avLst>
              <a:gd name="adj1" fmla="val -25000"/>
              <a:gd name="adj2" fmla="val 37310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 numerate insie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3124080"/>
            <a:ext cx="2057400" cy="609840"/>
          </a:xfrm>
          <a:prstGeom prst="wedgeRoundRectCallout">
            <a:avLst>
              <a:gd name="adj1" fmla="val -25000"/>
              <a:gd name="adj2" fmla="val 70050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igsa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2971800" y="4114800"/>
            <a:ext cx="3581280" cy="609480"/>
          </a:xfrm>
          <a:prstGeom prst="wedgeRoundRectCallout">
            <a:avLst>
              <a:gd name="adj1" fmla="val -56115"/>
              <a:gd name="adj2" fmla="val 80990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vista a tre pass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1905120"/>
            <a:ext cx="2057400" cy="761760"/>
          </a:xfrm>
          <a:prstGeom prst="wedgeRoundRectCallout">
            <a:avLst>
              <a:gd name="adj1" fmla="val -63888"/>
              <a:gd name="adj2" fmla="val 36041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sa, discuti in coppia,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"/>
          <p:cNvSpPr/>
          <p:nvPr/>
        </p:nvSpPr>
        <p:spPr>
          <a:xfrm>
            <a:off x="6553080" y="4038480"/>
            <a:ext cx="2057400" cy="609840"/>
          </a:xfrm>
          <a:prstGeom prst="wedgeRoundRectCallout">
            <a:avLst>
              <a:gd name="adj1" fmla="val 55324"/>
              <a:gd name="adj2" fmla="val 10675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 fla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" y="762120"/>
            <a:ext cx="1600200" cy="761760"/>
          </a:xfrm>
          <a:prstGeom prst="wedgeRoundRectCallout">
            <a:avLst>
              <a:gd name="adj1" fmla="val -46430"/>
              <a:gd name="adj2" fmla="val 66041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ro in galle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>
            <a:off x="6934320" y="1828800"/>
            <a:ext cx="1752480" cy="914400"/>
          </a:xfrm>
          <a:prstGeom prst="wedgeRoundRectCallout">
            <a:avLst>
              <a:gd name="adj1" fmla="val -46740"/>
              <a:gd name="adj2" fmla="val 63370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lo recipro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4114800"/>
            <a:ext cx="2209680" cy="762120"/>
          </a:xfrm>
          <a:prstGeom prst="wedgeRoundRectCallout">
            <a:avLst>
              <a:gd name="adj1" fmla="val 15949"/>
              <a:gd name="adj2" fmla="val 71041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disci le tue doman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0" y="2057400"/>
            <a:ext cx="1752480" cy="609480"/>
          </a:xfrm>
          <a:prstGeom prst="wedgeRoundRectCallout">
            <a:avLst>
              <a:gd name="adj1" fmla="val -25000"/>
              <a:gd name="adj2" fmla="val 70050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oundt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5715000" y="4876920"/>
            <a:ext cx="2819520" cy="609480"/>
          </a:xfrm>
          <a:prstGeom prst="wedgeRoundRectCallout">
            <a:avLst>
              <a:gd name="adj1" fmla="val 58671"/>
              <a:gd name="adj2" fmla="val 53907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io in copp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2514600" y="5105520"/>
            <a:ext cx="2819520" cy="609480"/>
          </a:xfrm>
          <a:prstGeom prst="wedgeRoundRectCallout">
            <a:avLst>
              <a:gd name="adj1" fmla="val -57430"/>
              <a:gd name="adj2" fmla="val 6773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79520" y="5562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STUDIAMO INSIEME</a:t>
            </a:r>
            <a:br>
              <a:rPr sz="24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truttura partn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0" y="5410080"/>
            <a:ext cx="2057400" cy="1447920"/>
          </a:xfrm>
          <a:prstGeom prst="wedgeRoundRectCallout">
            <a:avLst>
              <a:gd name="adj1" fmla="val 56944"/>
              <a:gd name="adj2" fmla="val 36625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iascuna coppia base sceglie una strut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74678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79520" y="54100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it-IT" sz="2800" spc="-1" strike="noStrike">
                <a:solidFill>
                  <a:srgbClr val="e05b00"/>
                </a:solidFill>
                <a:latin typeface="Verdana"/>
              </a:rPr>
              <a:t>COPPIE BASE: consegne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2920" y="529920"/>
            <a:ext cx="6507000" cy="442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studino 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assi della struttura e 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rifletta sull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bilità social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onnesse e sui possibili ambiti d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pplicazio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trovi un esempio concreto d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utilizz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/applic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 si accordi sul modo più efficace per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piegar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 turno si faccia un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imulazion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lla propria spiegazion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79520" y="56386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05b00"/>
                </a:solidFill>
                <a:latin typeface="Verdana"/>
              </a:rPr>
              <a:t>COPPIE MIX: consegne</a:t>
            </a:r>
            <a:r>
              <a:rPr b="0" lang="it-IT" sz="2000" spc="-1" strike="noStrike">
                <a:solidFill>
                  <a:srgbClr val="e05b00"/>
                </a:solidFill>
                <a:latin typeface="Verdana"/>
              </a:rPr>
              <a:t> </a:t>
            </a:r>
            <a:br>
              <a:rPr sz="20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5184720" cy="4680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i spiegh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vicendevolmente il materiale di stud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i verifich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l’un l’altro la comprensione, ponendo doman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Segnaposto testo 3" descr=""/>
          <p:cNvPicPr/>
          <p:nvPr/>
        </p:nvPicPr>
        <p:blipFill>
          <a:blip r:embed="rId1"/>
          <a:stretch/>
        </p:blipFill>
        <p:spPr>
          <a:xfrm>
            <a:off x="5943600" y="1371600"/>
            <a:ext cx="2743200" cy="24098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800600" y="4038480"/>
            <a:ext cx="4038480" cy="1600200"/>
          </a:xfrm>
          <a:prstGeom prst="wedgeRoundRectCallout">
            <a:avLst>
              <a:gd name="adj1" fmla="val 52476"/>
              <a:gd name="adj2" fmla="val 30851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l’interno del gruppo di 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 scelga una delle propos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cusse da socializzare con il grande grup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3429000"/>
            <a:ext cx="2514600" cy="1143000"/>
          </a:xfrm>
          <a:prstGeom prst="wedgeRoundRectCallout">
            <a:avLst>
              <a:gd name="adj1" fmla="val -59282"/>
              <a:gd name="adj2" fmla="val 54861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 ripeta la procedura con altre due strutt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OGNI STRUTTURA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79520" y="990720"/>
            <a:ext cx="8183520" cy="333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’ identificata da un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nom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’ costituita sui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4 principi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dell’approccio struttura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Ha proprie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regole,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fasi, procedur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’ utilizzabile per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qualsiasi età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’ trasversale a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qualsivoglia contenuto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’ facilmente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acquisibil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79520" y="5181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STRUTTURE PER …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1760" y="609480"/>
            <a:ext cx="38098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Costruire un buon clima di clas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Sviluppare apprendim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Sviluppare competenze comunica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960" y="529920"/>
            <a:ext cx="4011480" cy="418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struzione del clima di clas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struzione del clima di grupp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adronanza delle conoscenz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mpetenze cogni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ndivisione di informazion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egolare la comunic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struire la comunic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3657600" y="114264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"/>
          <p:cNvSpPr/>
          <p:nvPr/>
        </p:nvSpPr>
        <p:spPr>
          <a:xfrm>
            <a:off x="3581280" y="2133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35268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79520" y="5562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05b00"/>
                </a:solidFill>
                <a:latin typeface="Verdana"/>
              </a:rPr>
              <a:t>IMPLEMENTARE </a:t>
            </a:r>
            <a:br>
              <a:rPr sz="2800"/>
            </a:br>
            <a:r>
              <a:rPr b="1" lang="it-IT" sz="2800" spc="-1" strike="noStrike">
                <a:solidFill>
                  <a:srgbClr val="e05b00"/>
                </a:solidFill>
                <a:latin typeface="Verdana"/>
              </a:rPr>
              <a:t>L’APPROCCIO STRUTTURALE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rocedere a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tappe progressiv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Fare pratica di una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struttura per volt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, partendo dalle più semplic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rodurre gradatamente nuove strutture,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ampliando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l proprio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repertorio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Organizzare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lezioni multistruttural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>
            <a:hlinkClick r:id="rId1"/>
          </p:cNvPr>
          <p:cNvSpPr/>
          <p:nvPr/>
        </p:nvSpPr>
        <p:spPr>
          <a:xfrm>
            <a:off x="7010280" y="495288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79520" y="54100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DALLA TEORIA ALLA PRATICA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ni gruppo analizzi un’esperienza cooperati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uol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to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Esperto strut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Esperto principi cooperativ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Sintetizzato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"/>
          <p:cNvSpPr/>
          <p:nvPr/>
        </p:nvSpPr>
        <p:spPr>
          <a:xfrm>
            <a:off x="5638680" y="1523880"/>
            <a:ext cx="3276720" cy="1295640"/>
          </a:xfrm>
          <a:prstGeom prst="wedgeRectCallout">
            <a:avLst>
              <a:gd name="adj1" fmla="val 47527"/>
              <a:gd name="adj2" fmla="val 3555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iettivo: al termine dell’attività ciascuno deve essere in grado di spiegare ad altri il lavoro esamina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" y="3429000"/>
            <a:ext cx="2971800" cy="1523880"/>
          </a:xfrm>
          <a:prstGeom prst="wedgeEllipseCallout">
            <a:avLst>
              <a:gd name="adj1" fmla="val -40064"/>
              <a:gd name="adj2" fmla="val 4114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Uno a casa e tre in viagg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r condividere le esperienz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5562720" y="3733920"/>
            <a:ext cx="2971800" cy="1143000"/>
          </a:xfrm>
          <a:prstGeom prst="wedgeRoundRectCallout">
            <a:avLst>
              <a:gd name="adj1" fmla="val 62500"/>
              <a:gd name="adj2" fmla="val 19027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iflettete in gruppo e compilate individualmente la sche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79520" y="58068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IN SINTESI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o studente “silenzioso”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uno student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ottostimola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quan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on impegna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tutti i processi cognitiv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cessari  p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’apprendimen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i qualità superi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-9828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-9828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-9828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-120600"/>
            <a:ext cx="9144000" cy="41904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4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0" y="-120600"/>
            <a:ext cx="9140760" cy="419040"/>
            <a:chOff x="0" y="-120600"/>
            <a:chExt cx="9140760" cy="419040"/>
          </a:xfrm>
        </p:grpSpPr>
        <p:sp>
          <p:nvSpPr>
            <p:cNvPr id="283" name=""/>
            <p:cNvSpPr/>
            <p:nvPr/>
          </p:nvSpPr>
          <p:spPr>
            <a:xfrm>
              <a:off x="0" y="-120600"/>
              <a:ext cx="360" cy="419040"/>
            </a:xfrm>
            <a:prstGeom prst="rect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54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0" y="-97560"/>
              <a:ext cx="9140760" cy="360"/>
              <a:chOff x="0" y="-97560"/>
              <a:chExt cx="9140760" cy="360"/>
            </a:xfrm>
          </p:grpSpPr>
          <p:sp>
            <p:nvSpPr>
              <p:cNvPr id="285" name=""/>
              <p:cNvSpPr/>
              <p:nvPr/>
            </p:nvSpPr>
            <p:spPr>
              <a:xfrm>
                <a:off x="0" y="-97560"/>
                <a:ext cx="360" cy="360"/>
              </a:xfrm>
              <a:prstGeom prst="rect">
                <a:avLst/>
              </a:prstGeom>
              <a:solidFill>
                <a:srgbClr val="f7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-97560"/>
                <a:ext cx="360" cy="360"/>
              </a:xfrm>
              <a:prstGeom prst="rect">
                <a:avLst/>
              </a:prstGeom>
              <a:solidFill>
                <a:srgbClr val="f7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53280" bIns="36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87" name=""/>
              <p:cNvGrpSpPr/>
              <p:nvPr/>
            </p:nvGrpSpPr>
            <p:grpSpPr>
              <a:xfrm>
                <a:off x="0" y="-97560"/>
                <a:ext cx="9140760" cy="360"/>
                <a:chOff x="0" y="-97560"/>
                <a:chExt cx="9140760" cy="36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0" y="-97560"/>
                  <a:ext cx="9140760" cy="360"/>
                </a:xfrm>
                <a:prstGeom prst="rect">
                  <a:avLst/>
                </a:prstGeom>
                <a:solidFill>
                  <a:srgbClr val="f7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89" name=""/>
                <p:cNvGrpSpPr/>
                <p:nvPr/>
              </p:nvGrpSpPr>
              <p:grpSpPr>
                <a:xfrm>
                  <a:off x="0" y="-97560"/>
                  <a:ext cx="9139680" cy="360"/>
                  <a:chOff x="0" y="-97560"/>
                  <a:chExt cx="9139680" cy="36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>
                    <a:off x="0" y="-97560"/>
                    <a:ext cx="9139680" cy="360"/>
                  </a:xfrm>
                  <a:prstGeom prst="rect">
                    <a:avLst/>
                  </a:prstGeom>
                  <a:solidFill>
                    <a:srgbClr val="f7f7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0" y="-97560"/>
                    <a:ext cx="9139680" cy="360"/>
                  </a:xfrm>
                  <a:prstGeom prst="rect">
                    <a:avLst/>
                  </a:prstGeom>
                  <a:solidFill>
                    <a:srgbClr val="f7f7ff"/>
                  </a:solidFill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</p:grpSp>
      <p:sp>
        <p:nvSpPr>
          <p:cNvPr id="292" name=""/>
          <p:cNvSpPr/>
          <p:nvPr/>
        </p:nvSpPr>
        <p:spPr>
          <a:xfrm>
            <a:off x="0" y="-98280"/>
            <a:ext cx="9144000" cy="9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-98280"/>
            <a:ext cx="9144000" cy="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331956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331956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31956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297240"/>
            <a:ext cx="9144000" cy="41904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4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0" y="3297240"/>
            <a:ext cx="360" cy="419040"/>
            <a:chOff x="0" y="3297240"/>
            <a:chExt cx="360" cy="419040"/>
          </a:xfrm>
        </p:grpSpPr>
        <p:sp>
          <p:nvSpPr>
            <p:cNvPr id="299" name=""/>
            <p:cNvSpPr/>
            <p:nvPr/>
          </p:nvSpPr>
          <p:spPr>
            <a:xfrm>
              <a:off x="0" y="3319200"/>
              <a:ext cx="360" cy="360"/>
            </a:xfrm>
            <a:prstGeom prst="rect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53280" bIns="36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0" y="3297240"/>
              <a:ext cx="360" cy="419040"/>
              <a:chOff x="0" y="3297240"/>
              <a:chExt cx="360" cy="419040"/>
            </a:xfrm>
          </p:grpSpPr>
          <p:sp>
            <p:nvSpPr>
              <p:cNvPr id="301" name=""/>
              <p:cNvSpPr/>
              <p:nvPr/>
            </p:nvSpPr>
            <p:spPr>
              <a:xfrm>
                <a:off x="0" y="3297240"/>
                <a:ext cx="360" cy="419040"/>
              </a:xfrm>
              <a:prstGeom prst="rect">
                <a:avLst/>
              </a:prstGeom>
              <a:solidFill>
                <a:srgbClr val="f7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54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0" y="3319920"/>
                <a:ext cx="360" cy="360"/>
              </a:xfrm>
              <a:prstGeom prst="rect">
                <a:avLst/>
              </a:prstGeom>
              <a:solidFill>
                <a:srgbClr val="f7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03" name=""/>
          <p:cNvSpPr/>
          <p:nvPr/>
        </p:nvSpPr>
        <p:spPr>
          <a:xfrm>
            <a:off x="0" y="3319560"/>
            <a:ext cx="9144000" cy="9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j0439553" descr=""/>
          <p:cNvPicPr/>
          <p:nvPr/>
        </p:nvPicPr>
        <p:blipFill>
          <a:blip r:embed="rId2"/>
          <a:stretch/>
        </p:blipFill>
        <p:spPr>
          <a:xfrm>
            <a:off x="399960" y="457200"/>
            <a:ext cx="45529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79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903"/>
                </a:solidFill>
                <a:latin typeface="Verdana"/>
              </a:rPr>
              <a:t>QUESTIONING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domanda che vorrei porre è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dividuale e di grup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657600" y="26668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9520" y="5562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05b00"/>
                </a:solidFill>
                <a:latin typeface="Verdana"/>
              </a:rPr>
              <a:t>MOLTI MODELLI PER LA COOPERAZIONE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914400"/>
            <a:ext cx="1828800" cy="1219320"/>
          </a:xfrm>
          <a:prstGeom prst="wedgeRectCallout">
            <a:avLst>
              <a:gd name="adj1" fmla="val 56250"/>
              <a:gd name="adj2" fmla="val 7680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mparare insie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John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609480"/>
            <a:ext cx="1905120" cy="1219320"/>
          </a:xfrm>
          <a:prstGeom prst="wedgeRectCallout">
            <a:avLst>
              <a:gd name="adj1" fmla="val 60000"/>
              <a:gd name="adj2" fmla="val 8856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cerca di grup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Shar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6705720" y="2209680"/>
            <a:ext cx="1904760" cy="1219320"/>
          </a:xfrm>
          <a:prstGeom prst="wedgeRectCallout">
            <a:avLst>
              <a:gd name="adj1" fmla="val 62749"/>
              <a:gd name="adj2" fmla="val -59375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struzione comples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Coh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2819520"/>
            <a:ext cx="1904760" cy="1218960"/>
          </a:xfrm>
          <a:prstGeom prst="wedgeRectCallout">
            <a:avLst>
              <a:gd name="adj1" fmla="val -69500"/>
              <a:gd name="adj2" fmla="val 18620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cripted coope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Dansera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2057400"/>
            <a:ext cx="1905120" cy="1219320"/>
          </a:xfrm>
          <a:prstGeom prst="wedgeRectCallout">
            <a:avLst>
              <a:gd name="adj1" fmla="val 60000"/>
              <a:gd name="adj2" fmla="val 8856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ucces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or a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Slav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3809880"/>
            <a:ext cx="2361960" cy="1219320"/>
          </a:xfrm>
          <a:prstGeom prst="wedgeRectCallout">
            <a:avLst>
              <a:gd name="adj1" fmla="val 52824"/>
              <a:gd name="adj2" fmla="val -28254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pproccio struttur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Kag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79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SI INIZIA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visitazione in chiave cooperativa delle unità di apprendimento in progettazi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5b00"/>
                </a:solidFill>
                <a:latin typeface="Arial"/>
              </a:rPr>
              <a:t>Passi decisional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griglia per aiutarc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685800" y="2149560"/>
            <a:ext cx="3886200" cy="2981160"/>
          </a:xfrm>
          <a:prstGeom prst="rect">
            <a:avLst/>
          </a:prstGeom>
          <a:ln w="0">
            <a:noFill/>
          </a:ln>
        </p:spPr>
      </p:pic>
      <p:sp>
        <p:nvSpPr>
          <p:cNvPr id="312" name="">
            <a:hlinkClick r:id="rId2"/>
          </p:cNvPr>
          <p:cNvSpPr/>
          <p:nvPr/>
        </p:nvSpPr>
        <p:spPr>
          <a:xfrm>
            <a:off x="7162920" y="3962520"/>
            <a:ext cx="976320" cy="228600"/>
          </a:xfrm>
          <a:prstGeom prst="rightArrow">
            <a:avLst>
              <a:gd name="adj1" fmla="val 50000"/>
              <a:gd name="adj2" fmla="val 106772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5105520" y="4572000"/>
            <a:ext cx="4038480" cy="1143000"/>
          </a:xfrm>
          <a:prstGeom prst="wedgeRectCallout">
            <a:avLst>
              <a:gd name="adj1" fmla="val 38287"/>
              <a:gd name="adj2" fmla="val 1527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ovrebbe essere una attività “reale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a attuare nella propria classe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05b00"/>
                </a:solidFill>
                <a:latin typeface="Verdana"/>
              </a:rPr>
              <a:t>PROCESSO DI COSTRUZIONE DI UN’ATTIVITA’ DIDATTICA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2095560" y="609480"/>
            <a:ext cx="4952880" cy="60984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ir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’obiettivo didattico/educat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2019240" y="1600200"/>
            <a:ext cx="5105520" cy="9144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bilir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sequenza dei processi (strategie cogniti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entata a conseguire l’obiett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>
            <a:off x="2095560" y="3048120"/>
            <a:ext cx="4952880" cy="76176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l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 strutture di lavoro sulla sequenza dei process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4114800"/>
            <a:ext cx="3505320" cy="1143000"/>
          </a:xfrm>
          <a:prstGeom prst="wedgeEllipseCallout">
            <a:avLst>
              <a:gd name="adj1" fmla="val -54893"/>
              <a:gd name="adj2" fmla="val 6527"/>
            </a:avLst>
          </a:prstGeom>
          <a:solidFill>
            <a:srgbClr val="e3de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mpetenze social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 praticare in contes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>
            <a:off x="7315200" y="2743200"/>
            <a:ext cx="1600200" cy="1143000"/>
          </a:xfrm>
          <a:prstGeom prst="wedgeRoundRectCallout">
            <a:avLst>
              <a:gd name="adj1" fmla="val 61902"/>
              <a:gd name="adj2" fmla="val 25694"/>
              <a:gd name="adj3" fmla="val 16667"/>
            </a:avLst>
          </a:prstGeom>
          <a:solidFill>
            <a:srgbClr val="e3de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cegliere il contenuto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gom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79520" y="5714640"/>
            <a:ext cx="81835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METTIAMOCI ALLA PROVA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Quali processi cognitivi sono sottes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alla comprensione di un tes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Ovver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quali strategie utilizza un lettore esper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per affrontare un tes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Teste numerate insie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79520" y="5562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PROCESSI E STRATEGI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1371600"/>
            <a:ext cx="4724280" cy="3644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let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. glob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. anali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zzazione delle informazion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elabor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izz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posi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79520" y="5807160"/>
            <a:ext cx="818352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5b00"/>
                </a:solidFill>
                <a:latin typeface="Verdana"/>
              </a:rPr>
              <a:t>SUPERVISIONE RECIPROCA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5" name="Segnaposto testo 3" descr=""/>
          <p:cNvPicPr/>
          <p:nvPr/>
        </p:nvPicPr>
        <p:blipFill>
          <a:blip r:embed="rId1"/>
          <a:stretch/>
        </p:blipFill>
        <p:spPr>
          <a:xfrm>
            <a:off x="503280" y="530280"/>
            <a:ext cx="4014720" cy="418788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69920" y="529920"/>
            <a:ext cx="3940200" cy="4879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e05b00"/>
                </a:solidFill>
                <a:latin typeface="Arial"/>
              </a:rPr>
              <a:t>Scambiamoci suggerimen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Focalizzate gli aspetti su cui vorreste confrontarv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Esplicitate gli aspetti “critici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Spiegate come state impostando la vostra progettazio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Tempo per pensa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Suggerimenti reciproc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Ringraziamen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"/>
          <p:cNvSpPr/>
          <p:nvPr/>
        </p:nvSpPr>
        <p:spPr>
          <a:xfrm>
            <a:off x="746280" y="4075200"/>
            <a:ext cx="207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"/>
          <p:cNvSpPr/>
          <p:nvPr/>
        </p:nvSpPr>
        <p:spPr>
          <a:xfrm>
            <a:off x="949320" y="434340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mici critic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79520" y="5562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5b00"/>
                </a:solidFill>
                <a:latin typeface="Verdana"/>
              </a:rPr>
              <a:t>APPUNTAMENTO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16 apr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6095880" y="1600200"/>
            <a:ext cx="2819520" cy="685800"/>
          </a:xfrm>
          <a:prstGeom prst="wedgeRectCallout">
            <a:avLst>
              <a:gd name="adj1" fmla="val 53152"/>
              <a:gd name="adj2" fmla="val 18518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lem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2" name="imagesCA5V8WP6" descr=""/>
          <p:cNvPicPr/>
          <p:nvPr/>
        </p:nvPicPr>
        <p:blipFill>
          <a:blip r:embed="rId1"/>
          <a:stretch/>
        </p:blipFill>
        <p:spPr>
          <a:xfrm>
            <a:off x="457200" y="1515960"/>
            <a:ext cx="49528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APPROCCIO STRUTTURALE</a:t>
            </a:r>
            <a:br>
              <a:rPr sz="3200"/>
            </a:b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Spencer Kagan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PRINCIPI FONDAMENT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dipendenza positiv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Responsabilità individu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azione simultan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qua partecip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j0343359" descr=""/>
          <p:cNvPicPr/>
          <p:nvPr/>
        </p:nvPicPr>
        <p:blipFill>
          <a:blip r:embed="rId1"/>
          <a:stretch/>
        </p:blipFill>
        <p:spPr>
          <a:xfrm>
            <a:off x="3429000" y="2819520"/>
            <a:ext cx="2971800" cy="2503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62120" y="2666880"/>
            <a:ext cx="2666880" cy="762120"/>
          </a:xfrm>
          <a:prstGeom prst="wedgeRoundRectCallout">
            <a:avLst>
              <a:gd name="adj1" fmla="val -51962"/>
              <a:gd name="adj2" fmla="val 44791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egnamento abilità comunicative e socia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6629400" y="3124080"/>
            <a:ext cx="2057400" cy="609840"/>
          </a:xfrm>
          <a:prstGeom prst="wedgeRoundRectCallout">
            <a:avLst>
              <a:gd name="adj1" fmla="val 53240"/>
              <a:gd name="adj2" fmla="val 67708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si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e05b00"/>
                </a:solidFill>
                <a:latin typeface="Verdana"/>
              </a:rPr>
              <a:t>FACILITARE L’APPRENDIMENTO ATTRAVERSO </a:t>
            </a:r>
            <a:br>
              <a:rPr sz="2600"/>
            </a:br>
            <a:r>
              <a:rPr b="1" lang="it-IT" sz="2600" spc="-1" strike="noStrike">
                <a:solidFill>
                  <a:srgbClr val="e05b00"/>
                </a:solidFill>
                <a:latin typeface="Verdana"/>
              </a:rPr>
              <a:t>L’INTERAZIONE SIMULTANEA</a:t>
            </a:r>
            <a:endParaRPr b="1" lang="en-US" sz="2600" spc="-1" strike="noStrike">
              <a:solidFill>
                <a:srgbClr val="ff8d3e"/>
              </a:solidFill>
              <a:latin typeface="Verdan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80880" y="304920"/>
            <a:ext cx="8001000" cy="4114440"/>
            <a:chOff x="380880" y="304920"/>
            <a:chExt cx="8001000" cy="4114440"/>
          </a:xfrm>
        </p:grpSpPr>
        <p:sp>
          <p:nvSpPr>
            <p:cNvPr id="107" name=""/>
            <p:cNvSpPr/>
            <p:nvPr/>
          </p:nvSpPr>
          <p:spPr>
            <a:xfrm>
              <a:off x="723600" y="3733920"/>
              <a:ext cx="182880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AZIONE SEQUENZIAL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3733920"/>
              <a:ext cx="182880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AZION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MULTANEA IN GRUPPI DI 4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553080" y="3733920"/>
              <a:ext cx="182880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AZIONE SIMULTANEA IN COPPI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86720" y="288792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52480" y="279648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26800" y="252216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01120" y="22478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392560" y="188208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6455000">
              <a:off x="2293920" y="152208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455000">
              <a:off x="2040840" y="122796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6455000">
              <a:off x="1787400" y="93348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6455000">
              <a:off x="1386720" y="8762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020960" y="28310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746640" y="255672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72320" y="228240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80880" y="19166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 rot="5145000">
              <a:off x="478800" y="155556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5145000">
              <a:off x="732240" y="12614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 rot="5145000">
              <a:off x="985680" y="96732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9644600">
              <a:off x="1752480" y="2740320"/>
              <a:ext cx="91440" cy="91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86720" y="2362320"/>
              <a:ext cx="548640" cy="251280"/>
            </a:xfrm>
            <a:prstGeom prst="wedgeRoundRectCallout">
              <a:avLst>
                <a:gd name="adj1" fmla="val -1157"/>
                <a:gd name="adj2" fmla="val 9924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28000" y="105300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28000" y="144072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12920" y="144072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12920" y="105300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5400000">
              <a:off x="3818520" y="1150200"/>
              <a:ext cx="96840" cy="96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22040" y="647640"/>
              <a:ext cx="581760" cy="307800"/>
            </a:xfrm>
            <a:prstGeom prst="wedgeRoundRectCallout">
              <a:avLst>
                <a:gd name="adj1" fmla="val -24671"/>
                <a:gd name="adj2" fmla="val 10051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3818160" y="2604960"/>
              <a:ext cx="97200" cy="96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28000" y="2507760"/>
              <a:ext cx="290880" cy="29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28000" y="289584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12920" y="289584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12920" y="2507760"/>
              <a:ext cx="290880" cy="29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22040" y="2133720"/>
              <a:ext cx="581760" cy="276840"/>
            </a:xfrm>
            <a:prstGeom prst="wedgeRoundRectCallout">
              <a:avLst>
                <a:gd name="adj1" fmla="val -24671"/>
                <a:gd name="adj2" fmla="val 10619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91160" y="1053000"/>
              <a:ext cx="29124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91160" y="1440720"/>
              <a:ext cx="29124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76440" y="1440720"/>
              <a:ext cx="29052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76440" y="1053000"/>
              <a:ext cx="29052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5400000">
              <a:off x="4982400" y="1150200"/>
              <a:ext cx="96840" cy="96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85560" y="647640"/>
              <a:ext cx="581400" cy="307800"/>
            </a:xfrm>
            <a:prstGeom prst="wedgeRoundRectCallout">
              <a:avLst>
                <a:gd name="adj1" fmla="val -24671"/>
                <a:gd name="adj2" fmla="val 10051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91160" y="2507760"/>
              <a:ext cx="290520" cy="29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91160" y="2895840"/>
              <a:ext cx="29052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440" y="2895840"/>
              <a:ext cx="29052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76440" y="2507760"/>
              <a:ext cx="290520" cy="29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982040" y="2604960"/>
              <a:ext cx="97200" cy="97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85560" y="2133720"/>
              <a:ext cx="581400" cy="276840"/>
            </a:xfrm>
            <a:prstGeom prst="wedgeRoundRectCallout">
              <a:avLst>
                <a:gd name="adj1" fmla="val -24671"/>
                <a:gd name="adj2" fmla="val 10619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7009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22880" y="7009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6834600" y="794880"/>
              <a:ext cx="9360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41000" y="304920"/>
              <a:ext cx="563760" cy="302040"/>
            </a:xfrm>
            <a:prstGeom prst="wedgeRoundRectCallout">
              <a:avLst>
                <a:gd name="adj1" fmla="val -24773"/>
                <a:gd name="adj2" fmla="val 100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7022160" y="150120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6552360" y="150120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rot="16200000">
              <a:off x="6918840" y="1585440"/>
              <a:ext cx="113760" cy="93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6553080" y="1104840"/>
              <a:ext cx="563760" cy="302040"/>
            </a:xfrm>
            <a:prstGeom prst="wedgeRoundRectCallout">
              <a:avLst>
                <a:gd name="adj1" fmla="val -24666"/>
                <a:gd name="adj2" fmla="val 9957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53080" y="2301480"/>
              <a:ext cx="281880" cy="28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22880" y="2301480"/>
              <a:ext cx="281880" cy="28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5400000">
              <a:off x="6834600" y="2395440"/>
              <a:ext cx="9396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41000" y="1905120"/>
              <a:ext cx="563760" cy="302040"/>
            </a:xfrm>
            <a:prstGeom prst="wedgeRoundRectCallout">
              <a:avLst>
                <a:gd name="adj1" fmla="val -24773"/>
                <a:gd name="adj2" fmla="val 100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7022160" y="31093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552360" y="31093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rot="16200000">
              <a:off x="6928560" y="3202920"/>
              <a:ext cx="93960" cy="93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553080" y="2705040"/>
              <a:ext cx="563760" cy="309600"/>
            </a:xfrm>
            <a:prstGeom prst="wedgeRoundRectCallout">
              <a:avLst>
                <a:gd name="adj1" fmla="val -24666"/>
                <a:gd name="adj2" fmla="val 9856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587360" y="7009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57520" y="7009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5400000">
              <a:off x="7868880" y="794880"/>
              <a:ext cx="9360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75640" y="304920"/>
              <a:ext cx="563760" cy="302040"/>
            </a:xfrm>
            <a:prstGeom prst="wedgeRoundRectCallout">
              <a:avLst>
                <a:gd name="adj1" fmla="val -24773"/>
                <a:gd name="adj2" fmla="val 100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8056800" y="150120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7586640" y="150120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6200000">
              <a:off x="7952400" y="1585080"/>
              <a:ext cx="11376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7587360" y="1104840"/>
              <a:ext cx="563760" cy="302040"/>
            </a:xfrm>
            <a:prstGeom prst="wedgeRoundRectCallout">
              <a:avLst>
                <a:gd name="adj1" fmla="val -24666"/>
                <a:gd name="adj2" fmla="val 9957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87360" y="2301480"/>
              <a:ext cx="281880" cy="28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57520" y="2301480"/>
              <a:ext cx="281880" cy="28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5400000">
              <a:off x="7868880" y="2395440"/>
              <a:ext cx="9396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75640" y="1905120"/>
              <a:ext cx="563760" cy="302040"/>
            </a:xfrm>
            <a:prstGeom prst="wedgeRoundRectCallout">
              <a:avLst>
                <a:gd name="adj1" fmla="val -24773"/>
                <a:gd name="adj2" fmla="val 100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8056800" y="31093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7586640" y="31093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rot="16200000">
              <a:off x="7962480" y="3202920"/>
              <a:ext cx="9396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7587360" y="2705040"/>
              <a:ext cx="563760" cy="309600"/>
            </a:xfrm>
            <a:prstGeom prst="wedgeRoundRectCallout">
              <a:avLst>
                <a:gd name="adj1" fmla="val -24666"/>
                <a:gd name="adj2" fmla="val 9856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e05b00"/>
                </a:solidFill>
                <a:latin typeface="Verdana"/>
              </a:rPr>
              <a:t>FACILITARE L’APPRENDIMENTO ATTRAVERSO L’EQUA PARTECIPAZIONE</a:t>
            </a:r>
            <a:endParaRPr b="1" lang="en-US" sz="2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400040" y="457200"/>
            <a:ext cx="6343920" cy="3772080"/>
            <a:chOff x="1400040" y="457200"/>
            <a:chExt cx="6343920" cy="3772080"/>
          </a:xfrm>
        </p:grpSpPr>
        <p:sp>
          <p:nvSpPr>
            <p:cNvPr id="187" name=""/>
            <p:cNvSpPr/>
            <p:nvPr/>
          </p:nvSpPr>
          <p:spPr>
            <a:xfrm>
              <a:off x="4886280" y="3543480"/>
              <a:ext cx="1828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PARI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LIVELLO DI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PARTECIPAZION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1400040" y="1485720"/>
              <a:ext cx="3019320" cy="2742840"/>
              <a:chOff x="1400040" y="1485720"/>
              <a:chExt cx="3019320" cy="2742840"/>
            </a:xfrm>
          </p:grpSpPr>
          <p:pic>
            <p:nvPicPr>
              <p:cNvPr id="18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485800" y="2771640"/>
                <a:ext cx="685800" cy="59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28800" y="2714400"/>
                <a:ext cx="79056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>
                <a:off x="2371320" y="3543120"/>
                <a:ext cx="1828800" cy="6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Black"/>
                  </a:rPr>
                  <a:t>DISUGUALE LIVELLO DI PARTECIPAZION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599920" y="1485720"/>
                <a:ext cx="1371600" cy="848160"/>
              </a:xfrm>
              <a:prstGeom prst="wedgeRoundRectCallout">
                <a:avLst>
                  <a:gd name="adj1" fmla="val -15925"/>
                  <a:gd name="adj2" fmla="val 87273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Red, white, yellow,pink, green, black, 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285720" y="2400120"/>
                <a:ext cx="548640" cy="251280"/>
              </a:xfrm>
              <a:prstGeom prst="wedgeRoundRectCallout">
                <a:avLst>
                  <a:gd name="adj1" fmla="val -347"/>
                  <a:gd name="adj2" fmla="val 115402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400040" y="1714320"/>
                <a:ext cx="1142640" cy="848160"/>
              </a:xfrm>
              <a:prstGeom prst="wedgeRoundRectCallout">
                <a:avLst>
                  <a:gd name="adj1" fmla="val -64944"/>
                  <a:gd name="adj2" fmla="val 90643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avorando con un tuo compagno 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>
              <a:off x="4886280" y="2705040"/>
              <a:ext cx="68544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4"/>
            <a:stretch/>
          </p:blipFill>
          <p:spPr>
            <a:xfrm>
              <a:off x="591516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600960" y="2019240"/>
              <a:ext cx="1143000" cy="505440"/>
            </a:xfrm>
            <a:prstGeom prst="wedgeRoundRectCallout">
              <a:avLst>
                <a:gd name="adj1" fmla="val 70888"/>
                <a:gd name="adj2" fmla="val 12387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 e B a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urno ……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771800" y="457200"/>
              <a:ext cx="914400" cy="342720"/>
            </a:xfrm>
            <a:prstGeom prst="wedgeRoundRectCallout">
              <a:avLst>
                <a:gd name="adj1" fmla="val -15972"/>
                <a:gd name="adj2" fmla="val 14611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800680" y="685440"/>
              <a:ext cx="914400" cy="342720"/>
            </a:xfrm>
            <a:prstGeom prst="wedgeRoundRectCallout">
              <a:avLst>
                <a:gd name="adj1" fmla="val -10138"/>
                <a:gd name="adj2" fmla="val 20185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57680" y="1142640"/>
              <a:ext cx="914400" cy="342720"/>
            </a:xfrm>
            <a:prstGeom prst="wedgeRoundRectCallout">
              <a:avLst>
                <a:gd name="adj1" fmla="val -24722"/>
                <a:gd name="adj2" fmla="val 15462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ello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86200" y="1590480"/>
              <a:ext cx="914400" cy="342720"/>
            </a:xfrm>
            <a:prstGeom prst="wedgeRoundRectCallout">
              <a:avLst>
                <a:gd name="adj1" fmla="val -10138"/>
                <a:gd name="adj2" fmla="val 149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Pink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43200" y="1828800"/>
              <a:ext cx="914400" cy="342720"/>
            </a:xfrm>
            <a:prstGeom prst="wedgeRoundRectCallout">
              <a:avLst>
                <a:gd name="adj1" fmla="val 25277"/>
                <a:gd name="adj2" fmla="val 21018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een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57960" y="2286000"/>
              <a:ext cx="914400" cy="342720"/>
            </a:xfrm>
            <a:prstGeom prst="wedgeRoundRectCallout">
              <a:avLst>
                <a:gd name="adj1" fmla="val 30486"/>
                <a:gd name="adj2" fmla="val 99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lack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4419720" y="380880"/>
            <a:ext cx="4724280" cy="4343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79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e05b00"/>
                </a:solidFill>
                <a:latin typeface="Verdana"/>
              </a:rPr>
              <a:t>FACILITARE L’APPRENDIMENTO ATTRAVERSO L’EQUA PARTECIPAZIONE</a:t>
            </a:r>
            <a:endParaRPr b="1" lang="en-US" sz="2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400040" y="533520"/>
            <a:ext cx="6343920" cy="3771720"/>
            <a:chOff x="1400040" y="533520"/>
            <a:chExt cx="6343920" cy="3771720"/>
          </a:xfrm>
        </p:grpSpPr>
        <p:sp>
          <p:nvSpPr>
            <p:cNvPr id="208" name=""/>
            <p:cNvSpPr/>
            <p:nvPr/>
          </p:nvSpPr>
          <p:spPr>
            <a:xfrm>
              <a:off x="4886280" y="3619440"/>
              <a:ext cx="1828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PARI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LIVELLO DI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PARTECIPAZION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1400040" y="1562040"/>
              <a:ext cx="3019320" cy="2742840"/>
              <a:chOff x="1400040" y="1562040"/>
              <a:chExt cx="3019320" cy="2742840"/>
            </a:xfrm>
          </p:grpSpPr>
          <p:pic>
            <p:nvPicPr>
              <p:cNvPr id="21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485800" y="2847960"/>
                <a:ext cx="685800" cy="59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28800" y="2790720"/>
                <a:ext cx="79056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>
                <a:off x="2371320" y="3619440"/>
                <a:ext cx="1828800" cy="6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Black"/>
                  </a:rPr>
                  <a:t>DISUGUALE LIVELLO DI PARTECIPAZION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599920" y="1562040"/>
                <a:ext cx="1371600" cy="848160"/>
              </a:xfrm>
              <a:prstGeom prst="wedgeRoundRectCallout">
                <a:avLst>
                  <a:gd name="adj1" fmla="val -15925"/>
                  <a:gd name="adj2" fmla="val 87273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Red, white, yellow,pink, green, black, 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285720" y="2476440"/>
                <a:ext cx="548640" cy="251280"/>
              </a:xfrm>
              <a:prstGeom prst="wedgeRoundRectCallout">
                <a:avLst>
                  <a:gd name="adj1" fmla="val -347"/>
                  <a:gd name="adj2" fmla="val 115402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400040" y="1790640"/>
                <a:ext cx="1142640" cy="848160"/>
              </a:xfrm>
              <a:prstGeom prst="wedgeRoundRectCallout">
                <a:avLst>
                  <a:gd name="adj1" fmla="val -64944"/>
                  <a:gd name="adj2" fmla="val 90643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avorando con un tuo compagno 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216" name="" descr=""/>
            <p:cNvPicPr/>
            <p:nvPr/>
          </p:nvPicPr>
          <p:blipFill>
            <a:blip r:embed="rId3"/>
            <a:stretch/>
          </p:blipFill>
          <p:spPr>
            <a:xfrm>
              <a:off x="4886280" y="2781360"/>
              <a:ext cx="68544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4"/>
            <a:stretch/>
          </p:blipFill>
          <p:spPr>
            <a:xfrm>
              <a:off x="5915160" y="278136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6600960" y="2095560"/>
              <a:ext cx="1143000" cy="505440"/>
            </a:xfrm>
            <a:prstGeom prst="wedgeRoundRectCallout">
              <a:avLst>
                <a:gd name="adj1" fmla="val 70888"/>
                <a:gd name="adj2" fmla="val 12387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 e B a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urno ……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71800" y="533520"/>
              <a:ext cx="914400" cy="342720"/>
            </a:xfrm>
            <a:prstGeom prst="wedgeRoundRectCallout">
              <a:avLst>
                <a:gd name="adj1" fmla="val -15972"/>
                <a:gd name="adj2" fmla="val 14611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00680" y="761760"/>
              <a:ext cx="914400" cy="342720"/>
            </a:xfrm>
            <a:prstGeom prst="wedgeRoundRectCallout">
              <a:avLst>
                <a:gd name="adj1" fmla="val -10138"/>
                <a:gd name="adj2" fmla="val 20185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657680" y="1218960"/>
              <a:ext cx="914400" cy="342720"/>
            </a:xfrm>
            <a:prstGeom prst="wedgeRoundRectCallout">
              <a:avLst>
                <a:gd name="adj1" fmla="val -24722"/>
                <a:gd name="adj2" fmla="val 15462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ello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86200" y="1666800"/>
              <a:ext cx="914400" cy="342720"/>
            </a:xfrm>
            <a:prstGeom prst="wedgeRoundRectCallout">
              <a:avLst>
                <a:gd name="adj1" fmla="val -10138"/>
                <a:gd name="adj2" fmla="val 149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Pink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543200" y="1905120"/>
              <a:ext cx="914400" cy="342720"/>
            </a:xfrm>
            <a:prstGeom prst="wedgeRoundRectCallout">
              <a:avLst>
                <a:gd name="adj1" fmla="val 25277"/>
                <a:gd name="adj2" fmla="val 21018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een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457960" y="2362320"/>
              <a:ext cx="914400" cy="342720"/>
            </a:xfrm>
            <a:prstGeom prst="wedgeRoundRectCallout">
              <a:avLst>
                <a:gd name="adj1" fmla="val 30486"/>
                <a:gd name="adj2" fmla="val 99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lack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STRUTTUR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5120" y="1828440"/>
            <a:ext cx="76723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approccio strutturale è  basato sulla definizion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 modi semplici per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trutturar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terazion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gli studenti in compiti di apprendimen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gn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truttura,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ombinandosi con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ntenut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versi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re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ttività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vers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Segnaposto testo 3" descr=""/>
          <p:cNvPicPr/>
          <p:nvPr/>
        </p:nvPicPr>
        <p:blipFill>
          <a:blip r:embed="rId1"/>
          <a:stretch/>
        </p:blipFill>
        <p:spPr>
          <a:xfrm>
            <a:off x="6156360" y="0"/>
            <a:ext cx="2808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79520" y="5562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ESEMPIO DI STRUTTURA 1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9520" y="1644120"/>
            <a:ext cx="8183520" cy="3567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ate una definizione di INTERAZIONE SIMULTANE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he cosa si intende per PARTECIPAZIONE EQU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Qual è la differenza tra STRUTTURA e ATTIVITA’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me l’insegnante potrebbe favorire l’attivazione della RESPONSABILITA’ INDIVIDUAL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4191120" y="380880"/>
            <a:ext cx="4952880" cy="762120"/>
          </a:xfrm>
          <a:prstGeom prst="wedgeRectCallout">
            <a:avLst>
              <a:gd name="adj1" fmla="val -54231"/>
              <a:gd name="adj2" fmla="val 26666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cisione per consulto di grup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enne al centro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791320"/>
            <a:ext cx="818352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ESEMPIO DI STRUTTURA         2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200240"/>
            <a:ext cx="7657920" cy="445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Quali processi cognitivi TNI può attivar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Pensate individualmente, poi discut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n che misura TNI può modificare il clima di class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Discutete finché trovate una risposta di sintesi condivis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TNI è applicabile a diversi contesti disciplinari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Supportatevi reciprocamente in modo che ciascuno riesc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a fare un esemp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6172200" y="457200"/>
            <a:ext cx="2743200" cy="762120"/>
          </a:xfrm>
          <a:prstGeom prst="wedgeRectCallout">
            <a:avLst>
              <a:gd name="adj1" fmla="val 57986"/>
              <a:gd name="adj2" fmla="val -7708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e numerate insie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5334120" y="4495680"/>
            <a:ext cx="3352680" cy="914400"/>
          </a:xfrm>
          <a:prstGeom prst="wedgeRoundRectCallout">
            <a:avLst>
              <a:gd name="adj1" fmla="val 53597"/>
              <a:gd name="adj2" fmla="val 26736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iflessione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cheda di confro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20:05:28Z</dcterms:created>
  <dc:creator>Francy</dc:creator>
  <dc:description/>
  <dc:language>en-US</dc:language>
  <cp:lastModifiedBy>anna</cp:lastModifiedBy>
  <dcterms:modified xsi:type="dcterms:W3CDTF">2011-03-27T15:08:03Z</dcterms:modified>
  <cp:revision>103</cp:revision>
  <dc:subject/>
  <dc:title>GESTIRE LA CLASSE COMUNITA’ DI APPRENDIMENTO</dc:title>
</cp:coreProperties>
</file>