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13.png" ContentType="image/png"/>
  <Override PartName="/ppt/media/image8.wmf" ContentType="image/x-wmf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18C-8DC4-4359-B1B3-A17C4D889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6667-BC43-4486-8235-EB4CE730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716-20A1-414F-BB22-84D5CC7F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F2B0-2CDA-44BE-9E05-4D8323B2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D421-788A-40BB-A6FD-125CBCD9E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E82D-FB41-48F5-87BA-35B610C6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42F1-E728-40D3-AF08-DD4A511F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EF0D-F059-4A95-B038-CD22D04A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FB32-AD3B-4361-B073-5BF042C4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03A5-544A-45B1-AB58-6AA7EAA5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947C-A283-4334-8981-3EA6DC61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3B4-1A59-490A-A241-E720E862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FD37-4E35-483D-BD64-068C3B92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8E06-75E5-4DB3-99FF-6A49B334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0879-6177-43FB-A6D0-E199A8B8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EC40-673F-4954-B667-5E8E1E84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522E-0DB6-4E9B-A57A-ABD4AC2C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24AA-05AA-4CAA-8AF9-CEC65DCE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458-78A6-4325-8C76-0C3C36C7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CE3-4B94-4224-A4A6-49C99E90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121-84AB-4203-8D67-B08C07AC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AC89-B7D6-4FB7-B789-7BB5607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B4B-484A-46CC-8D91-955EF592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609-84CC-4D9F-A8EB-4573EF6E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531E-661A-4597-A21F-EF4C5F8B9E2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C8AA-451B-4CAE-8C63-DCCAE1D01A7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ez.coop.doc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griglia%20progettazione.doc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811512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APPRENDIMENTO COOPERATIVO</a:t>
            </a:r>
            <a:br>
              <a:rPr sz="3200"/>
            </a:b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2° incontr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4500720"/>
            <a:ext cx="7667640" cy="14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ern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a Segreto                                                    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TRUTTURE COOPERATIVE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primo repertorio di modi semplic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involgere gli alunni in attivit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vadano oltre l’ascoltare qualcuno che pa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ne al cen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009960"/>
            <a:ext cx="2057400" cy="838080"/>
          </a:xfrm>
          <a:prstGeom prst="wedgeRoundRectCallout">
            <a:avLst>
              <a:gd name="adj1" fmla="val -25000"/>
              <a:gd name="adj2" fmla="val 3731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 numerate insi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4114800"/>
            <a:ext cx="3581280" cy="609480"/>
          </a:xfrm>
          <a:prstGeom prst="wedgeRoundRectCallout">
            <a:avLst>
              <a:gd name="adj1" fmla="val -56115"/>
              <a:gd name="adj2" fmla="val 8099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sta a tre pa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905120"/>
            <a:ext cx="2057400" cy="761760"/>
          </a:xfrm>
          <a:prstGeom prst="wedgeRoundRectCallout">
            <a:avLst>
              <a:gd name="adj1" fmla="val -63888"/>
              <a:gd name="adj2" fmla="val 3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sa, discuti in coppia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4038480"/>
            <a:ext cx="2057400" cy="609840"/>
          </a:xfrm>
          <a:prstGeom prst="wedgeRoundRectCallout">
            <a:avLst>
              <a:gd name="adj1" fmla="val 55324"/>
              <a:gd name="adj2" fmla="val 1067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 fla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762120"/>
            <a:ext cx="1600200" cy="761760"/>
          </a:xfrm>
          <a:prstGeom prst="wedgeRoundRectCallout">
            <a:avLst>
              <a:gd name="adj1" fmla="val -46430"/>
              <a:gd name="adj2" fmla="val 6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o in gall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1828800"/>
            <a:ext cx="1752480" cy="914400"/>
          </a:xfrm>
          <a:prstGeom prst="wedgeRoundRectCallout">
            <a:avLst>
              <a:gd name="adj1" fmla="val -46740"/>
              <a:gd name="adj2" fmla="val 6337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o recipr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4114800"/>
            <a:ext cx="2209680" cy="762120"/>
          </a:xfrm>
          <a:prstGeom prst="wedgeRoundRectCallout">
            <a:avLst>
              <a:gd name="adj1" fmla="val 15949"/>
              <a:gd name="adj2" fmla="val 71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disci le tue doma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2057400"/>
            <a:ext cx="1752480" cy="60948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und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876920"/>
            <a:ext cx="2819520" cy="609480"/>
          </a:xfrm>
          <a:prstGeom prst="wedgeRoundRectCallout">
            <a:avLst>
              <a:gd name="adj1" fmla="val 58671"/>
              <a:gd name="adj2" fmla="val 5390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io in copp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5105520"/>
            <a:ext cx="2819520" cy="609480"/>
          </a:xfrm>
          <a:prstGeom prst="wedgeRoundRectCallout">
            <a:avLst>
              <a:gd name="adj1" fmla="val -57430"/>
              <a:gd name="adj2" fmla="val 6773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UDIAMO INSIEME</a:t>
            </a:r>
            <a:br>
              <a:rPr sz="24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5410080"/>
            <a:ext cx="2057400" cy="1447920"/>
          </a:xfrm>
          <a:prstGeom prst="wedgeRoundRectCallout">
            <a:avLst>
              <a:gd name="adj1" fmla="val 56944"/>
              <a:gd name="adj2" fmla="val 3662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iascuna coppia base sceglie una stru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467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BASE: conseg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529920"/>
            <a:ext cx="6507000" cy="442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tudino 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ssi della struttura e 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rifletta su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bilità soci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sse e sui possibili ambiti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pplic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trovi un esempio concreto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tilizz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/appl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accordi sul modo più efficace per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ieg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turno si faccia un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mul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a propria spieg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9520" y="56386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MIX: consegne</a:t>
            </a:r>
            <a:r>
              <a:rPr b="0" lang="it-IT" sz="2000" spc="-1" strike="noStrike">
                <a:solidFill>
                  <a:srgbClr val="e05b00"/>
                </a:solidFill>
                <a:latin typeface="Verdana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5184720" cy="468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spieg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icendevolmente il materiale di st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verific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’un l’altro la comprensione, ponendo doma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Segnaposto testo 3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2743200" cy="2409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00600" y="4038480"/>
            <a:ext cx="4038480" cy="1600200"/>
          </a:xfrm>
          <a:prstGeom prst="wedgeRoundRectCallout">
            <a:avLst>
              <a:gd name="adj1" fmla="val 52476"/>
              <a:gd name="adj2" fmla="val 3085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’interno del gruppo di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scelga una delle propos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usse da socializzare con il grande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429000"/>
            <a:ext cx="2514600" cy="1143000"/>
          </a:xfrm>
          <a:prstGeom prst="wedgeRoundRectCallout">
            <a:avLst>
              <a:gd name="adj1" fmla="val -59282"/>
              <a:gd name="adj2" fmla="val 5486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ripeta la procedura con altre due strut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OGNI STRUTTUR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79520" y="990720"/>
            <a:ext cx="8183520" cy="33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identificata da un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costituita sui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4 princip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’approccio struttur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Ha propri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regole,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fasi, procedu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utilizzabile per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asi età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trasversale a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voglia contenu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facilment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quisibi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9520" y="5181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 PER …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Costruire un buon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apprend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competenze comunic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529920"/>
            <a:ext cx="401148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grup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dronanza delle conoscen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etenze cogn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divisione di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gola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657600" y="11426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213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IMPLEMENTARE </a:t>
            </a:r>
            <a:br>
              <a:rPr sz="28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L’APPROCCIO STRUTTURAL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ere 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tappe progressiv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are pratica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truttura per volt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partendo dalle più sempl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rodurre gradatamente nuove strutture,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mpliando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proprio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epertori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ganizzare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lezioni multistruttura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>
            <a:hlinkClick r:id="rId1"/>
          </p:cNvPr>
          <p:cNvSpPr/>
          <p:nvPr/>
        </p:nvSpPr>
        <p:spPr>
          <a:xfrm>
            <a:off x="7010280" y="49528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DALLA TEORIA ALLA PRATIC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ni gruppo analizzi un’esperienza coop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o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perto strut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Esperto principi cooperati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intetizza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523880"/>
            <a:ext cx="3276720" cy="1295640"/>
          </a:xfrm>
          <a:prstGeom prst="wedgeRectCallout">
            <a:avLst>
              <a:gd name="adj1" fmla="val 47527"/>
              <a:gd name="adj2" fmla="val 355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ttivo: al termine dell’attività ciascuno deve essere in grado di spiegare ad altri il lavoro esamina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3429000"/>
            <a:ext cx="2971800" cy="1523880"/>
          </a:xfrm>
          <a:prstGeom prst="wedgeEllipseCallout">
            <a:avLst>
              <a:gd name="adj1" fmla="val -40064"/>
              <a:gd name="adj2" fmla="val 4114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o a casa e tre in viagg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 condividere le esperien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3733920"/>
            <a:ext cx="2971800" cy="1143000"/>
          </a:xfrm>
          <a:prstGeom prst="wedgeRoundRectCallout">
            <a:avLst>
              <a:gd name="adj1" fmla="val 62500"/>
              <a:gd name="adj2" fmla="val 19027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iflettete in gruppo e compilate individualmente la sch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9520" y="580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IN SINTESI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 studente “silenzioso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no student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ttostimo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a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impegna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tutti i processi cogni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cessari  p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apprendim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 qualità superi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-12060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0" y="-120600"/>
            <a:ext cx="9140760" cy="419040"/>
            <a:chOff x="0" y="-120600"/>
            <a:chExt cx="9140760" cy="419040"/>
          </a:xfrm>
        </p:grpSpPr>
        <p:sp>
          <p:nvSpPr>
            <p:cNvPr id="283" name=""/>
            <p:cNvSpPr/>
            <p:nvPr/>
          </p:nvSpPr>
          <p:spPr>
            <a:xfrm>
              <a:off x="0" y="-120600"/>
              <a:ext cx="360" cy="41904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54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0" y="-97560"/>
              <a:ext cx="9140760" cy="360"/>
              <a:chOff x="0" y="-97560"/>
              <a:chExt cx="9140760" cy="36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53280" bIns="36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0" y="-97560"/>
                <a:ext cx="9140760" cy="360"/>
                <a:chOff x="0" y="-97560"/>
                <a:chExt cx="9140760" cy="3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0" y="-97560"/>
                  <a:ext cx="9140760" cy="360"/>
                </a:xfrm>
                <a:prstGeom prst="rect">
                  <a:avLst/>
                </a:prstGeom>
                <a:solidFill>
                  <a:srgbClr val="f7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0" y="-97560"/>
                  <a:ext cx="9139680" cy="360"/>
                  <a:chOff x="0" y="-97560"/>
                  <a:chExt cx="9139680" cy="3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292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-9828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9724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0" y="3297240"/>
            <a:ext cx="360" cy="419040"/>
            <a:chOff x="0" y="3297240"/>
            <a:chExt cx="360" cy="419040"/>
          </a:xfrm>
        </p:grpSpPr>
        <p:sp>
          <p:nvSpPr>
            <p:cNvPr id="299" name=""/>
            <p:cNvSpPr/>
            <p:nvPr/>
          </p:nvSpPr>
          <p:spPr>
            <a:xfrm>
              <a:off x="0" y="3319200"/>
              <a:ext cx="360" cy="36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53280" bIns="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0" y="3297240"/>
              <a:ext cx="360" cy="419040"/>
              <a:chOff x="0" y="3297240"/>
              <a:chExt cx="360" cy="41904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3297240"/>
                <a:ext cx="360" cy="41904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54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31992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j0439553" descr=""/>
          <p:cNvPicPr/>
          <p:nvPr/>
        </p:nvPicPr>
        <p:blipFill>
          <a:blip r:embed="rId2"/>
          <a:stretch/>
        </p:blipFill>
        <p:spPr>
          <a:xfrm>
            <a:off x="399960" y="457200"/>
            <a:ext cx="4552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QUESTIONIN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domanda che vorrei porre è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viduale e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MOLTI MODELLI PER LA COOPERAZIO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14400"/>
            <a:ext cx="1828800" cy="1219320"/>
          </a:xfrm>
          <a:prstGeom prst="wedgeRectCallout">
            <a:avLst>
              <a:gd name="adj1" fmla="val 56250"/>
              <a:gd name="adj2" fmla="val 768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arare insi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0948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erca di gru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ha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2209680"/>
            <a:ext cx="1904760" cy="1219320"/>
          </a:xfrm>
          <a:prstGeom prst="wedgeRectCallout">
            <a:avLst>
              <a:gd name="adj1" fmla="val 62749"/>
              <a:gd name="adj2" fmla="val -5937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struzione comples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819520"/>
            <a:ext cx="1904760" cy="1218960"/>
          </a:xfrm>
          <a:prstGeom prst="wedgeRectCallout">
            <a:avLst>
              <a:gd name="adj1" fmla="val -69500"/>
              <a:gd name="adj2" fmla="val 1862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ripted coop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anser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05740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cce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lav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809880"/>
            <a:ext cx="2361960" cy="1219320"/>
          </a:xfrm>
          <a:prstGeom prst="wedgeRectCallout">
            <a:avLst>
              <a:gd name="adj1" fmla="val 52824"/>
              <a:gd name="adj2" fmla="val -2825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roccio struttur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Ka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SI INIZIA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isitazione in chiave cooperativa delle unità di apprendimento in progett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5b00"/>
                </a:solidFill>
                <a:latin typeface="Arial"/>
              </a:rPr>
              <a:t>Passi decision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griglia per aiutar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5800" y="2149560"/>
            <a:ext cx="3886200" cy="298116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rId2"/>
          </p:cNvPr>
          <p:cNvSpPr/>
          <p:nvPr/>
        </p:nvSpPr>
        <p:spPr>
          <a:xfrm>
            <a:off x="7162920" y="3962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4572000"/>
            <a:ext cx="4038480" cy="1143000"/>
          </a:xfrm>
          <a:prstGeom prst="wedgeRectCallout">
            <a:avLst>
              <a:gd name="adj1" fmla="val 38287"/>
              <a:gd name="adj2" fmla="val 152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vrebbe essere una attività “real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 attuare nella propria classe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PROCESSO DI COSTRUZIONE DI UN’ATTIVITA’ DIDATTI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609480"/>
            <a:ext cx="4952880" cy="6098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obiettivo didattico/educa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019240" y="1600200"/>
            <a:ext cx="5105520" cy="9144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bil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equenza dei processi (strategie cogn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a a conseguire l’obiet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2095560" y="3048120"/>
            <a:ext cx="4952880" cy="7617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strutture di lavoro sulla sequenza dei proce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114800"/>
            <a:ext cx="3505320" cy="1143000"/>
          </a:xfrm>
          <a:prstGeom prst="wedgeEllipseCallout">
            <a:avLst>
              <a:gd name="adj1" fmla="val -54893"/>
              <a:gd name="adj2" fmla="val 652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etenze social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 praticare in conte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2743200"/>
            <a:ext cx="1600200" cy="1143000"/>
          </a:xfrm>
          <a:prstGeom prst="wedgeRoundRectCallout">
            <a:avLst>
              <a:gd name="adj1" fmla="val 61902"/>
              <a:gd name="adj2" fmla="val 25694"/>
              <a:gd name="adj3" fmla="val 1666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egliere il contenuto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g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9520" y="571464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METTIAMOCI ALLA PROV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processi cognitivi sono sottes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lla comprensione di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Ovve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strategie utilizza un lettore esper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er affrontare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PROCESSI E STRATEGI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1371600"/>
            <a:ext cx="4724280" cy="364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le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glob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anali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zazione delle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elabor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izz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osi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79520" y="5807160"/>
            <a:ext cx="81835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UPERVISIONE RECIPRO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5" name="Segnaposto testo 3" descr=""/>
          <p:cNvPicPr/>
          <p:nvPr/>
        </p:nvPicPr>
        <p:blipFill>
          <a:blip r:embed="rId1"/>
          <a:stretch/>
        </p:blipFill>
        <p:spPr>
          <a:xfrm>
            <a:off x="503280" y="530280"/>
            <a:ext cx="4014720" cy="41878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69920" y="529920"/>
            <a:ext cx="3940200" cy="4879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e05b00"/>
                </a:solidFill>
                <a:latin typeface="Arial"/>
              </a:rPr>
              <a:t>Scambiamoci suggerim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Focalizzate gli aspetti su cui vorreste confrontarv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Esplicitate gli aspetti “critici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Spiegate come state impostando la vostra progettazi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empo per pens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Suggerimenti recipro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Ringrazia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746280" y="407520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949320" y="43434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ici crit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5b00"/>
                </a:solidFill>
                <a:latin typeface="Verdana"/>
              </a:rPr>
              <a:t>APPUNTAMENT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16 apr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1600200"/>
            <a:ext cx="2819520" cy="685800"/>
          </a:xfrm>
          <a:prstGeom prst="wedgeRectCallout">
            <a:avLst>
              <a:gd name="adj1" fmla="val 53152"/>
              <a:gd name="adj2" fmla="val 1851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em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2" name="imagesCA5V8WP6" descr=""/>
          <p:cNvPicPr/>
          <p:nvPr/>
        </p:nvPicPr>
        <p:blipFill>
          <a:blip r:embed="rId1"/>
          <a:stretch/>
        </p:blipFill>
        <p:spPr>
          <a:xfrm>
            <a:off x="457200" y="1515960"/>
            <a:ext cx="49528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APPROCCIO STRUTTURALE</a:t>
            </a:r>
            <a:br>
              <a:rPr sz="3200"/>
            </a:b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pencer Kaga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RINCIPI FONDAMENT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dipendenza positiv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sponsabilità individu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azione simultan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qua partecip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j0343359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971800" cy="250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2666880"/>
            <a:ext cx="2666880" cy="762120"/>
          </a:xfrm>
          <a:prstGeom prst="wedgeRoundRectCallout">
            <a:avLst>
              <a:gd name="adj1" fmla="val -51962"/>
              <a:gd name="adj2" fmla="val 4479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gnamento abilità comunicative e soc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124080"/>
            <a:ext cx="2057400" cy="609840"/>
          </a:xfrm>
          <a:prstGeom prst="wedgeRoundRectCallout">
            <a:avLst>
              <a:gd name="adj1" fmla="val 53240"/>
              <a:gd name="adj2" fmla="val 67708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</a:t>
            </a:r>
            <a:br>
              <a:rPr sz="2600"/>
            </a:b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L’INTERAZIONE SIMULTANEA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304920"/>
            <a:ext cx="8001000" cy="4114440"/>
            <a:chOff x="380880" y="304920"/>
            <a:chExt cx="8001000" cy="4114440"/>
          </a:xfrm>
        </p:grpSpPr>
        <p:sp>
          <p:nvSpPr>
            <p:cNvPr id="107" name=""/>
            <p:cNvSpPr/>
            <p:nvPr/>
          </p:nvSpPr>
          <p:spPr>
            <a:xfrm>
              <a:off x="72360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EQUENZI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TANEA IN GRUPPI DI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530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IMULTANEA IN COPPI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86720" y="2887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2480" y="2796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6800" y="252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01120" y="22478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92560" y="188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455000">
              <a:off x="2293920" y="152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455000">
              <a:off x="2040840" y="12279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455000">
              <a:off x="1787400" y="933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455000">
              <a:off x="1386720" y="8762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20960" y="2831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46640" y="2556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72320" y="2282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80880" y="1916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 rot="5145000">
              <a:off x="478800" y="15555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5145000">
              <a:off x="732240" y="12614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5145000">
              <a:off x="985680" y="96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644600">
              <a:off x="1752480" y="2740320"/>
              <a:ext cx="91440" cy="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86720" y="2362320"/>
              <a:ext cx="548640" cy="251280"/>
            </a:xfrm>
            <a:prstGeom prst="wedgeRoundRectCallout">
              <a:avLst>
                <a:gd name="adj1" fmla="val -1157"/>
                <a:gd name="adj2" fmla="val 99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2800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800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1292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1292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818520" y="1150200"/>
              <a:ext cx="9684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22040" y="647640"/>
              <a:ext cx="58176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818160" y="2604960"/>
              <a:ext cx="9720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2800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800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1292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1292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22040" y="2133720"/>
              <a:ext cx="58176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91160" y="105300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91160" y="144072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76440" y="144072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6440" y="105300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4982400" y="1150200"/>
              <a:ext cx="96840" cy="9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85560" y="647640"/>
              <a:ext cx="58140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116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9116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44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7644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982040" y="2604960"/>
              <a:ext cx="9720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85560" y="2133720"/>
              <a:ext cx="58140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28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3460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4100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0221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5523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6200000">
              <a:off x="6918840" y="1585440"/>
              <a:ext cx="113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5308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30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228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683460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4100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0221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5523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6200000">
              <a:off x="6928560" y="3202920"/>
              <a:ext cx="939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55308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8736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5752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86888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564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805680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8664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6200000">
              <a:off x="7952400" y="1585080"/>
              <a:ext cx="1137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58736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8736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5752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786888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564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05680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58664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6200000">
              <a:off x="7962480" y="320292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58736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0040" y="457200"/>
            <a:ext cx="6343920" cy="3772080"/>
            <a:chOff x="1400040" y="457200"/>
            <a:chExt cx="6343920" cy="3772080"/>
          </a:xfrm>
        </p:grpSpPr>
        <p:sp>
          <p:nvSpPr>
            <p:cNvPr id="187" name=""/>
            <p:cNvSpPr/>
            <p:nvPr/>
          </p:nvSpPr>
          <p:spPr>
            <a:xfrm>
              <a:off x="4886280" y="354348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400040" y="1485720"/>
              <a:ext cx="3019320" cy="2742840"/>
              <a:chOff x="1400040" y="1485720"/>
              <a:chExt cx="3019320" cy="274284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77164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1440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371320" y="354312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599920" y="148572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85720" y="240012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00040" y="171432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4886280" y="270504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91516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600960" y="201924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71800" y="45720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00680" y="68544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57680" y="114264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6200" y="159048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43200" y="182880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7960" y="228600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419720" y="380880"/>
            <a:ext cx="4724280" cy="4343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00040" y="533520"/>
            <a:ext cx="6343920" cy="3771720"/>
            <a:chOff x="1400040" y="533520"/>
            <a:chExt cx="6343920" cy="3771720"/>
          </a:xfrm>
        </p:grpSpPr>
        <p:sp>
          <p:nvSpPr>
            <p:cNvPr id="208" name=""/>
            <p:cNvSpPr/>
            <p:nvPr/>
          </p:nvSpPr>
          <p:spPr>
            <a:xfrm>
              <a:off x="4886280" y="361944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400040" y="1562040"/>
              <a:ext cx="3019320" cy="2742840"/>
              <a:chOff x="1400040" y="1562040"/>
              <a:chExt cx="3019320" cy="2742840"/>
            </a:xfrm>
          </p:grpSpPr>
          <p:pic>
            <p:nvPicPr>
              <p:cNvPr id="2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84796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9072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371320" y="361944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99920" y="156204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85720" y="247644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00040" y="179064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4886280" y="278136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5915160" y="278136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600960" y="209556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71800" y="53352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00680" y="76176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57680" y="121896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6200" y="166680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43200" y="190512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57960" y="236232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5120" y="1828440"/>
            <a:ext cx="767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pproccio strutturale è  basato sulla defini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modi semplici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a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gli studenti in compiti di apprend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binandosi co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nu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it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Segnaposto testo 3" descr=""/>
          <p:cNvPicPr/>
          <p:nvPr/>
        </p:nvPicPr>
        <p:blipFill>
          <a:blip r:embed="rId1"/>
          <a:stretch/>
        </p:blipFill>
        <p:spPr>
          <a:xfrm>
            <a:off x="6156360" y="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9520" y="1644120"/>
            <a:ext cx="8183520" cy="356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 una definizione di INTERAZIONE SIMULTA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e cosa si intende per PARTECIPAZIONE EQU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 è la differenza tra STRUTTURA e ATTIVITA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e l’insegnante potrebbe favorire l’attivazione della RESPONSABILITA’ INDIVIDUA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80880"/>
            <a:ext cx="4952880" cy="762120"/>
          </a:xfrm>
          <a:prstGeom prst="wedgeRectCallout">
            <a:avLst>
              <a:gd name="adj1" fmla="val -54231"/>
              <a:gd name="adj2" fmla="val 2666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e per consulto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ne al centro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1835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        2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200240"/>
            <a:ext cx="7657920" cy="445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Quali processi cognitivi TNI può attivar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nsate individualmente, poi discut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che misura TNI può modificare il clima di class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scutete finché trovate una risposta di sintesi condivi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NI è applicabile a diversi contesti disciplinari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upportatevi reciprocamente in modo che ciascuno riesc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 fare un esemp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457200"/>
            <a:ext cx="2743200" cy="762120"/>
          </a:xfrm>
          <a:prstGeom prst="wedgeRectCallout">
            <a:avLst>
              <a:gd name="adj1" fmla="val 57986"/>
              <a:gd name="adj2" fmla="val -77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4495680"/>
            <a:ext cx="3352680" cy="914400"/>
          </a:xfrm>
          <a:prstGeom prst="wedgeRoundRectCallout">
            <a:avLst>
              <a:gd name="adj1" fmla="val 53597"/>
              <a:gd name="adj2" fmla="val 26736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iflession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heda di confro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20:05:28Z</dcterms:created>
  <dc:creator>Francy</dc:creator>
  <dc:description/>
  <dc:language>en-US</dc:language>
  <cp:lastModifiedBy>anna</cp:lastModifiedBy>
  <dcterms:modified xsi:type="dcterms:W3CDTF">2011-03-27T15:08:03Z</dcterms:modified>
  <cp:revision>103</cp:revision>
  <dc:subject/>
  <dc:title>GESTIRE LA CLASSE COMUNITA’ DI APPRENDIMENTO</dc:title>
</cp:coreProperties>
</file>