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3F4-7FEE-4E90-977E-61B78233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B5F-F114-4541-AC0D-3C4379E2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E16-49DC-444C-8D2D-DC4320B1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9F3-8533-4671-BCB7-4A6871E6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FF69-81E4-4EAD-AEBA-74F0D4DE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1857-91CE-4885-ACE3-665EAB73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F5EC-BAC0-49B9-93C4-9C9A133D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25D9-E3BB-40B5-B62D-EC20AF1F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B99F-87BA-418C-AC96-44296A0F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4AEE-2AA3-4368-8CBD-51CE657B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4E18-9851-4AD2-B9A6-AA56FAA4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3B4-6D09-4874-B54E-F9645247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84E4-1439-4196-A617-D23B52A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AE16-295D-4DC6-A11C-B2BF328F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7238-FF86-40E2-BE45-8FBE35A4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89F-6B4F-43E3-AC95-A720E919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35F4-4590-4999-893A-347882A1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605-AFC4-44E7-BC0A-BE59D02D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0FA-E67D-4E01-B0DC-738C3923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1B2-5BA9-4C35-B6FA-B0C31798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08A-B650-475E-9DAF-51B997F5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07A-220B-43DE-825D-02665995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083-44F7-4F42-8269-132AF54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C75-89B0-43F9-9F0B-76DCA34D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2E64-4ADB-4336-9565-B533577CD89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35E1-8F99-42ED-B880-06538331D37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ez.coop.doc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griglia%20progettazione.doc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811512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APPRENDIMENTO COOPERATIVO</a:t>
            </a:r>
            <a:br>
              <a:rPr sz="3200"/>
            </a:b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2° incontr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TRUTTURE COOPERATIVE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primo repertorio di modi semplic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involgere gli alunni in attivit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vadano oltre l’ascoltare qualcuno che pa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ne al cen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009960"/>
            <a:ext cx="2057400" cy="838080"/>
          </a:xfrm>
          <a:prstGeom prst="wedgeRoundRectCallout">
            <a:avLst>
              <a:gd name="adj1" fmla="val -25000"/>
              <a:gd name="adj2" fmla="val 3731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4114800"/>
            <a:ext cx="3581280" cy="609480"/>
          </a:xfrm>
          <a:prstGeom prst="wedgeRoundRectCallout">
            <a:avLst>
              <a:gd name="adj1" fmla="val -56115"/>
              <a:gd name="adj2" fmla="val 8099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sta a tre pa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905120"/>
            <a:ext cx="2057400" cy="761760"/>
          </a:xfrm>
          <a:prstGeom prst="wedgeRoundRectCallout">
            <a:avLst>
              <a:gd name="adj1" fmla="val -63888"/>
              <a:gd name="adj2" fmla="val 3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sa, discuti in coppia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4038480"/>
            <a:ext cx="2057400" cy="609840"/>
          </a:xfrm>
          <a:prstGeom prst="wedgeRoundRectCallout">
            <a:avLst>
              <a:gd name="adj1" fmla="val 55324"/>
              <a:gd name="adj2" fmla="val 1067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 fl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762120"/>
            <a:ext cx="1600200" cy="761760"/>
          </a:xfrm>
          <a:prstGeom prst="wedgeRoundRectCallout">
            <a:avLst>
              <a:gd name="adj1" fmla="val -46430"/>
              <a:gd name="adj2" fmla="val 6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o in gall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1828800"/>
            <a:ext cx="1752480" cy="914400"/>
          </a:xfrm>
          <a:prstGeom prst="wedgeRoundRectCallout">
            <a:avLst>
              <a:gd name="adj1" fmla="val -46740"/>
              <a:gd name="adj2" fmla="val 6337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o recipr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114800"/>
            <a:ext cx="2209680" cy="762120"/>
          </a:xfrm>
          <a:prstGeom prst="wedgeRoundRectCallout">
            <a:avLst>
              <a:gd name="adj1" fmla="val 15949"/>
              <a:gd name="adj2" fmla="val 71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disci le tue doma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2057400"/>
            <a:ext cx="1752480" cy="60948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und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876920"/>
            <a:ext cx="2819520" cy="609480"/>
          </a:xfrm>
          <a:prstGeom prst="wedgeRoundRectCallout">
            <a:avLst>
              <a:gd name="adj1" fmla="val 58671"/>
              <a:gd name="adj2" fmla="val 5390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io in copp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105520"/>
            <a:ext cx="2819520" cy="609480"/>
          </a:xfrm>
          <a:prstGeom prst="wedgeRoundRectCallout">
            <a:avLst>
              <a:gd name="adj1" fmla="val -57430"/>
              <a:gd name="adj2" fmla="val 6773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UDIAMO INSIEME</a:t>
            </a:r>
            <a:br>
              <a:rPr sz="24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5410080"/>
            <a:ext cx="2057400" cy="1447920"/>
          </a:xfrm>
          <a:prstGeom prst="wedgeRoundRectCallout">
            <a:avLst>
              <a:gd name="adj1" fmla="val 56944"/>
              <a:gd name="adj2" fmla="val 3662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iascuna coppia base sceglie una stru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467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BASE: conseg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529920"/>
            <a:ext cx="650700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tudino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ssi della struttura e 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rifletta su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sse e sui possibili ambit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lic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trovi un esempio concret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appl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propria spie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9520" y="5638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MIX: consegne</a:t>
            </a:r>
            <a:r>
              <a:rPr b="0" lang="it-IT" sz="2000" spc="-1" strike="noStrike">
                <a:solidFill>
                  <a:srgbClr val="e05b00"/>
                </a:solidFill>
                <a:latin typeface="Verdana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spieg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verifi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Segnaposto testo 3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2743200" cy="2409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00600" y="4038480"/>
            <a:ext cx="4038480" cy="1600200"/>
          </a:xfrm>
          <a:prstGeom prst="wedgeRoundRectCallout">
            <a:avLst>
              <a:gd name="adj1" fmla="val 52476"/>
              <a:gd name="adj2" fmla="val 3085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’interno del gruppo di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scelga una delle propos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usse da socializzare con il grande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429000"/>
            <a:ext cx="2514600" cy="1143000"/>
          </a:xfrm>
          <a:prstGeom prst="wedgeRoundRectCallout">
            <a:avLst>
              <a:gd name="adj1" fmla="val -59282"/>
              <a:gd name="adj2" fmla="val 5486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ripeta la procedura con altre due strut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OGNI STRUTTUR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79520" y="990720"/>
            <a:ext cx="8183520" cy="33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identificata da un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costituita sui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4 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approccio struttur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opri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regole,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fasi, proced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utilizzabile per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asi età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trasversale a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voglia contenu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facilment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quisibi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9520" y="5181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 PER …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ostruire un buon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apprend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competenze comunic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529920"/>
            <a:ext cx="401148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grup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dronanza delle conoscen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etenze cogn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divisione di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gola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657600" y="1142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IMPLEMENTARE </a:t>
            </a:r>
            <a:br>
              <a:rPr sz="28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L’APPROCCIO STRUTTURAL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ere 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appe progressiv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are pratica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truttura per vol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partendo dalle più sempl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rodurre gradatamente nuove strutture,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mpliando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proprio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pertori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ganizzare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lezioni multistruttur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>
            <a:hlinkClick r:id="rId1"/>
          </p:cNvPr>
          <p:cNvSpPr/>
          <p:nvPr/>
        </p:nvSpPr>
        <p:spPr>
          <a:xfrm>
            <a:off x="7010280" y="4952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DALLA TEORIA ALLA PRATIC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gruppo analizzi un’esperienza coop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o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perto strut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Esperto principi cooper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intetizza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523880"/>
            <a:ext cx="3276720" cy="1295640"/>
          </a:xfrm>
          <a:prstGeom prst="wedgeRectCallout">
            <a:avLst>
              <a:gd name="adj1" fmla="val 47527"/>
              <a:gd name="adj2" fmla="val 355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ttivo: al termine dell’attività ciascuno deve essere in grado di spiegare ad altri il lavoro esamina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3429000"/>
            <a:ext cx="2971800" cy="1523880"/>
          </a:xfrm>
          <a:prstGeom prst="wedgeEllipseCallout">
            <a:avLst>
              <a:gd name="adj1" fmla="val -40064"/>
              <a:gd name="adj2" fmla="val 4114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o a casa e tre in vi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 condividere le esperien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733920"/>
            <a:ext cx="2971800" cy="1143000"/>
          </a:xfrm>
          <a:prstGeom prst="wedgeRoundRectCallout">
            <a:avLst>
              <a:gd name="adj1" fmla="val 62500"/>
              <a:gd name="adj2" fmla="val 19027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iflettete in gruppo e compilate individualmente la sch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9520" y="580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IN SINTESI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 studente “silenzioso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no studen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ttostimo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a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impegn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tutti i processi cogni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cessari  p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pprend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qualità superi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-12060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-120600"/>
            <a:ext cx="9140760" cy="419040"/>
            <a:chOff x="0" y="-120600"/>
            <a:chExt cx="9140760" cy="419040"/>
          </a:xfrm>
        </p:grpSpPr>
        <p:sp>
          <p:nvSpPr>
            <p:cNvPr id="283" name=""/>
            <p:cNvSpPr/>
            <p:nvPr/>
          </p:nvSpPr>
          <p:spPr>
            <a:xfrm>
              <a:off x="0" y="-120600"/>
              <a:ext cx="360" cy="41904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0" y="-97560"/>
              <a:ext cx="9140760" cy="360"/>
              <a:chOff x="0" y="-97560"/>
              <a:chExt cx="9140760" cy="3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53280" bIns="36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0" y="-97560"/>
                <a:ext cx="9140760" cy="360"/>
                <a:chOff x="0" y="-97560"/>
                <a:chExt cx="9140760" cy="3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0" y="-97560"/>
                  <a:ext cx="9140760" cy="360"/>
                </a:xfrm>
                <a:prstGeom prst="rect">
                  <a:avLst/>
                </a:prstGeom>
                <a:solidFill>
                  <a:srgbClr val="f7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0" y="-97560"/>
                  <a:ext cx="9139680" cy="360"/>
                  <a:chOff x="0" y="-97560"/>
                  <a:chExt cx="9139680" cy="3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292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9828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9724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3297240"/>
            <a:ext cx="360" cy="419040"/>
            <a:chOff x="0" y="3297240"/>
            <a:chExt cx="360" cy="419040"/>
          </a:xfrm>
        </p:grpSpPr>
        <p:sp>
          <p:nvSpPr>
            <p:cNvPr id="299" name=""/>
            <p:cNvSpPr/>
            <p:nvPr/>
          </p:nvSpPr>
          <p:spPr>
            <a:xfrm>
              <a:off x="0" y="3319200"/>
              <a:ext cx="360" cy="36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53280" bIns="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0" y="3297240"/>
              <a:ext cx="360" cy="419040"/>
              <a:chOff x="0" y="3297240"/>
              <a:chExt cx="360" cy="419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297240"/>
                <a:ext cx="360" cy="41904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54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31992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j0439553" descr=""/>
          <p:cNvPicPr/>
          <p:nvPr/>
        </p:nvPicPr>
        <p:blipFill>
          <a:blip r:embed="rId2"/>
          <a:stretch/>
        </p:blipFill>
        <p:spPr>
          <a:xfrm>
            <a:off x="399960" y="457200"/>
            <a:ext cx="4552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MOLTI MODELLI PER LA COOPER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14400"/>
            <a:ext cx="1828800" cy="1219320"/>
          </a:xfrm>
          <a:prstGeom prst="wedgeRectCallout">
            <a:avLst>
              <a:gd name="adj1" fmla="val 56250"/>
              <a:gd name="adj2" fmla="val 768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arar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0948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erca di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ha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209680"/>
            <a:ext cx="1904760" cy="1219320"/>
          </a:xfrm>
          <a:prstGeom prst="wedgeRectCallout">
            <a:avLst>
              <a:gd name="adj1" fmla="val 62749"/>
              <a:gd name="adj2" fmla="val -5937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ruzione comples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1904760" cy="1218960"/>
          </a:xfrm>
          <a:prstGeom prst="wedgeRectCallout">
            <a:avLst>
              <a:gd name="adj1" fmla="val -69500"/>
              <a:gd name="adj2" fmla="val 18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ripted co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anser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05740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c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lav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809880"/>
            <a:ext cx="2361960" cy="1219320"/>
          </a:xfrm>
          <a:prstGeom prst="wedgeRectCallout">
            <a:avLst>
              <a:gd name="adj1" fmla="val 52824"/>
              <a:gd name="adj2" fmla="val -2825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roccio struttur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Ka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SI INIZIA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isitazione in chiave cooperativa delle unità di apprendimento in progett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5b00"/>
                </a:solidFill>
                <a:latin typeface="Arial"/>
              </a:rPr>
              <a:t>Passi decision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griglia per aiutar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5800" y="2149560"/>
            <a:ext cx="3886200" cy="298116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rId2"/>
          </p:cNvPr>
          <p:cNvSpPr/>
          <p:nvPr/>
        </p:nvSpPr>
        <p:spPr>
          <a:xfrm>
            <a:off x="7162920" y="3962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4572000"/>
            <a:ext cx="4038480" cy="1143000"/>
          </a:xfrm>
          <a:prstGeom prst="wedgeRectCallout">
            <a:avLst>
              <a:gd name="adj1" fmla="val 38287"/>
              <a:gd name="adj2" fmla="val 152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vrebbe essere una attività “real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 attuare nella propria classe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PROCESSO DI COSTRUZIONE DI UN’ATTIVITA’ DIDATTI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609480"/>
            <a:ext cx="4952880" cy="6098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obiettivo didattico/educa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019240" y="1600200"/>
            <a:ext cx="5105520" cy="914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bil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equenza dei processi (strategie cogn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a a conseguire l’obiet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095560" y="3048120"/>
            <a:ext cx="4952880" cy="761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strutture di lavoro sulla sequenza dei proce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114800"/>
            <a:ext cx="3505320" cy="1143000"/>
          </a:xfrm>
          <a:prstGeom prst="wedgeEllipseCallout">
            <a:avLst>
              <a:gd name="adj1" fmla="val -54893"/>
              <a:gd name="adj2" fmla="val 652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etenze social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 praticare in cont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2743200"/>
            <a:ext cx="1600200" cy="1143000"/>
          </a:xfrm>
          <a:prstGeom prst="wedgeRoundRectCallout">
            <a:avLst>
              <a:gd name="adj1" fmla="val 61902"/>
              <a:gd name="adj2" fmla="val 25694"/>
              <a:gd name="adj3" fmla="val 1666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egliere il contenuto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g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9520" y="571464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METTIAMOCI ALLA PROV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processi cognitivi sono sottes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lla comprensione di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vve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strategie utilizza un lettore esper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r affrontare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PROCESSI E STRATEGI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1371600"/>
            <a:ext cx="4724280" cy="364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le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glob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anali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zazione delle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e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osi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79520" y="5807160"/>
            <a:ext cx="81835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UPERVISIONE RECIPRO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5" name="Segnaposto testo 3" descr=""/>
          <p:cNvPicPr/>
          <p:nvPr/>
        </p:nvPicPr>
        <p:blipFill>
          <a:blip r:embed="rId1"/>
          <a:stretch/>
        </p:blipFill>
        <p:spPr>
          <a:xfrm>
            <a:off x="503280" y="530280"/>
            <a:ext cx="4014720" cy="41878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69920" y="529920"/>
            <a:ext cx="3940200" cy="4879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05b00"/>
                </a:solidFill>
                <a:latin typeface="Arial"/>
              </a:rPr>
              <a:t>Scambiamoci suggerim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Focalizzate gli aspetti su cui vorreste confrontarv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Esplicitate gli aspetti “critici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Spiegate come state impostando la vostra progettazi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empo per pens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Suggerimenti recipro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Ringrazia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746280" y="407520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949320" y="4343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ici crit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5b00"/>
                </a:solidFill>
                <a:latin typeface="Verdana"/>
              </a:rPr>
              <a:t>APPUNTAMENT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16 apr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1600200"/>
            <a:ext cx="2819520" cy="685800"/>
          </a:xfrm>
          <a:prstGeom prst="wedgeRectCallout">
            <a:avLst>
              <a:gd name="adj1" fmla="val 53152"/>
              <a:gd name="adj2" fmla="val 1851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em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imagesCA5V8WP6" descr=""/>
          <p:cNvPicPr/>
          <p:nvPr/>
        </p:nvPicPr>
        <p:blipFill>
          <a:blip r:embed="rId1"/>
          <a:stretch/>
        </p:blipFill>
        <p:spPr>
          <a:xfrm>
            <a:off x="457200" y="1515960"/>
            <a:ext cx="4952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APPROCCIO STRUTTURALE</a:t>
            </a:r>
            <a:br>
              <a:rPr sz="3200"/>
            </a:b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pencer Kaga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RINCIPI FONDAMENT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individu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simultan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qua partecip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j0343359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971800" cy="250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666880"/>
            <a:ext cx="2666880" cy="762120"/>
          </a:xfrm>
          <a:prstGeom prst="wedgeRoundRectCallout">
            <a:avLst>
              <a:gd name="adj1" fmla="val -51962"/>
              <a:gd name="adj2" fmla="val 4479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gnamento abilità comunicative e soc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124080"/>
            <a:ext cx="2057400" cy="609840"/>
          </a:xfrm>
          <a:prstGeom prst="wedgeRoundRectCallout">
            <a:avLst>
              <a:gd name="adj1" fmla="val 53240"/>
              <a:gd name="adj2" fmla="val 67708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07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187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08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1835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       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200240"/>
            <a:ext cx="7657920" cy="445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discut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NI è applicabile a diversi contesti disciplinari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45720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4495680"/>
            <a:ext cx="3352680" cy="914400"/>
          </a:xfrm>
          <a:prstGeom prst="wedgeRoundRectCallout">
            <a:avLst>
              <a:gd name="adj1" fmla="val 53597"/>
              <a:gd name="adj2" fmla="val 26736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flession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27T15:08:03Z</dcterms:modified>
  <cp:revision>103</cp:revision>
  <dc:subject/>
  <dc:title>GESTIRE LA CLASSE COMUNITA’ DI APPRENDIMENTO</dc:title>
</cp:coreProperties>
</file>