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9.jpeg" ContentType="image/jpeg"/>
  <Override PartName="/ppt/media/image1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13.png" ContentType="image/png"/>
  <Override PartName="/ppt/media/image8.wmf" ContentType="image/x-wmf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8CA-6CA5-497F-8A64-F13C77DA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C98-8433-407E-BD64-3E6CA1D7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B76-B46D-45A3-A908-BC843272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74B-5118-43A0-A108-79CE1B8A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3CB3-E49E-4FAB-97A2-947299D6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2C88-F76E-4010-B84B-6297D72A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016B-F8F5-4E61-8D81-6320BD9B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2B35-CE59-4ADB-B7A7-238295F0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A176-F229-4EBC-B076-FB8709A1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39CB-45D8-4C38-9ACB-B13C9853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2B84-A09A-447A-ACE2-CC1FE7F3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EF21-8272-4DB2-952B-92000216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9795-6DA1-4609-A17C-AA09FE99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D1DB-DB6A-40D0-B3A0-7EDBBDAE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0637-CDC0-43C8-A98A-70C0A406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976B-1501-411A-970A-9DFEDC25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EC22-AC33-423F-9E25-E6F46374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904-D86D-4120-AE05-54249A38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330E-98A0-4350-B5AD-43A4DB2D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157-269B-478E-8766-364EEA5F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99C-7CBA-40BD-8C16-65151140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056-1806-4D12-A513-74A2CB81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FCE-3C6A-4366-9154-83AC4B3B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D671-8A48-44BE-BC54-CA758298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19EA-D7D6-4FFE-AA19-D68B4833F79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CFA6-8A64-4E18-A573-AEABF6E781C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ez.coop.doc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griglia%20progettazione.doc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8115120" cy="342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APPRENDIMENTO COOPERATIVO</a:t>
            </a:r>
            <a:br>
              <a:rPr sz="3200"/>
            </a:br>
            <a:r>
              <a:rPr b="1" lang="en-US" sz="2800" spc="-1" strike="noStrike">
                <a:solidFill>
                  <a:srgbClr val="e05b00"/>
                </a:solidFill>
                <a:latin typeface="Verdana"/>
              </a:rPr>
              <a:t>2° incontro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3880" y="4500720"/>
            <a:ext cx="7667640" cy="144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averne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nna Segreto                                                     2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5b00"/>
                </a:solidFill>
                <a:latin typeface="Verdana"/>
              </a:rPr>
              <a:t>STRUTTURE COOPERATIVE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primo repertorio di modi semplic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coinvolgere gli alunni in attività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e vadano oltre l’ascoltare qualcuno che par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3124080"/>
            <a:ext cx="2057400" cy="609840"/>
          </a:xfrm>
          <a:prstGeom prst="wedgeRoundRectCallout">
            <a:avLst>
              <a:gd name="adj1" fmla="val -25000"/>
              <a:gd name="adj2" fmla="val 7005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ne al cent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009960"/>
            <a:ext cx="2057400" cy="838080"/>
          </a:xfrm>
          <a:prstGeom prst="wedgeRoundRectCallout">
            <a:avLst>
              <a:gd name="adj1" fmla="val -25000"/>
              <a:gd name="adj2" fmla="val 3731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 numerate insi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3124080"/>
            <a:ext cx="2057400" cy="609840"/>
          </a:xfrm>
          <a:prstGeom prst="wedgeRoundRectCallout">
            <a:avLst>
              <a:gd name="adj1" fmla="val -25000"/>
              <a:gd name="adj2" fmla="val 7005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gsa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4114800"/>
            <a:ext cx="3581280" cy="609480"/>
          </a:xfrm>
          <a:prstGeom prst="wedgeRoundRectCallout">
            <a:avLst>
              <a:gd name="adj1" fmla="val -56115"/>
              <a:gd name="adj2" fmla="val 8099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ista a tre pas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905120"/>
            <a:ext cx="2057400" cy="761760"/>
          </a:xfrm>
          <a:prstGeom prst="wedgeRoundRectCallout">
            <a:avLst>
              <a:gd name="adj1" fmla="val -63888"/>
              <a:gd name="adj2" fmla="val 3604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sa, discuti in coppia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6553080" y="4038480"/>
            <a:ext cx="2057400" cy="609840"/>
          </a:xfrm>
          <a:prstGeom prst="wedgeRoundRectCallout">
            <a:avLst>
              <a:gd name="adj1" fmla="val 55324"/>
              <a:gd name="adj2" fmla="val 10675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 fla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762120"/>
            <a:ext cx="1600200" cy="761760"/>
          </a:xfrm>
          <a:prstGeom prst="wedgeRoundRectCallout">
            <a:avLst>
              <a:gd name="adj1" fmla="val -46430"/>
              <a:gd name="adj2" fmla="val 6604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ro in galle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1828800"/>
            <a:ext cx="1752480" cy="914400"/>
          </a:xfrm>
          <a:prstGeom prst="wedgeRoundRectCallout">
            <a:avLst>
              <a:gd name="adj1" fmla="val -46740"/>
              <a:gd name="adj2" fmla="val 6337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o recipr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4114800"/>
            <a:ext cx="2209680" cy="762120"/>
          </a:xfrm>
          <a:prstGeom prst="wedgeRoundRectCallout">
            <a:avLst>
              <a:gd name="adj1" fmla="val 15949"/>
              <a:gd name="adj2" fmla="val 7104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disci le tue doman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2057400"/>
            <a:ext cx="1752480" cy="609480"/>
          </a:xfrm>
          <a:prstGeom prst="wedgeRoundRectCallout">
            <a:avLst>
              <a:gd name="adj1" fmla="val -25000"/>
              <a:gd name="adj2" fmla="val 7005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ound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4876920"/>
            <a:ext cx="2819520" cy="609480"/>
          </a:xfrm>
          <a:prstGeom prst="wedgeRoundRectCallout">
            <a:avLst>
              <a:gd name="adj1" fmla="val 58671"/>
              <a:gd name="adj2" fmla="val 53907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io in copp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5105520"/>
            <a:ext cx="2819520" cy="609480"/>
          </a:xfrm>
          <a:prstGeom prst="wedgeRoundRectCallout">
            <a:avLst>
              <a:gd name="adj1" fmla="val -57430"/>
              <a:gd name="adj2" fmla="val 6773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TUDIAMO INSIEME</a:t>
            </a:r>
            <a:br>
              <a:rPr sz="24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 partn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5410080"/>
            <a:ext cx="2057400" cy="1447920"/>
          </a:xfrm>
          <a:prstGeom prst="wedgeRoundRectCallout">
            <a:avLst>
              <a:gd name="adj1" fmla="val 56944"/>
              <a:gd name="adj2" fmla="val 36625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iascuna coppia base sceglie una strut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7467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9520" y="54100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COPPIE BASE: consegne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2920" y="529920"/>
            <a:ext cx="6507000" cy="442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studino 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assi della struttura e 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rifletta sul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bilità soci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nesse e sui possibili ambiti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pplicazio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trovi un esempio concreto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tilizz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/appli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si accordi sul modo più efficace per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piega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turno si faccia un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mulazion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la propria spiegaz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9520" y="56386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COPPIE MIX: consegne</a:t>
            </a:r>
            <a:r>
              <a:rPr b="0" lang="it-IT" sz="2000" spc="-1" strike="noStrike">
                <a:solidFill>
                  <a:srgbClr val="e05b00"/>
                </a:solidFill>
                <a:latin typeface="Verdana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5184720" cy="4680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 spiegh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vicendevolmente il materiale di stud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 verifich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l’un l’altro la comprensione, ponendo doman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Segnaposto testo 3" descr=""/>
          <p:cNvPicPr/>
          <p:nvPr/>
        </p:nvPicPr>
        <p:blipFill>
          <a:blip r:embed="rId1"/>
          <a:stretch/>
        </p:blipFill>
        <p:spPr>
          <a:xfrm>
            <a:off x="5943600" y="1371600"/>
            <a:ext cx="2743200" cy="24098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00600" y="4038480"/>
            <a:ext cx="4038480" cy="1600200"/>
          </a:xfrm>
          <a:prstGeom prst="wedgeRoundRectCallout">
            <a:avLst>
              <a:gd name="adj1" fmla="val 52476"/>
              <a:gd name="adj2" fmla="val 3085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’interno del gruppo di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 scelga una delle propos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cusse da socializzare con il grande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3429000"/>
            <a:ext cx="2514600" cy="1143000"/>
          </a:xfrm>
          <a:prstGeom prst="wedgeRoundRectCallout">
            <a:avLst>
              <a:gd name="adj1" fmla="val -59282"/>
              <a:gd name="adj2" fmla="val 5486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 ripeta la procedura con altre due strut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OGNI STRUTTUR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79520" y="990720"/>
            <a:ext cx="8183520" cy="33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identificata da un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nom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costituita sui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4 princip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dell’approccio struttura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Ha proprie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regole,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fasi, procedu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utilizzabile per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qualsiasi età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trasversale a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qualsivoglia contenut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facilmente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cquisibil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9520" y="5181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TRUTTURE PER …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1760" y="609480"/>
            <a:ext cx="3809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Costruire un buon clima di clas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Sviluppare apprendi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Sviluppare competenze comunic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960" y="529920"/>
            <a:ext cx="4011480" cy="418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zione del clima di clas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zione del clima di grup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adronanza delle conoscen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petenze cogni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divisione di informazio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egolare la comuni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ire la comuni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657600" y="11426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2133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IMPLEMENTARE </a:t>
            </a:r>
            <a:br>
              <a:rPr sz="2800"/>
            </a:b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L’APPROCCIO STRUTTURALE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cedere 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tappe progressiv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are pratica di un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truttura per volt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partendo dalle più semplic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rodurre gradatamente nuove strutture,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mpliando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l proprio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repertori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rganizzare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lezioni multistruttura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>
            <a:hlinkClick r:id="rId1"/>
          </p:cNvPr>
          <p:cNvSpPr/>
          <p:nvPr/>
        </p:nvSpPr>
        <p:spPr>
          <a:xfrm>
            <a:off x="7010280" y="495288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79520" y="54100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DALLA TEORIA ALLA PRATIC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ni gruppo analizzi un’esperienza cooperat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ol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Esperto strut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Esperto principi cooperativ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Sintetizzat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1523880"/>
            <a:ext cx="3276720" cy="1295640"/>
          </a:xfrm>
          <a:prstGeom prst="wedgeRectCallout">
            <a:avLst>
              <a:gd name="adj1" fmla="val 47527"/>
              <a:gd name="adj2" fmla="val 3555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iettivo: al termine dell’attività ciascuno deve essere in grado di spiegare ad altri il lavoro esamina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3429000"/>
            <a:ext cx="2971800" cy="1523880"/>
          </a:xfrm>
          <a:prstGeom prst="wedgeEllipseCallout">
            <a:avLst>
              <a:gd name="adj1" fmla="val -40064"/>
              <a:gd name="adj2" fmla="val 4114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no a casa e tre in viagg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 condividere le esperienz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5562720" y="3733920"/>
            <a:ext cx="2971800" cy="1143000"/>
          </a:xfrm>
          <a:prstGeom prst="wedgeRoundRectCallout">
            <a:avLst>
              <a:gd name="adj1" fmla="val 62500"/>
              <a:gd name="adj2" fmla="val 19027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iflettete in gruppo e compilate individualmente la sche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9520" y="58068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IN SINTESI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o studente “silenzioso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uno student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ottostimol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quan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impegna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tutti i processi cogniti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cessari  p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apprendimen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 qualità superi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-120600"/>
            <a:ext cx="9144000" cy="41904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0" y="-120600"/>
            <a:ext cx="9140760" cy="419040"/>
            <a:chOff x="0" y="-120600"/>
            <a:chExt cx="9140760" cy="419040"/>
          </a:xfrm>
        </p:grpSpPr>
        <p:sp>
          <p:nvSpPr>
            <p:cNvPr id="283" name=""/>
            <p:cNvSpPr/>
            <p:nvPr/>
          </p:nvSpPr>
          <p:spPr>
            <a:xfrm>
              <a:off x="0" y="-120600"/>
              <a:ext cx="360" cy="419040"/>
            </a:xfrm>
            <a:prstGeom prst="rect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54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0" y="-97560"/>
              <a:ext cx="9140760" cy="360"/>
              <a:chOff x="0" y="-97560"/>
              <a:chExt cx="9140760" cy="36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-97560"/>
                <a:ext cx="360" cy="36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-97560"/>
                <a:ext cx="360" cy="36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53280" bIns="36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0" y="-97560"/>
                <a:ext cx="9140760" cy="360"/>
                <a:chOff x="0" y="-97560"/>
                <a:chExt cx="9140760" cy="3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0" y="-97560"/>
                  <a:ext cx="9140760" cy="360"/>
                </a:xfrm>
                <a:prstGeom prst="rect">
                  <a:avLst/>
                </a:prstGeom>
                <a:solidFill>
                  <a:srgbClr val="f7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89" name=""/>
                <p:cNvGrpSpPr/>
                <p:nvPr/>
              </p:nvGrpSpPr>
              <p:grpSpPr>
                <a:xfrm>
                  <a:off x="0" y="-97560"/>
                  <a:ext cx="9139680" cy="360"/>
                  <a:chOff x="0" y="-97560"/>
                  <a:chExt cx="9139680" cy="36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0" y="-97560"/>
                    <a:ext cx="9139680" cy="360"/>
                  </a:xfrm>
                  <a:prstGeom prst="rect">
                    <a:avLst/>
                  </a:prstGeom>
                  <a:solidFill>
                    <a:srgbClr val="f7f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0" y="-97560"/>
                    <a:ext cx="9139680" cy="360"/>
                  </a:xfrm>
                  <a:prstGeom prst="rect">
                    <a:avLst/>
                  </a:prstGeom>
                  <a:solidFill>
                    <a:srgbClr val="f7f7ff"/>
                  </a:solidFill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sp>
        <p:nvSpPr>
          <p:cNvPr id="292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-9828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297240"/>
            <a:ext cx="9144000" cy="41904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0" y="3297240"/>
            <a:ext cx="360" cy="419040"/>
            <a:chOff x="0" y="3297240"/>
            <a:chExt cx="360" cy="419040"/>
          </a:xfrm>
        </p:grpSpPr>
        <p:sp>
          <p:nvSpPr>
            <p:cNvPr id="299" name=""/>
            <p:cNvSpPr/>
            <p:nvPr/>
          </p:nvSpPr>
          <p:spPr>
            <a:xfrm>
              <a:off x="0" y="3319200"/>
              <a:ext cx="360" cy="360"/>
            </a:xfrm>
            <a:prstGeom prst="rect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53280" bIns="36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0" y="3297240"/>
              <a:ext cx="360" cy="419040"/>
              <a:chOff x="0" y="3297240"/>
              <a:chExt cx="360" cy="41904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3297240"/>
                <a:ext cx="360" cy="41904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54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3319920"/>
                <a:ext cx="360" cy="36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j0439553" descr=""/>
          <p:cNvPicPr/>
          <p:nvPr/>
        </p:nvPicPr>
        <p:blipFill>
          <a:blip r:embed="rId2"/>
          <a:stretch/>
        </p:blipFill>
        <p:spPr>
          <a:xfrm>
            <a:off x="399960" y="457200"/>
            <a:ext cx="4552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903"/>
                </a:solidFill>
                <a:latin typeface="Verdana"/>
              </a:rPr>
              <a:t>QUESTIONING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domanda che vorrei porre è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ividuale e di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MOLTI MODELLI PER LA COOPERAZIONE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914400"/>
            <a:ext cx="1828800" cy="1219320"/>
          </a:xfrm>
          <a:prstGeom prst="wedgeRectCallout">
            <a:avLst>
              <a:gd name="adj1" fmla="val 56250"/>
              <a:gd name="adj2" fmla="val 768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mparare insie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John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609480"/>
            <a:ext cx="1905120" cy="1219320"/>
          </a:xfrm>
          <a:prstGeom prst="wedgeRectCallout">
            <a:avLst>
              <a:gd name="adj1" fmla="val 60000"/>
              <a:gd name="adj2" fmla="val 885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cerca di grup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har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2209680"/>
            <a:ext cx="1904760" cy="1219320"/>
          </a:xfrm>
          <a:prstGeom prst="wedgeRectCallout">
            <a:avLst>
              <a:gd name="adj1" fmla="val 62749"/>
              <a:gd name="adj2" fmla="val -59375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struzione comples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oh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819520"/>
            <a:ext cx="1904760" cy="1218960"/>
          </a:xfrm>
          <a:prstGeom prst="wedgeRectCallout">
            <a:avLst>
              <a:gd name="adj1" fmla="val -69500"/>
              <a:gd name="adj2" fmla="val 1862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cripted coop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Dansera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2057400"/>
            <a:ext cx="1905120" cy="1219320"/>
          </a:xfrm>
          <a:prstGeom prst="wedgeRectCallout">
            <a:avLst>
              <a:gd name="adj1" fmla="val 60000"/>
              <a:gd name="adj2" fmla="val 885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ucces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lav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809880"/>
            <a:ext cx="2361960" cy="1219320"/>
          </a:xfrm>
          <a:prstGeom prst="wedgeRectCallout">
            <a:avLst>
              <a:gd name="adj1" fmla="val 52824"/>
              <a:gd name="adj2" fmla="val -28254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pproccio struttur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Ka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SI INIZIA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visitazione in chiave cooperativa delle unità di apprendimento in progetta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5b00"/>
                </a:solidFill>
                <a:latin typeface="Arial"/>
              </a:rPr>
              <a:t>Passi decision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griglia per aiutar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85800" y="2149560"/>
            <a:ext cx="3886200" cy="2981160"/>
          </a:xfrm>
          <a:prstGeom prst="rect">
            <a:avLst/>
          </a:prstGeom>
          <a:ln w="0">
            <a:noFill/>
          </a:ln>
        </p:spPr>
      </p:pic>
      <p:sp>
        <p:nvSpPr>
          <p:cNvPr id="312" name="">
            <a:hlinkClick r:id="rId2"/>
          </p:cNvPr>
          <p:cNvSpPr/>
          <p:nvPr/>
        </p:nvSpPr>
        <p:spPr>
          <a:xfrm>
            <a:off x="7162920" y="396252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5105520" y="4572000"/>
            <a:ext cx="4038480" cy="1143000"/>
          </a:xfrm>
          <a:prstGeom prst="wedgeRectCallout">
            <a:avLst>
              <a:gd name="adj1" fmla="val 38287"/>
              <a:gd name="adj2" fmla="val 1527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ovrebbe essere una attività “real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a attuare nella propria classe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PROCESSO DI COSTRUZIONE DI UN’ATTIVITA’ DIDATTICA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2095560" y="609480"/>
            <a:ext cx="4952880" cy="60984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obiettivo didattico/educa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2019240" y="1600200"/>
            <a:ext cx="5105520" cy="9144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bili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sequenza dei processi (strategie cogni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ata a conseguire l’obiet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2095560" y="3048120"/>
            <a:ext cx="4952880" cy="76176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l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strutture di lavoro sulla sequenza dei proces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4114800"/>
            <a:ext cx="3505320" cy="1143000"/>
          </a:xfrm>
          <a:prstGeom prst="wedgeEllipseCallout">
            <a:avLst>
              <a:gd name="adj1" fmla="val -54893"/>
              <a:gd name="adj2" fmla="val 6527"/>
            </a:avLst>
          </a:prstGeom>
          <a:solidFill>
            <a:srgbClr val="e3de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petenze social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 praticare in conte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7315200" y="2743200"/>
            <a:ext cx="1600200" cy="1143000"/>
          </a:xfrm>
          <a:prstGeom prst="wedgeRoundRectCallout">
            <a:avLst>
              <a:gd name="adj1" fmla="val 61902"/>
              <a:gd name="adj2" fmla="val 25694"/>
              <a:gd name="adj3" fmla="val 16667"/>
            </a:avLst>
          </a:prstGeom>
          <a:solidFill>
            <a:srgbClr val="e3de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egliere il contenuto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go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9520" y="5714640"/>
            <a:ext cx="81835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METTIAMOCI ALLA PROV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ali processi cognitivi sono sottes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lla comprensione di un tes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Ovve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ali strategie utilizza un lettore esper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per affrontare un tes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Teste numerate insi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PROCESSI E STRATEGI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1371600"/>
            <a:ext cx="4724280" cy="364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let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. glob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. anali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zazione delle informazio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elabor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izz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osi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79520" y="5807160"/>
            <a:ext cx="818352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5b00"/>
                </a:solidFill>
                <a:latin typeface="Verdana"/>
              </a:rPr>
              <a:t>SUPERVISIONE RECIPROCA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5" name="Segnaposto testo 3" descr=""/>
          <p:cNvPicPr/>
          <p:nvPr/>
        </p:nvPicPr>
        <p:blipFill>
          <a:blip r:embed="rId1"/>
          <a:stretch/>
        </p:blipFill>
        <p:spPr>
          <a:xfrm>
            <a:off x="503280" y="530280"/>
            <a:ext cx="4014720" cy="41878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69920" y="529920"/>
            <a:ext cx="3940200" cy="4879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e05b00"/>
                </a:solidFill>
                <a:latin typeface="Arial"/>
              </a:rPr>
              <a:t>Scambiamoci suggerimen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Focalizzate gli aspetti su cui vorreste confrontarv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Esplicitate gli aspetti “critici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Spiegate come state impostando la vostra progettazio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Tempo per pens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Suggerimenti reciproc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Ringraziamen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>
            <a:off x="746280" y="4075200"/>
            <a:ext cx="20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949320" y="43434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mici criti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5b00"/>
                </a:solidFill>
                <a:latin typeface="Verdana"/>
              </a:rPr>
              <a:t>APPUNTAMENT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16 apr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1600200"/>
            <a:ext cx="2819520" cy="685800"/>
          </a:xfrm>
          <a:prstGeom prst="wedgeRectCallout">
            <a:avLst>
              <a:gd name="adj1" fmla="val 53152"/>
              <a:gd name="adj2" fmla="val 18518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lem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2" name="imagesCA5V8WP6" descr=""/>
          <p:cNvPicPr/>
          <p:nvPr/>
        </p:nvPicPr>
        <p:blipFill>
          <a:blip r:embed="rId1"/>
          <a:stretch/>
        </p:blipFill>
        <p:spPr>
          <a:xfrm>
            <a:off x="457200" y="1515960"/>
            <a:ext cx="49528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APPROCCIO STRUTTURALE</a:t>
            </a:r>
            <a:br>
              <a:rPr sz="3200"/>
            </a:b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pencer Kagan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PRINCIPI FONDAMENT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dipendenza positiv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Responsabilità individu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azione simultan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qua partecip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j0343359" descr=""/>
          <p:cNvPicPr/>
          <p:nvPr/>
        </p:nvPicPr>
        <p:blipFill>
          <a:blip r:embed="rId1"/>
          <a:stretch/>
        </p:blipFill>
        <p:spPr>
          <a:xfrm>
            <a:off x="3429000" y="2819520"/>
            <a:ext cx="2971800" cy="2503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2120" y="2666880"/>
            <a:ext cx="2666880" cy="762120"/>
          </a:xfrm>
          <a:prstGeom prst="wedgeRoundRectCallout">
            <a:avLst>
              <a:gd name="adj1" fmla="val -51962"/>
              <a:gd name="adj2" fmla="val 4479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egnamento abilità comunicative e soci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3124080"/>
            <a:ext cx="2057400" cy="609840"/>
          </a:xfrm>
          <a:prstGeom prst="wedgeRoundRectCallout">
            <a:avLst>
              <a:gd name="adj1" fmla="val 53240"/>
              <a:gd name="adj2" fmla="val 67708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si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</a:t>
            </a:r>
            <a:br>
              <a:rPr sz="2600"/>
            </a:b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L’INTERAZIONE SIMULTANEA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0880" y="304920"/>
            <a:ext cx="8001000" cy="4114440"/>
            <a:chOff x="380880" y="304920"/>
            <a:chExt cx="8001000" cy="4114440"/>
          </a:xfrm>
        </p:grpSpPr>
        <p:sp>
          <p:nvSpPr>
            <p:cNvPr id="107" name=""/>
            <p:cNvSpPr/>
            <p:nvPr/>
          </p:nvSpPr>
          <p:spPr>
            <a:xfrm>
              <a:off x="72360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 SEQUENZIAL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MULTANEA IN GRUPPI DI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5308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 SIMULTANEA IN COPPI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86720" y="28879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52480" y="27964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26800" y="25221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01120" y="22478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92560" y="18820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455000">
              <a:off x="2293920" y="15220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455000">
              <a:off x="2040840" y="12279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455000">
              <a:off x="1787400" y="9334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455000">
              <a:off x="1386720" y="8762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020960" y="28310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746640" y="25567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72320" y="228240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80880" y="19166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 rot="5145000">
              <a:off x="478800" y="15555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5145000">
              <a:off x="732240" y="12614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 rot="5145000">
              <a:off x="985680" y="9673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9644600">
              <a:off x="1752480" y="2740320"/>
              <a:ext cx="91440" cy="91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86720" y="2362320"/>
              <a:ext cx="548640" cy="251280"/>
            </a:xfrm>
            <a:prstGeom prst="wedgeRoundRectCallout">
              <a:avLst>
                <a:gd name="adj1" fmla="val -1157"/>
                <a:gd name="adj2" fmla="val 992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28000" y="105300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28000" y="144072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12920" y="144072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12920" y="105300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3818520" y="1150200"/>
              <a:ext cx="9684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22040" y="647640"/>
              <a:ext cx="581760" cy="307800"/>
            </a:xfrm>
            <a:prstGeom prst="wedgeRoundRectCallout">
              <a:avLst>
                <a:gd name="adj1" fmla="val -24671"/>
                <a:gd name="adj2" fmla="val 100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3818160" y="2604960"/>
              <a:ext cx="9720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28000" y="2507760"/>
              <a:ext cx="29088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8000" y="289584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12920" y="289584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12920" y="2507760"/>
              <a:ext cx="29088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22040" y="2133720"/>
              <a:ext cx="581760" cy="276840"/>
            </a:xfrm>
            <a:prstGeom prst="wedgeRoundRectCallout">
              <a:avLst>
                <a:gd name="adj1" fmla="val -24671"/>
                <a:gd name="adj2" fmla="val 106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91160" y="1053000"/>
              <a:ext cx="29124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91160" y="1440720"/>
              <a:ext cx="29124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76440" y="144072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76440" y="105300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4982400" y="1150200"/>
              <a:ext cx="96840" cy="96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85560" y="647640"/>
              <a:ext cx="581400" cy="307800"/>
            </a:xfrm>
            <a:prstGeom prst="wedgeRoundRectCallout">
              <a:avLst>
                <a:gd name="adj1" fmla="val -24671"/>
                <a:gd name="adj2" fmla="val 100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91160" y="2507760"/>
              <a:ext cx="29052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91160" y="289584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440" y="289584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76440" y="2507760"/>
              <a:ext cx="29052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982040" y="2604960"/>
              <a:ext cx="97200" cy="9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85560" y="2133720"/>
              <a:ext cx="581400" cy="276840"/>
            </a:xfrm>
            <a:prstGeom prst="wedgeRoundRectCallout">
              <a:avLst>
                <a:gd name="adj1" fmla="val -24671"/>
                <a:gd name="adj2" fmla="val 106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2288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34600" y="794880"/>
              <a:ext cx="9360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41000" y="3049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702216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55236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rot="16200000">
              <a:off x="6918840" y="1585440"/>
              <a:ext cx="1137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553080" y="1104840"/>
              <a:ext cx="563760" cy="302040"/>
            </a:xfrm>
            <a:prstGeom prst="wedgeRoundRectCallout">
              <a:avLst>
                <a:gd name="adj1" fmla="val -24666"/>
                <a:gd name="adj2" fmla="val 99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5308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2288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5400000">
              <a:off x="6834600" y="239544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41000" y="19051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02216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55236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16200000">
              <a:off x="6928560" y="3202920"/>
              <a:ext cx="939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553080" y="2705040"/>
              <a:ext cx="563760" cy="309600"/>
            </a:xfrm>
            <a:prstGeom prst="wedgeRoundRectCallout">
              <a:avLst>
                <a:gd name="adj1" fmla="val -24666"/>
                <a:gd name="adj2" fmla="val 98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8736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5752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7868880" y="794880"/>
              <a:ext cx="9360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5640" y="3049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805680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58664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6200000">
              <a:off x="7952400" y="1585080"/>
              <a:ext cx="1137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7587360" y="1104840"/>
              <a:ext cx="563760" cy="302040"/>
            </a:xfrm>
            <a:prstGeom prst="wedgeRoundRectCallout">
              <a:avLst>
                <a:gd name="adj1" fmla="val -24666"/>
                <a:gd name="adj2" fmla="val 99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8736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5752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7868880" y="239544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75640" y="19051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805680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58664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rot="16200000">
              <a:off x="7962480" y="320292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587360" y="2705040"/>
              <a:ext cx="563760" cy="309600"/>
            </a:xfrm>
            <a:prstGeom prst="wedgeRoundRectCallout">
              <a:avLst>
                <a:gd name="adj1" fmla="val -24666"/>
                <a:gd name="adj2" fmla="val 98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L’EQUA PARTECIPAZIONE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400040" y="457200"/>
            <a:ext cx="6343920" cy="3772080"/>
            <a:chOff x="1400040" y="457200"/>
            <a:chExt cx="6343920" cy="3772080"/>
          </a:xfrm>
        </p:grpSpPr>
        <p:sp>
          <p:nvSpPr>
            <p:cNvPr id="187" name=""/>
            <p:cNvSpPr/>
            <p:nvPr/>
          </p:nvSpPr>
          <p:spPr>
            <a:xfrm>
              <a:off x="4886280" y="3543480"/>
              <a:ext cx="1828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LIVELLO DI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TECIP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400040" y="1485720"/>
              <a:ext cx="3019320" cy="2742840"/>
              <a:chOff x="1400040" y="1485720"/>
              <a:chExt cx="3019320" cy="2742840"/>
            </a:xfrm>
          </p:grpSpPr>
          <p:pic>
            <p:nvPicPr>
              <p:cNvPr id="18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5800" y="2771640"/>
                <a:ext cx="68580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8800" y="2714400"/>
                <a:ext cx="7905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2371320" y="3543120"/>
                <a:ext cx="18288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Black"/>
                  </a:rPr>
                  <a:t>DISUGUALE LIVELLO DI PARTECIPAZION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599920" y="1485720"/>
                <a:ext cx="1371600" cy="848160"/>
              </a:xfrm>
              <a:prstGeom prst="wedgeRoundRectCallout">
                <a:avLst>
                  <a:gd name="adj1" fmla="val -15925"/>
                  <a:gd name="adj2" fmla="val 8727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d, white, yellow,pink, green, black,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85720" y="2400120"/>
                <a:ext cx="548640" cy="251280"/>
              </a:xfrm>
              <a:prstGeom prst="wedgeRoundRectCallout">
                <a:avLst>
                  <a:gd name="adj1" fmla="val -347"/>
                  <a:gd name="adj2" fmla="val 115402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400040" y="1714320"/>
                <a:ext cx="1142640" cy="848160"/>
              </a:xfrm>
              <a:prstGeom prst="wedgeRoundRectCallout">
                <a:avLst>
                  <a:gd name="adj1" fmla="val -64944"/>
                  <a:gd name="adj2" fmla="val 9064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vorando con un tuo compagno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4886280" y="2705040"/>
              <a:ext cx="68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591516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600960" y="2019240"/>
              <a:ext cx="1143000" cy="505440"/>
            </a:xfrm>
            <a:prstGeom prst="wedgeRoundRectCallout">
              <a:avLst>
                <a:gd name="adj1" fmla="val 70888"/>
                <a:gd name="adj2" fmla="val 123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e B 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 ……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71800" y="457200"/>
              <a:ext cx="914400" cy="342720"/>
            </a:xfrm>
            <a:prstGeom prst="wedgeRoundRectCallout">
              <a:avLst>
                <a:gd name="adj1" fmla="val -15972"/>
                <a:gd name="adj2" fmla="val 146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00680" y="685440"/>
              <a:ext cx="914400" cy="342720"/>
            </a:xfrm>
            <a:prstGeom prst="wedgeRoundRectCallout">
              <a:avLst>
                <a:gd name="adj1" fmla="val -10138"/>
                <a:gd name="adj2" fmla="val 201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57680" y="1142640"/>
              <a:ext cx="914400" cy="342720"/>
            </a:xfrm>
            <a:prstGeom prst="wedgeRoundRectCallout">
              <a:avLst>
                <a:gd name="adj1" fmla="val -24722"/>
                <a:gd name="adj2" fmla="val 154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86200" y="1590480"/>
              <a:ext cx="914400" cy="342720"/>
            </a:xfrm>
            <a:prstGeom prst="wedgeRoundRectCallout">
              <a:avLst>
                <a:gd name="adj1" fmla="val -10138"/>
                <a:gd name="adj2" fmla="val 14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Pin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43200" y="1828800"/>
              <a:ext cx="914400" cy="342720"/>
            </a:xfrm>
            <a:prstGeom prst="wedgeRoundRectCallout">
              <a:avLst>
                <a:gd name="adj1" fmla="val 25277"/>
                <a:gd name="adj2" fmla="val 210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57960" y="2286000"/>
              <a:ext cx="914400" cy="342720"/>
            </a:xfrm>
            <a:prstGeom prst="wedgeRoundRectCallout">
              <a:avLst>
                <a:gd name="adj1" fmla="val 30486"/>
                <a:gd name="adj2" fmla="val 9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419720" y="380880"/>
            <a:ext cx="4724280" cy="4343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L’EQUA PARTECIPAZIONE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400040" y="533520"/>
            <a:ext cx="6343920" cy="3771720"/>
            <a:chOff x="1400040" y="533520"/>
            <a:chExt cx="6343920" cy="3771720"/>
          </a:xfrm>
        </p:grpSpPr>
        <p:sp>
          <p:nvSpPr>
            <p:cNvPr id="208" name=""/>
            <p:cNvSpPr/>
            <p:nvPr/>
          </p:nvSpPr>
          <p:spPr>
            <a:xfrm>
              <a:off x="4886280" y="3619440"/>
              <a:ext cx="1828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LIVELLO DI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TECIP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400040" y="1562040"/>
              <a:ext cx="3019320" cy="2742840"/>
              <a:chOff x="1400040" y="1562040"/>
              <a:chExt cx="3019320" cy="2742840"/>
            </a:xfrm>
          </p:grpSpPr>
          <p:pic>
            <p:nvPicPr>
              <p:cNvPr id="21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5800" y="2847960"/>
                <a:ext cx="68580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8800" y="2790720"/>
                <a:ext cx="7905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2371320" y="3619440"/>
                <a:ext cx="18288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Black"/>
                  </a:rPr>
                  <a:t>DISUGUALE LIVELLO DI PARTECIPAZION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599920" y="1562040"/>
                <a:ext cx="1371600" cy="848160"/>
              </a:xfrm>
              <a:prstGeom prst="wedgeRoundRectCallout">
                <a:avLst>
                  <a:gd name="adj1" fmla="val -15925"/>
                  <a:gd name="adj2" fmla="val 8727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d, white, yellow,pink, green, black,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85720" y="2476440"/>
                <a:ext cx="548640" cy="251280"/>
              </a:xfrm>
              <a:prstGeom prst="wedgeRoundRectCallout">
                <a:avLst>
                  <a:gd name="adj1" fmla="val -347"/>
                  <a:gd name="adj2" fmla="val 115402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400040" y="1790640"/>
                <a:ext cx="1142640" cy="848160"/>
              </a:xfrm>
              <a:prstGeom prst="wedgeRoundRectCallout">
                <a:avLst>
                  <a:gd name="adj1" fmla="val -64944"/>
                  <a:gd name="adj2" fmla="val 9064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vorando con un tuo compagno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4886280" y="2781360"/>
              <a:ext cx="68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5915160" y="278136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6600960" y="2095560"/>
              <a:ext cx="1143000" cy="505440"/>
            </a:xfrm>
            <a:prstGeom prst="wedgeRoundRectCallout">
              <a:avLst>
                <a:gd name="adj1" fmla="val 70888"/>
                <a:gd name="adj2" fmla="val 123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e B 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 ……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71800" y="533520"/>
              <a:ext cx="914400" cy="342720"/>
            </a:xfrm>
            <a:prstGeom prst="wedgeRoundRectCallout">
              <a:avLst>
                <a:gd name="adj1" fmla="val -15972"/>
                <a:gd name="adj2" fmla="val 146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00680" y="761760"/>
              <a:ext cx="914400" cy="342720"/>
            </a:xfrm>
            <a:prstGeom prst="wedgeRoundRectCallout">
              <a:avLst>
                <a:gd name="adj1" fmla="val -10138"/>
                <a:gd name="adj2" fmla="val 201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57680" y="1218960"/>
              <a:ext cx="914400" cy="342720"/>
            </a:xfrm>
            <a:prstGeom prst="wedgeRoundRectCallout">
              <a:avLst>
                <a:gd name="adj1" fmla="val -24722"/>
                <a:gd name="adj2" fmla="val 154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6200" y="1666800"/>
              <a:ext cx="914400" cy="342720"/>
            </a:xfrm>
            <a:prstGeom prst="wedgeRoundRectCallout">
              <a:avLst>
                <a:gd name="adj1" fmla="val -10138"/>
                <a:gd name="adj2" fmla="val 14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Pin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43200" y="1905120"/>
              <a:ext cx="914400" cy="342720"/>
            </a:xfrm>
            <a:prstGeom prst="wedgeRoundRectCallout">
              <a:avLst>
                <a:gd name="adj1" fmla="val 25277"/>
                <a:gd name="adj2" fmla="val 210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57960" y="2362320"/>
              <a:ext cx="914400" cy="342720"/>
            </a:xfrm>
            <a:prstGeom prst="wedgeRoundRectCallout">
              <a:avLst>
                <a:gd name="adj1" fmla="val 30486"/>
                <a:gd name="adj2" fmla="val 9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TRUTTU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5120" y="1828440"/>
            <a:ext cx="76723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pproccio strutturale è  basato sulla defini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modi semplici pe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era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gli studenti in compiti di apprendim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mbinandosi co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tenut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si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re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ttività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s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Segnaposto testo 3" descr=""/>
          <p:cNvPicPr/>
          <p:nvPr/>
        </p:nvPicPr>
        <p:blipFill>
          <a:blip r:embed="rId1"/>
          <a:stretch/>
        </p:blipFill>
        <p:spPr>
          <a:xfrm>
            <a:off x="6156360" y="0"/>
            <a:ext cx="2808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ESEMPIO DI STRUTTURA 1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9520" y="1644120"/>
            <a:ext cx="8183520" cy="3567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te una definizione di INTERAZIONE SIMULTANE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he cosa si intende per PARTECIPAZIONE EQU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Qual è la differenza tra STRUTTURA e ATTIVITA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me l’insegnante potrebbe favorire l’attivazione della RESPONSABILITA’ INDIVIDUA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380880"/>
            <a:ext cx="4952880" cy="762120"/>
          </a:xfrm>
          <a:prstGeom prst="wedgeRectCallout">
            <a:avLst>
              <a:gd name="adj1" fmla="val -54231"/>
              <a:gd name="adj2" fmla="val 2666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cisione per consulto di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nne al centro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81835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ESEMPIO DI STRUTTURA         2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200240"/>
            <a:ext cx="7657920" cy="445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Quali processi cognitivi TNI può attivar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ensate individualmente, poi discut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 che misura TNI può modificare il clima di class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scutete finché trovate una risposta di sintesi condivis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TNI è applicabile a diversi contesti disciplinari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upportatevi reciprocamente in modo che ciascuno riesc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 fare un esemp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457200"/>
            <a:ext cx="2743200" cy="762120"/>
          </a:xfrm>
          <a:prstGeom prst="wedgeRectCallout">
            <a:avLst>
              <a:gd name="adj1" fmla="val 57986"/>
              <a:gd name="adj2" fmla="val -7708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e numerate insi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5334120" y="4495680"/>
            <a:ext cx="3352680" cy="914400"/>
          </a:xfrm>
          <a:prstGeom prst="wedgeRoundRectCallout">
            <a:avLst>
              <a:gd name="adj1" fmla="val 53597"/>
              <a:gd name="adj2" fmla="val 26736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iflessione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heda di confro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20:05:28Z</dcterms:created>
  <dc:creator>Francy</dc:creator>
  <dc:description/>
  <dc:language>en-US</dc:language>
  <cp:lastModifiedBy>anna</cp:lastModifiedBy>
  <dcterms:modified xsi:type="dcterms:W3CDTF">2011-03-27T15:08:03Z</dcterms:modified>
  <cp:revision>103</cp:revision>
  <dc:subject/>
  <dc:title>GESTIRE LA CLASSE COMUNITA’ DI APPRENDIMENTO</dc:title>
</cp:coreProperties>
</file>