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9.jpeg" ContentType="image/jpeg"/>
  <Override PartName="/ppt/media/image1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10.wmf" ContentType="image/x-wmf"/>
  <Override PartName="/ppt/media/image11.png" ContentType="image/png"/>
  <Override PartName="/ppt/media/image13.png" ContentType="image/png"/>
  <Override PartName="/ppt/media/image8.wmf" ContentType="image/x-wmf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D6C-0B96-48ED-BA58-040FB4F9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569-F123-4A94-87D7-4E34D31E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B03C-9FED-4FDA-AFBE-D66BD0C9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D02-3B60-4ADA-90A4-9CCDDDF07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B95-3F13-4067-85C4-3EC5172AE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4B64F-0B45-492E-A5F8-F4CA4D79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DFAE-A4C5-4439-85CC-B1DCF1AB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39AE-2C21-4EA1-8EAE-BA1BC804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5D5F-1465-4240-88BD-54BA85A7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6F8B-1DE7-4B44-AB2D-6D1905BD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E5A5-9366-48D9-BD5B-D012F050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CFB-C6A6-498D-99FB-4A8300E9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9774-82DC-4FF6-9401-A970D98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71EB-DC8B-45E2-B285-FEE51F7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D5DE-5A2B-4D6E-9C13-7101C9DE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4DED-52F4-4D7E-92CF-18A4F6E0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5BCE-380B-4C1E-B7A0-0FC7190FC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2A0A-A4FF-4E38-BF8E-655A7016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2EF1-BA2F-4E50-AE6A-62321CA1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AFA-804A-456D-9A0E-6EAABABC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C4B-CB81-4397-96C4-DCE8C4F4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2DD5-DC9D-4699-A373-E46C797D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DAA-A509-4991-ACD5-DD39A04D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AF70-9955-429E-B81F-9059EDC3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CDBA-422D-4432-9841-F6B30784F90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05D5-3496-477E-9A0E-9F708EA08933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ez.coop.doc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file:///griglia%20progettazione.doc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14440" y="456840"/>
            <a:ext cx="8115120" cy="3429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APPRENDIMENTO COOPERATIVO</a:t>
            </a:r>
            <a:br>
              <a:rPr sz="3200"/>
            </a:b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2° incontro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13880" y="4500720"/>
            <a:ext cx="7667640" cy="144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Tavern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nna Segreto                                                     20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TRUTTURE COOPERATIVE 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primo repertorio di modi semplic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coinvolgere gli alunni in attività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vadano oltre l’ascoltare qualcuno che par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ne al cent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009960"/>
            <a:ext cx="2057400" cy="838080"/>
          </a:xfrm>
          <a:prstGeom prst="wedgeRoundRectCallout">
            <a:avLst>
              <a:gd name="adj1" fmla="val -25000"/>
              <a:gd name="adj2" fmla="val 3731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numerate insi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3124080"/>
            <a:ext cx="2057400" cy="60984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gs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2971800" y="4114800"/>
            <a:ext cx="3581280" cy="609480"/>
          </a:xfrm>
          <a:prstGeom prst="wedgeRoundRectCallout">
            <a:avLst>
              <a:gd name="adj1" fmla="val -56115"/>
              <a:gd name="adj2" fmla="val 8099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ista a tre pa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905120"/>
            <a:ext cx="2057400" cy="761760"/>
          </a:xfrm>
          <a:prstGeom prst="wedgeRoundRectCallout">
            <a:avLst>
              <a:gd name="adj1" fmla="val -63888"/>
              <a:gd name="adj2" fmla="val 3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sa, discuti in coppia,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6553080" y="4038480"/>
            <a:ext cx="2057400" cy="609840"/>
          </a:xfrm>
          <a:prstGeom prst="wedgeRoundRectCallout">
            <a:avLst>
              <a:gd name="adj1" fmla="val 55324"/>
              <a:gd name="adj2" fmla="val 1067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762120"/>
            <a:ext cx="1600200" cy="761760"/>
          </a:xfrm>
          <a:prstGeom prst="wedgeRoundRectCallout">
            <a:avLst>
              <a:gd name="adj1" fmla="val -46430"/>
              <a:gd name="adj2" fmla="val 66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ro in gall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6934320" y="1828800"/>
            <a:ext cx="1752480" cy="914400"/>
          </a:xfrm>
          <a:prstGeom prst="wedgeRoundRectCallout">
            <a:avLst>
              <a:gd name="adj1" fmla="val -46740"/>
              <a:gd name="adj2" fmla="val 6337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recipro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4114800"/>
            <a:ext cx="2209680" cy="762120"/>
          </a:xfrm>
          <a:prstGeom prst="wedgeRoundRectCallout">
            <a:avLst>
              <a:gd name="adj1" fmla="val 15949"/>
              <a:gd name="adj2" fmla="val 7104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disci le tue doma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0" y="2057400"/>
            <a:ext cx="1752480" cy="609480"/>
          </a:xfrm>
          <a:prstGeom prst="wedgeRoundRectCallout">
            <a:avLst>
              <a:gd name="adj1" fmla="val -25000"/>
              <a:gd name="adj2" fmla="val 70050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oundt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4876920"/>
            <a:ext cx="2819520" cy="609480"/>
          </a:xfrm>
          <a:prstGeom prst="wedgeRoundRectCallout">
            <a:avLst>
              <a:gd name="adj1" fmla="val 58671"/>
              <a:gd name="adj2" fmla="val 5390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io in copp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2514600" y="5105520"/>
            <a:ext cx="2819520" cy="609480"/>
          </a:xfrm>
          <a:prstGeom prst="wedgeRoundRectCallout">
            <a:avLst>
              <a:gd name="adj1" fmla="val -57430"/>
              <a:gd name="adj2" fmla="val 6773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UDIAMO INSIEME</a:t>
            </a:r>
            <a:br>
              <a:rPr sz="24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 partn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5410080"/>
            <a:ext cx="2057400" cy="1447920"/>
          </a:xfrm>
          <a:prstGeom prst="wedgeRoundRectCallout">
            <a:avLst>
              <a:gd name="adj1" fmla="val 56944"/>
              <a:gd name="adj2" fmla="val 3662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iascuna coppia base sceglie una stru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74678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BASE: conseg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2920" y="529920"/>
            <a:ext cx="6507000" cy="442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tudin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ssi della struttura e 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rifletta su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bilità soci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onnesse e sui possibili ambiti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pplicazio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trovi un esempio concreto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tilizz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appl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si accordi sul modo più efficace pe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ieg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turno si faccia un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mulazion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ropria spiegazion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9520" y="56386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COPPIE MIX: consegne</a:t>
            </a:r>
            <a:r>
              <a:rPr b="0" lang="it-IT" sz="2000" spc="-1" strike="noStrike">
                <a:solidFill>
                  <a:srgbClr val="e05b00"/>
                </a:solidFill>
                <a:latin typeface="Verdana"/>
              </a:rPr>
              <a:t> </a:t>
            </a:r>
            <a:br>
              <a:rPr sz="20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5184720" cy="4680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spieg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icendevolmente il materiale di stud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verifich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’un l’altro la comprensione, ponendo doman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7" name="Segnaposto testo 3" descr=""/>
          <p:cNvPicPr/>
          <p:nvPr/>
        </p:nvPicPr>
        <p:blipFill>
          <a:blip r:embed="rId1"/>
          <a:stretch/>
        </p:blipFill>
        <p:spPr>
          <a:xfrm>
            <a:off x="5943600" y="1371600"/>
            <a:ext cx="2743200" cy="24098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00600" y="4038480"/>
            <a:ext cx="4038480" cy="1600200"/>
          </a:xfrm>
          <a:prstGeom prst="wedgeRoundRectCallout">
            <a:avLst>
              <a:gd name="adj1" fmla="val 52476"/>
              <a:gd name="adj2" fmla="val 3085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’interno del gruppo di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scelga una delle propos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scusse da socializzare con il grande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429000"/>
            <a:ext cx="2514600" cy="1143000"/>
          </a:xfrm>
          <a:prstGeom prst="wedgeRoundRectCallout">
            <a:avLst>
              <a:gd name="adj1" fmla="val -59282"/>
              <a:gd name="adj2" fmla="val 5486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 ripeta la procedura con altre due strut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OGNI STRUTTUR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79520" y="990720"/>
            <a:ext cx="8183520" cy="33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identificata da un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nom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costituita sui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4 principi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dell’approccio struttural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Ha propri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regole,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fasi, procedu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utilizzabile per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asi età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trasversale a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qualsivoglia contenu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E’ facilmente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quisibil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9520" y="5181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 PER …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1760" y="609480"/>
            <a:ext cx="3809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Costruire un buon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apprendi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Verdana"/>
              </a:rPr>
              <a:t>Sviluppare competenze comunic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960" y="529920"/>
            <a:ext cx="4011480" cy="418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clas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zione del clima di grup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adronanza delle conoscen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etenze cogn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ivisione di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ola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truire la comunic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3657600" y="114264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21337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IMPLEMENTARE </a:t>
            </a:r>
            <a:br>
              <a:rPr sz="2800"/>
            </a:b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L’APPROCCIO STRUTTURAL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rocedere 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tappe progressiv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are pratica di una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struttura per volt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, partendo dalle più semplic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rodurre gradatamente nuove strutture,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ampliando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l proprio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repertori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ganizzare </a:t>
            </a: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lezioni multistruttura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>
            <a:hlinkClick r:id="rId1"/>
          </p:cNvPr>
          <p:cNvSpPr/>
          <p:nvPr/>
        </p:nvSpPr>
        <p:spPr>
          <a:xfrm>
            <a:off x="7010280" y="4952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79520" y="54100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DALLA TEORIA ALLA PRATIC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gruppo analizzi un’esperienza cooperati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uol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Esperto strut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Esperto principi cooperativ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Sintetizza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5638680" y="1523880"/>
            <a:ext cx="3276720" cy="1295640"/>
          </a:xfrm>
          <a:prstGeom prst="wedgeRectCallout">
            <a:avLst>
              <a:gd name="adj1" fmla="val 47527"/>
              <a:gd name="adj2" fmla="val 355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biettivo: al termine dell’attività ciascuno deve essere in grado di spiegare ad altri il lavoro esamina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3429000"/>
            <a:ext cx="2971800" cy="1523880"/>
          </a:xfrm>
          <a:prstGeom prst="wedgeEllipseCallout">
            <a:avLst>
              <a:gd name="adj1" fmla="val -40064"/>
              <a:gd name="adj2" fmla="val 4114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Uno a casa e tre in viagg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er condividere le esperienz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3733920"/>
            <a:ext cx="2971800" cy="1143000"/>
          </a:xfrm>
          <a:prstGeom prst="wedgeRoundRectCallout">
            <a:avLst>
              <a:gd name="adj1" fmla="val 62500"/>
              <a:gd name="adj2" fmla="val 19027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iflettete in gruppo e compilate individualmente la sche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9520" y="58068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IN SINTESI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 studente “silenzioso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è uno student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ttostimo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qua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impegna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tutti i processi cognitiv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cessari  p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endi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qualità superio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-12060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0" y="-120600"/>
            <a:ext cx="9140760" cy="419040"/>
            <a:chOff x="0" y="-120600"/>
            <a:chExt cx="9140760" cy="419040"/>
          </a:xfrm>
        </p:grpSpPr>
        <p:sp>
          <p:nvSpPr>
            <p:cNvPr id="283" name=""/>
            <p:cNvSpPr/>
            <p:nvPr/>
          </p:nvSpPr>
          <p:spPr>
            <a:xfrm>
              <a:off x="0" y="-120600"/>
              <a:ext cx="360" cy="41904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54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0" y="-97560"/>
              <a:ext cx="9140760" cy="360"/>
              <a:chOff x="0" y="-97560"/>
              <a:chExt cx="9140760" cy="360"/>
            </a:xfrm>
          </p:grpSpPr>
          <p:sp>
            <p:nvSpPr>
              <p:cNvPr id="285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0" y="-9756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-53280" bIns="36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0" y="-97560"/>
                <a:ext cx="9140760" cy="360"/>
                <a:chOff x="0" y="-97560"/>
                <a:chExt cx="9140760" cy="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0" y="-97560"/>
                  <a:ext cx="9140760" cy="360"/>
                </a:xfrm>
                <a:prstGeom prst="rect">
                  <a:avLst/>
                </a:prstGeom>
                <a:solidFill>
                  <a:srgbClr val="f7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89" name=""/>
                <p:cNvGrpSpPr/>
                <p:nvPr/>
              </p:nvGrpSpPr>
              <p:grpSpPr>
                <a:xfrm>
                  <a:off x="0" y="-97560"/>
                  <a:ext cx="9139680" cy="360"/>
                  <a:chOff x="0" y="-97560"/>
                  <a:chExt cx="9139680" cy="3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0" y="-97560"/>
                    <a:ext cx="9139680" cy="360"/>
                  </a:xfrm>
                  <a:prstGeom prst="rect">
                    <a:avLst/>
                  </a:prstGeom>
                  <a:solidFill>
                    <a:srgbClr val="f7f7ff"/>
                  </a:solidFill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</p:grpSp>
      <p:sp>
        <p:nvSpPr>
          <p:cNvPr id="292" name=""/>
          <p:cNvSpPr/>
          <p:nvPr/>
        </p:nvSpPr>
        <p:spPr>
          <a:xfrm>
            <a:off x="0" y="-9828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-9828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297240"/>
            <a:ext cx="9144000" cy="419040"/>
          </a:xfrm>
          <a:prstGeom prst="rect">
            <a:avLst/>
          </a:prstGeom>
          <a:solidFill>
            <a:srgbClr val="d4d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54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0" y="3297240"/>
            <a:ext cx="360" cy="419040"/>
            <a:chOff x="0" y="3297240"/>
            <a:chExt cx="360" cy="419040"/>
          </a:xfrm>
        </p:grpSpPr>
        <p:sp>
          <p:nvSpPr>
            <p:cNvPr id="299" name=""/>
            <p:cNvSpPr/>
            <p:nvPr/>
          </p:nvSpPr>
          <p:spPr>
            <a:xfrm>
              <a:off x="0" y="3319200"/>
              <a:ext cx="360" cy="360"/>
            </a:xfrm>
            <a:prstGeom prst="rect">
              <a:avLst/>
            </a:prstGeom>
            <a:solidFill>
              <a:srgbClr val="f7f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53280" bIns="36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0" y="3297240"/>
              <a:ext cx="360" cy="419040"/>
              <a:chOff x="0" y="3297240"/>
              <a:chExt cx="360" cy="419040"/>
            </a:xfrm>
          </p:grpSpPr>
          <p:sp>
            <p:nvSpPr>
              <p:cNvPr id="301" name=""/>
              <p:cNvSpPr/>
              <p:nvPr/>
            </p:nvSpPr>
            <p:spPr>
              <a:xfrm>
                <a:off x="0" y="3297240"/>
                <a:ext cx="360" cy="41904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540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0" y="3319920"/>
                <a:ext cx="360" cy="360"/>
              </a:xfrm>
              <a:prstGeom prst="rect">
                <a:avLst/>
              </a:prstGeom>
              <a:solidFill>
                <a:srgbClr val="f7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03" name=""/>
          <p:cNvSpPr/>
          <p:nvPr/>
        </p:nvSpPr>
        <p:spPr>
          <a:xfrm>
            <a:off x="0" y="3319560"/>
            <a:ext cx="9144000" cy="9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solidFill>
            <a:srgbClr val="f7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j0439553" descr=""/>
          <p:cNvPicPr/>
          <p:nvPr/>
        </p:nvPicPr>
        <p:blipFill>
          <a:blip r:embed="rId2"/>
          <a:stretch/>
        </p:blipFill>
        <p:spPr>
          <a:xfrm>
            <a:off x="399960" y="457200"/>
            <a:ext cx="45529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903"/>
                </a:solidFill>
                <a:latin typeface="Verdana"/>
              </a:rPr>
              <a:t>QUESTIONIN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omanda che vorrei porre è 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ividuale e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657600" y="2666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MOLTI MODELLI PER LA COOPERAZIONE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914400"/>
            <a:ext cx="1828800" cy="1219320"/>
          </a:xfrm>
          <a:prstGeom prst="wedgeRectCallout">
            <a:avLst>
              <a:gd name="adj1" fmla="val 56250"/>
              <a:gd name="adj2" fmla="val 768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mparare insie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John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60948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cerca di grup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har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2209680"/>
            <a:ext cx="1904760" cy="1219320"/>
          </a:xfrm>
          <a:prstGeom prst="wedgeRectCallout">
            <a:avLst>
              <a:gd name="adj1" fmla="val 62749"/>
              <a:gd name="adj2" fmla="val -59375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struzione compless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Coh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2819520"/>
            <a:ext cx="1904760" cy="1218960"/>
          </a:xfrm>
          <a:prstGeom prst="wedgeRectCallout">
            <a:avLst>
              <a:gd name="adj1" fmla="val -69500"/>
              <a:gd name="adj2" fmla="val 18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cripted coop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Danser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2057400"/>
            <a:ext cx="1905120" cy="1219320"/>
          </a:xfrm>
          <a:prstGeom prst="wedgeRectCallout">
            <a:avLst>
              <a:gd name="adj1" fmla="val 60000"/>
              <a:gd name="adj2" fmla="val 8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cces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 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Slav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3809880"/>
            <a:ext cx="2361960" cy="1219320"/>
          </a:xfrm>
          <a:prstGeom prst="wedgeRectCallout">
            <a:avLst>
              <a:gd name="adj1" fmla="val 52824"/>
              <a:gd name="adj2" fmla="val -2825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pproccio struttu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</a:rPr>
              <a:t>Kaga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SI INIZIA!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visitazione in chiave cooperativa delle unità di apprendimento in progettazi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5b00"/>
                </a:solidFill>
                <a:latin typeface="Arial"/>
              </a:rPr>
              <a:t>Passi decision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iglia per aiuta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5800" y="2149560"/>
            <a:ext cx="3886200" cy="298116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rId2"/>
          </p:cNvPr>
          <p:cNvSpPr/>
          <p:nvPr/>
        </p:nvSpPr>
        <p:spPr>
          <a:xfrm>
            <a:off x="7162920" y="3962520"/>
            <a:ext cx="976320" cy="228600"/>
          </a:xfrm>
          <a:prstGeom prst="rightArrow">
            <a:avLst>
              <a:gd name="adj1" fmla="val 50000"/>
              <a:gd name="adj2" fmla="val 1067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105520" y="4572000"/>
            <a:ext cx="4038480" cy="1143000"/>
          </a:xfrm>
          <a:prstGeom prst="wedgeRectCallout">
            <a:avLst>
              <a:gd name="adj1" fmla="val 38287"/>
              <a:gd name="adj2" fmla="val 152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ovrebbe essere una attività “reale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a attuare nella propria classe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05b00"/>
                </a:solidFill>
                <a:latin typeface="Verdana"/>
              </a:rPr>
              <a:t>PROCESSO DI COSTRUZIONE DI UN’ATTIVITA’ DIDATTI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2095560" y="609480"/>
            <a:ext cx="4952880" cy="60984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obiettivo didattico/educa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019240" y="1600200"/>
            <a:ext cx="5105520" cy="9144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ili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equenza dei processi (strategie cogn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a a conseguire l’obiettiv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2095560" y="3048120"/>
            <a:ext cx="4952880" cy="76176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l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strutture di lavoro sulla sequenza dei process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4114800"/>
            <a:ext cx="3505320" cy="1143000"/>
          </a:xfrm>
          <a:prstGeom prst="wedgeEllipseCallout">
            <a:avLst>
              <a:gd name="adj1" fmla="val -54893"/>
              <a:gd name="adj2" fmla="val 652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etenze social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 praticare in conte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>
            <a:off x="7315200" y="2743200"/>
            <a:ext cx="1600200" cy="1143000"/>
          </a:xfrm>
          <a:prstGeom prst="wedgeRoundRectCallout">
            <a:avLst>
              <a:gd name="adj1" fmla="val 61902"/>
              <a:gd name="adj2" fmla="val 25694"/>
              <a:gd name="adj3" fmla="val 16667"/>
            </a:avLst>
          </a:prstGeom>
          <a:solidFill>
            <a:srgbClr val="e3de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cegliere il contenuto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gom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9520" y="5714640"/>
            <a:ext cx="8183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METTIAMOCI ALLA PROVA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processi cognitivi sono sottes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la comprensione di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quali strategie utilizza un lettore esper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per affrontare un test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PROCESSI E STRATEGI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1371600"/>
            <a:ext cx="4724280" cy="3644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lett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glob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. anali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ganizzazione delle informazion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elabor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izz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07f0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79520" y="5807160"/>
            <a:ext cx="818352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05b00"/>
                </a:solidFill>
                <a:latin typeface="Verdana"/>
              </a:rPr>
              <a:t>SUPERVISIONE RECIPROCA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5" name="Segnaposto testo 3" descr=""/>
          <p:cNvPicPr/>
          <p:nvPr/>
        </p:nvPicPr>
        <p:blipFill>
          <a:blip r:embed="rId1"/>
          <a:stretch/>
        </p:blipFill>
        <p:spPr>
          <a:xfrm>
            <a:off x="503280" y="530280"/>
            <a:ext cx="4014720" cy="418788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69920" y="529920"/>
            <a:ext cx="3940200" cy="4879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e05b00"/>
                </a:solidFill>
                <a:latin typeface="Arial"/>
              </a:rPr>
              <a:t>Scambiamoci suggerimen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Focalizzate gli aspetti su cui vorreste confrontarv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Esplicitate gli aspetti “critici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Spiegate come state impostando la vostra progettazio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empo per pens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Suggerimenti recipro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Ringraziamen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>
            <a:off x="746280" y="4075200"/>
            <a:ext cx="20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949320" y="43434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mici criti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5b00"/>
                </a:solidFill>
                <a:latin typeface="Verdana"/>
              </a:rPr>
              <a:t>APPUNTAMENT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16 apr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1600200"/>
            <a:ext cx="2819520" cy="685800"/>
          </a:xfrm>
          <a:prstGeom prst="wedgeRectCallout">
            <a:avLst>
              <a:gd name="adj1" fmla="val 53152"/>
              <a:gd name="adj2" fmla="val 1851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lem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2" name="imagesCA5V8WP6" descr=""/>
          <p:cNvPicPr/>
          <p:nvPr/>
        </p:nvPicPr>
        <p:blipFill>
          <a:blip r:embed="rId1"/>
          <a:stretch/>
        </p:blipFill>
        <p:spPr>
          <a:xfrm>
            <a:off x="457200" y="1515960"/>
            <a:ext cx="49528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APPROCCIO STRUTTURALE</a:t>
            </a:r>
            <a:br>
              <a:rPr sz="3200"/>
            </a:b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pencer Kagan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PRINCIPI FONDAMENT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dipendenza positiv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Responsabilità individu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azione simultan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qua partecipa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j0343359" descr=""/>
          <p:cNvPicPr/>
          <p:nvPr/>
        </p:nvPicPr>
        <p:blipFill>
          <a:blip r:embed="rId1"/>
          <a:stretch/>
        </p:blipFill>
        <p:spPr>
          <a:xfrm>
            <a:off x="3429000" y="2819520"/>
            <a:ext cx="2971800" cy="250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62120" y="2666880"/>
            <a:ext cx="2666880" cy="762120"/>
          </a:xfrm>
          <a:prstGeom prst="wedgeRoundRectCallout">
            <a:avLst>
              <a:gd name="adj1" fmla="val -51962"/>
              <a:gd name="adj2" fmla="val 44791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gnamento abilità comunicative e soc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124080"/>
            <a:ext cx="2057400" cy="609840"/>
          </a:xfrm>
          <a:prstGeom prst="wedgeRoundRectCallout">
            <a:avLst>
              <a:gd name="adj1" fmla="val 53240"/>
              <a:gd name="adj2" fmla="val 67708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</a:t>
            </a:r>
            <a:br>
              <a:rPr sz="2600"/>
            </a:b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L’INTERAZIONE SIMULTANEA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80880" y="304920"/>
            <a:ext cx="8001000" cy="4114440"/>
            <a:chOff x="380880" y="304920"/>
            <a:chExt cx="8001000" cy="4114440"/>
          </a:xfrm>
        </p:grpSpPr>
        <p:sp>
          <p:nvSpPr>
            <p:cNvPr id="107" name=""/>
            <p:cNvSpPr/>
            <p:nvPr/>
          </p:nvSpPr>
          <p:spPr>
            <a:xfrm>
              <a:off x="72360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EQUENZIAL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MULTANEA IN GRUPPI DI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53080" y="3733920"/>
              <a:ext cx="182880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AZIONE SIMULTANEA IN COPPI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86720" y="28879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52480" y="2796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26800" y="25221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1120" y="22478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92560" y="188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455000">
              <a:off x="2293920" y="15220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455000">
              <a:off x="2040840" y="12279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455000">
              <a:off x="1787400" y="93348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455000">
              <a:off x="1386720" y="8762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020960" y="28310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746640" y="25567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72320" y="228240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80880" y="19166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 rot="5145000">
              <a:off x="478800" y="155556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5145000">
              <a:off x="732240" y="126144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 rot="5145000">
              <a:off x="985680" y="967320"/>
              <a:ext cx="274320" cy="2743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9644600">
              <a:off x="1752480" y="2740320"/>
              <a:ext cx="91440" cy="91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6720" y="2362320"/>
              <a:ext cx="548640" cy="251280"/>
            </a:xfrm>
            <a:prstGeom prst="wedgeRoundRectCallout">
              <a:avLst>
                <a:gd name="adj1" fmla="val -1157"/>
                <a:gd name="adj2" fmla="val 99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2800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2800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12920" y="144072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12920" y="105300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818520" y="1150200"/>
              <a:ext cx="9684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22040" y="647640"/>
              <a:ext cx="58176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3818160" y="2604960"/>
              <a:ext cx="97200" cy="9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2800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800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12920" y="2895840"/>
              <a:ext cx="29088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12920" y="2507760"/>
              <a:ext cx="29088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22040" y="2133720"/>
              <a:ext cx="58176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91160" y="105300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91160" y="1440720"/>
              <a:ext cx="29124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76440" y="144072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76440" y="105300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5400000">
              <a:off x="4982400" y="1150200"/>
              <a:ext cx="96840" cy="9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885560" y="647640"/>
              <a:ext cx="581400" cy="307800"/>
            </a:xfrm>
            <a:prstGeom prst="wedgeRoundRectCallout">
              <a:avLst>
                <a:gd name="adj1" fmla="val -24671"/>
                <a:gd name="adj2" fmla="val 100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9116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9116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440" y="2895840"/>
              <a:ext cx="290520" cy="29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6440" y="2507760"/>
              <a:ext cx="290520" cy="29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982040" y="2604960"/>
              <a:ext cx="97200" cy="9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85560" y="2133720"/>
              <a:ext cx="581400" cy="276840"/>
            </a:xfrm>
            <a:prstGeom prst="wedgeRoundRectCallout">
              <a:avLst>
                <a:gd name="adj1" fmla="val -24671"/>
                <a:gd name="adj2" fmla="val 10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288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5400000">
              <a:off x="683460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4100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0221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655236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6200000">
              <a:off x="6918840" y="1585440"/>
              <a:ext cx="1137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655308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530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2288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5400000">
              <a:off x="683460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4100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0221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55236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16200000">
              <a:off x="6928560" y="3202920"/>
              <a:ext cx="93960" cy="93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55308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736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57520" y="7009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7868880" y="794880"/>
              <a:ext cx="9360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75640" y="3049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805680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86640" y="150120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6200000">
              <a:off x="7952400" y="1585080"/>
              <a:ext cx="1137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587360" y="1104840"/>
              <a:ext cx="563760" cy="302040"/>
            </a:xfrm>
            <a:prstGeom prst="wedgeRoundRectCallout">
              <a:avLst>
                <a:gd name="adj1" fmla="val -24666"/>
                <a:gd name="adj2" fmla="val 99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8736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57520" y="2301480"/>
              <a:ext cx="281880" cy="28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868880" y="239544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5640" y="1905120"/>
              <a:ext cx="563760" cy="302040"/>
            </a:xfrm>
            <a:prstGeom prst="wedgeRoundRectCallout">
              <a:avLst>
                <a:gd name="adj1" fmla="val -24773"/>
                <a:gd name="adj2" fmla="val 1000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05680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586640" y="3109320"/>
              <a:ext cx="281880" cy="28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rot="16200000">
              <a:off x="7962480" y="3202920"/>
              <a:ext cx="93960" cy="9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587360" y="2705040"/>
              <a:ext cx="563760" cy="309600"/>
            </a:xfrm>
            <a:prstGeom prst="wedgeRoundRectCallout">
              <a:avLst>
                <a:gd name="adj1" fmla="val -24666"/>
                <a:gd name="adj2" fmla="val 98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 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00040" y="457200"/>
            <a:ext cx="6343920" cy="3772080"/>
            <a:chOff x="1400040" y="457200"/>
            <a:chExt cx="6343920" cy="3772080"/>
          </a:xfrm>
        </p:grpSpPr>
        <p:sp>
          <p:nvSpPr>
            <p:cNvPr id="187" name=""/>
            <p:cNvSpPr/>
            <p:nvPr/>
          </p:nvSpPr>
          <p:spPr>
            <a:xfrm>
              <a:off x="4886280" y="354348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400040" y="1485720"/>
              <a:ext cx="3019320" cy="2742840"/>
              <a:chOff x="1400040" y="1485720"/>
              <a:chExt cx="3019320" cy="2742840"/>
            </a:xfrm>
          </p:grpSpPr>
          <p:pic>
            <p:nvPicPr>
              <p:cNvPr id="18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77164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1440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371320" y="354312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99920" y="148572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285720" y="240012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400040" y="171432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195" name="" descr=""/>
            <p:cNvPicPr/>
            <p:nvPr/>
          </p:nvPicPr>
          <p:blipFill>
            <a:blip r:embed="rId3"/>
            <a:stretch/>
          </p:blipFill>
          <p:spPr>
            <a:xfrm>
              <a:off x="4886280" y="270504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4"/>
            <a:stretch/>
          </p:blipFill>
          <p:spPr>
            <a:xfrm>
              <a:off x="591516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600960" y="201924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1800" y="45720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00680" y="68544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57680" y="114264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86200" y="159048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43200" y="182880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57960" y="228600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4419720" y="380880"/>
            <a:ext cx="4724280" cy="43434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79520" y="5333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e05b00"/>
                </a:solidFill>
                <a:latin typeface="Verdana"/>
              </a:rPr>
              <a:t>FACILITARE L’APPRENDIMENTO ATTRAVERSO L’EQUA PARTECIPAZIONE</a:t>
            </a:r>
            <a:endParaRPr b="1" lang="en-US" sz="2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371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400040" y="533520"/>
            <a:ext cx="6343920" cy="3771720"/>
            <a:chOff x="1400040" y="533520"/>
            <a:chExt cx="6343920" cy="3771720"/>
          </a:xfrm>
        </p:grpSpPr>
        <p:sp>
          <p:nvSpPr>
            <p:cNvPr id="208" name=""/>
            <p:cNvSpPr/>
            <p:nvPr/>
          </p:nvSpPr>
          <p:spPr>
            <a:xfrm>
              <a:off x="4886280" y="3619440"/>
              <a:ext cx="1828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I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LIVELLO DI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</a:rPr>
                <a:t>PARTECIPAZION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1400040" y="1562040"/>
              <a:ext cx="3019320" cy="2742840"/>
              <a:chOff x="1400040" y="1562040"/>
              <a:chExt cx="3019320" cy="2742840"/>
            </a:xfrm>
          </p:grpSpPr>
          <p:pic>
            <p:nvPicPr>
              <p:cNvPr id="21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85800" y="2847960"/>
                <a:ext cx="685800" cy="59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28800" y="2790720"/>
                <a:ext cx="79056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2371320" y="3619440"/>
                <a:ext cx="1828800" cy="685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Black"/>
                  </a:rPr>
                  <a:t>DISUGUALE LIVELLO DI PARTECIPAZION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99920" y="1562040"/>
                <a:ext cx="1371600" cy="848160"/>
              </a:xfrm>
              <a:prstGeom prst="wedgeRoundRectCallout">
                <a:avLst>
                  <a:gd name="adj1" fmla="val -15925"/>
                  <a:gd name="adj2" fmla="val 8727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Arial"/>
                  </a:rPr>
                  <a:t>Red, white, yellow,pink, green, black,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285720" y="2476440"/>
                <a:ext cx="548640" cy="251280"/>
              </a:xfrm>
              <a:prstGeom prst="wedgeRoundRectCallout">
                <a:avLst>
                  <a:gd name="adj1" fmla="val -347"/>
                  <a:gd name="adj2" fmla="val 115402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400040" y="1790640"/>
                <a:ext cx="1142640" cy="848160"/>
              </a:xfrm>
              <a:prstGeom prst="wedgeRoundRectCallout">
                <a:avLst>
                  <a:gd name="adj1" fmla="val -64944"/>
                  <a:gd name="adj2" fmla="val 90643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avorando con un tuo compagno ……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216" name="" descr=""/>
            <p:cNvPicPr/>
            <p:nvPr/>
          </p:nvPicPr>
          <p:blipFill>
            <a:blip r:embed="rId3"/>
            <a:stretch/>
          </p:blipFill>
          <p:spPr>
            <a:xfrm>
              <a:off x="4886280" y="2781360"/>
              <a:ext cx="685440" cy="67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" descr=""/>
            <p:cNvPicPr/>
            <p:nvPr/>
          </p:nvPicPr>
          <p:blipFill>
            <a:blip r:embed="rId4"/>
            <a:stretch/>
          </p:blipFill>
          <p:spPr>
            <a:xfrm>
              <a:off x="5915160" y="278136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600960" y="2095560"/>
              <a:ext cx="1143000" cy="505440"/>
            </a:xfrm>
            <a:prstGeom prst="wedgeRoundRectCallout">
              <a:avLst>
                <a:gd name="adj1" fmla="val 70888"/>
                <a:gd name="adj2" fmla="val 1238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 e B a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urno ……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71800" y="533520"/>
              <a:ext cx="914400" cy="342720"/>
            </a:xfrm>
            <a:prstGeom prst="wedgeRoundRectCallout">
              <a:avLst>
                <a:gd name="adj1" fmla="val -15972"/>
                <a:gd name="adj2" fmla="val 146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d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00680" y="761760"/>
              <a:ext cx="914400" cy="342720"/>
            </a:xfrm>
            <a:prstGeom prst="wedgeRoundRectCallout">
              <a:avLst>
                <a:gd name="adj1" fmla="val -10138"/>
                <a:gd name="adj2" fmla="val 201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57680" y="1218960"/>
              <a:ext cx="914400" cy="342720"/>
            </a:xfrm>
            <a:prstGeom prst="wedgeRoundRectCallout">
              <a:avLst>
                <a:gd name="adj1" fmla="val -24722"/>
                <a:gd name="adj2" fmla="val 1546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llow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86200" y="1666800"/>
              <a:ext cx="914400" cy="342720"/>
            </a:xfrm>
            <a:prstGeom prst="wedgeRoundRectCallout">
              <a:avLst>
                <a:gd name="adj1" fmla="val -10138"/>
                <a:gd name="adj2" fmla="val 14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Pin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43200" y="1905120"/>
              <a:ext cx="914400" cy="342720"/>
            </a:xfrm>
            <a:prstGeom prst="wedgeRoundRectCallout">
              <a:avLst>
                <a:gd name="adj1" fmla="val 25277"/>
                <a:gd name="adj2" fmla="val 21018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een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57960" y="2362320"/>
              <a:ext cx="914400" cy="342720"/>
            </a:xfrm>
            <a:prstGeom prst="wedgeRoundRectCallout">
              <a:avLst>
                <a:gd name="adj1" fmla="val 30486"/>
                <a:gd name="adj2" fmla="val 990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lack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79520" y="548604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e05b00"/>
                </a:solidFill>
                <a:latin typeface="Verdana"/>
              </a:rPr>
              <a:t>STRUTTUR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5120" y="1828440"/>
            <a:ext cx="76723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0" algn="ctr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approccio strutturale è  basato sulla defini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modi semplic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azion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gli studenti in compiti di apprendim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truttura,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binandosi co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nut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i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re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ttività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vers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Segnaposto testo 3" descr=""/>
          <p:cNvPicPr/>
          <p:nvPr/>
        </p:nvPicPr>
        <p:blipFill>
          <a:blip r:embed="rId1"/>
          <a:stretch/>
        </p:blipFill>
        <p:spPr>
          <a:xfrm>
            <a:off x="6156360" y="0"/>
            <a:ext cx="2808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9520" y="5562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1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9520" y="1644120"/>
            <a:ext cx="8183520" cy="3567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ate una definizione di INTERAZIONE SIMULTANE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he cosa si intende per PARTECIPAZIONE EQU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Qual è la differenza tra STRUTTURA e ATTIVITA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me l’insegnante potrebbe favorire l’attivazione della RESPONSABILITA’ INDIVIDUAL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380880"/>
            <a:ext cx="4952880" cy="762120"/>
          </a:xfrm>
          <a:prstGeom prst="wedgeRectCallout">
            <a:avLst>
              <a:gd name="adj1" fmla="val -54231"/>
              <a:gd name="adj2" fmla="val 2666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cisione per consulto di gr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enne al centro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818352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5b00"/>
                </a:solidFill>
                <a:latin typeface="Verdana"/>
              </a:rPr>
              <a:t>ESEMPIO DI STRUTTURA         2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00240"/>
            <a:ext cx="7657920" cy="445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Quali processi cognitivi TNI può attivar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ensate individualmente, poi discut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n che misura TNI può modificare il clima di classe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scutete finché trovate una risposta di sintesi condivis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TNI è applicabile a diversi contesti disciplinari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upportatevi reciprocamente in modo che ciascuno ries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 fare un esempi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457200"/>
            <a:ext cx="2743200" cy="762120"/>
          </a:xfrm>
          <a:prstGeom prst="wedgeRectCallout">
            <a:avLst>
              <a:gd name="adj1" fmla="val 57986"/>
              <a:gd name="adj2" fmla="val -77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ste numerate insiem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4495680"/>
            <a:ext cx="3352680" cy="914400"/>
          </a:xfrm>
          <a:prstGeom prst="wedgeRoundRectCallout">
            <a:avLst>
              <a:gd name="adj1" fmla="val 53597"/>
              <a:gd name="adj2" fmla="val 26736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iflession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cheda di confro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0T20:05:28Z</dcterms:created>
  <dc:creator>Francy</dc:creator>
  <dc:description/>
  <dc:language>en-US</dc:language>
  <cp:lastModifiedBy>anna</cp:lastModifiedBy>
  <dcterms:modified xsi:type="dcterms:W3CDTF">2011-03-27T15:08:03Z</dcterms:modified>
  <cp:revision>103</cp:revision>
  <dc:subject/>
  <dc:title>GESTIRE LA CLASSE COMUNITA’ DI APPRENDIMENTO</dc:title>
</cp:coreProperties>
</file>