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61D-BC7A-4301-8BED-DE01FC77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AC9-FCAB-4AD6-AADD-29E1725D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DFD-CAE1-47C9-9CB5-59513410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BA1-3CCE-40A6-80FD-ED0B601C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3F58-80BD-4548-9A6D-301D6C38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296C-1D0E-4923-97BE-781973DD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F949-55ED-4F97-9ABB-129EE1B4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CA62-C0C7-4BB6-8658-233B4A7F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4273-D796-42B0-9B2D-B5D74D0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33BD-A53D-4EE3-8CD2-0D55DA79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56F5-F74C-4FF6-B1B3-00339698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E6B-3768-4E9A-A60A-471CA51E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E644-07AA-4C3E-B31B-45E6100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B049-4CB1-412E-9B31-B4EA1812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EE1F-50E6-4951-968D-38CFB8E2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3B82-CB3C-490D-8B87-7C5C5943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257B-6595-48A3-BB6E-16F451EA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2E1-E495-4337-AF6E-825498C9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223-7AA6-41D1-A529-30CC1BC1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B37-9348-4941-BDD8-BE082F4C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EC2-98F6-4020-89C1-116A03D1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112-6A78-4A03-9C9B-08A4CEDC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3A3-6566-4A57-B536-E605D60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7A3-6CBE-4C0E-97E9-283D7C36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86DC-AB50-4DE0-9271-FE96E965D7C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F6C0-76D3-4DB4-BFA5-1BCAF9FC2ED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fagioli%20sulla%20testa.doc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catena%20amicizia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APPRENDIMENTO COOPERATIVO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257800"/>
            <a:ext cx="81835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JIGSAW</a:t>
            </a: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consegne per il gruppo base</a:t>
            </a:r>
            <a:br>
              <a:rPr sz="20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spieghi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verifichi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intetizzi attraverso una mappa o con altra modalità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Segnaposto testo 3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362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QUESTIONARIO DI CONTROLL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definireste il concetto d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dipendenza positiv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pi di interdipendenz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ono caratterizzare un gruppo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i comportamenti che facilitano l’attività di collaborazion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azione promozion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è l’importanza dell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lavoro di gruppo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cosa signific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ponsabilità individu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può essere ottenuta in u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uppo cla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  3 domande che possano essere di guida per un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visione dell’attività di grupp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72400" y="152280"/>
            <a:ext cx="9097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RIPENSANDO ALL’ESERCIT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952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he misura i principi dell’apprendimento cooperativo sono stati “giocati” nell’attivit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cosa è  stato significativo nella sessione di studi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potreste riutilizzare questa struttura di lavoro nella vostra prassi didattic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886200"/>
            <a:ext cx="4038480" cy="838080"/>
          </a:xfrm>
          <a:prstGeom prst="rect">
            <a:avLst/>
          </a:prstGeom>
          <a:solidFill>
            <a:srgbClr val="1c21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nsa, discuti in coppia, condivi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BREVE STORIA DEL C.L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recursor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Dinamiche di gruppo e interdipendenz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cuola e società democra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raticabilità didattica delle idee di Deutsc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2362320"/>
            <a:ext cx="2209680" cy="1218960"/>
          </a:xfrm>
          <a:prstGeom prst="wedgeRoundRectCallout">
            <a:avLst>
              <a:gd name="adj1" fmla="val -50217"/>
              <a:gd name="adj2" fmla="val -3997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.Lew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.Lippi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.Deut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95680"/>
            <a:ext cx="1752840" cy="685800"/>
          </a:xfrm>
          <a:prstGeom prst="wedgeRoundRectCallout">
            <a:avLst>
              <a:gd name="adj1" fmla="val 28532"/>
              <a:gd name="adj2" fmla="val -4189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. John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04920"/>
            <a:ext cx="2209680" cy="1295280"/>
          </a:xfrm>
          <a:prstGeom prst="wedgeRoundRectCallout">
            <a:avLst>
              <a:gd name="adj1" fmla="val -26291"/>
              <a:gd name="adj2" fmla="val 3737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.B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J. Lanca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.Par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429000"/>
            <a:ext cx="1828800" cy="609480"/>
          </a:xfrm>
          <a:prstGeom prst="wedgeRoundRectCallout">
            <a:avLst>
              <a:gd name="adj1" fmla="val -48435"/>
              <a:gd name="adj2" fmla="val -1824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J.Dew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560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 gioco per inizi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666880"/>
            <a:ext cx="4419720" cy="12956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he cosa è diverso questo gioc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petto a una versione tradizional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abilità e percezion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de  promuover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25718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1066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15606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270160" y="1560600"/>
            <a:ext cx="52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Un menu per il grupp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362320"/>
            <a:ext cx="3276720" cy="18288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cosa inten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uove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a attività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7400" y="34290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429000"/>
            <a:ext cx="1905120" cy="916920"/>
          </a:xfrm>
          <a:prstGeom prst="rect">
            <a:avLst/>
          </a:prstGeom>
          <a:solidFill>
            <a:srgbClr val="427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rgio, Marta, Giu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248520" y="17524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menu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477120"/>
          </a:xfrm>
          <a:prstGeom prst="rect">
            <a:avLst/>
          </a:prstGeom>
          <a:ln w="0">
            <a:noFill/>
          </a:ln>
        </p:spPr>
      </p:pic>
      <p:pic>
        <p:nvPicPr>
          <p:cNvPr id="156" name="menu1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59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239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2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60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ESERCITAZ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competi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individuali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cooper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7480" y="2895480"/>
            <a:ext cx="6629400" cy="18288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vi siete sentiti emotiv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le tre diverse situazion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Quali elementi hanno diversificato le tre situazion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724280"/>
            <a:ext cx="29718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4952880"/>
            <a:ext cx="1752480" cy="838440"/>
          </a:xfrm>
          <a:prstGeom prst="wedgeRectCallout">
            <a:avLst>
              <a:gd name="adj1" fmla="val 60870"/>
              <a:gd name="adj2" fmla="val 1041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9520" y="563832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685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… mettete le teste insie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 abilità sociali sono coinvolte in questa struttu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sicuratevi che nella risposta ci siano le idee di tut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NI è applicabile a diversi contesti disciplinar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83808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e076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40000" y="563868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RIFLESSI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2270160" y="1103400"/>
            <a:ext cx="5807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638360" y="68580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 competenze trasversali possono essere sviluppate attraverso l’apprendimento coopera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1181160" y="2438280"/>
            <a:ext cx="67816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Comunicazione: parlato ascol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Col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Autonom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Abilità soci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Negozi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4267080"/>
            <a:ext cx="281952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REVIS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Termomet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segna un termometro con tacche da 1 a 1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gna la temperatura dell’incontr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nfrontate le tempera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el vostro gruppo e datevi le motivazion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e-57606-57-pide-000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1279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</a:t>
            </a:r>
            <a:br>
              <a:rPr sz="3600"/>
            </a:b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Un progetto per il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2781360"/>
            <a:ext cx="3886200" cy="1295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livelli di interdipendenz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o presen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ll’organizzazione dell’attività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390920" cy="1060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, per finire, … una cat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78918559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715000" cy="3124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867280" y="2819520"/>
            <a:ext cx="3124440" cy="1981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obiettivo può av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’attività di questo tip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 si collega ai princi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l’apprend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perativ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6095880" y="1066680"/>
            <a:ext cx="976320" cy="381240"/>
          </a:xfrm>
          <a:prstGeom prst="rightArrow">
            <a:avLst>
              <a:gd name="adj1" fmla="val 50000"/>
              <a:gd name="adj2" fmla="val 6402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Che cos’è </a:t>
            </a:r>
            <a:br>
              <a:rPr sz="3200"/>
            </a:b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l’apprendimento cooperativo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575080" y="1027080"/>
            <a:ext cx="53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o a mediazione soci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541008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8520" y="5409720"/>
            <a:ext cx="816444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APPRENDIMENTO COOPERA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55627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398600" y="1219320"/>
            <a:ext cx="63453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orizzazione della relazione tra pa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33520"/>
            <a:ext cx="6553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endere insie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537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028880" y="1981080"/>
            <a:ext cx="7086600" cy="113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ile di insegnamento che sollecita il   coinvolgimento attivo di tutti gli studen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ttività comu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3429000"/>
            <a:ext cx="3353040" cy="1981080"/>
          </a:xfrm>
          <a:prstGeom prst="wedgeRectCallout">
            <a:avLst>
              <a:gd name="adj1" fmla="val -32384"/>
              <a:gd name="adj2" fmla="val 1001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Forse il maggior beneficio è che, quando viene usato effettivamente, nessuno studente è ignorato o emarginato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Wood, Algozzine e Avet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183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APPRENDIMENTO AT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133720"/>
            <a:ext cx="3886200" cy="3352680"/>
          </a:xfrm>
          <a:prstGeom prst="wedgeRectCallout">
            <a:avLst>
              <a:gd name="adj1" fmla="val -79046"/>
              <a:gd name="adj2" fmla="val -24666"/>
            </a:avLst>
          </a:prstGeom>
          <a:solidFill>
            <a:srgbClr val="f89d42"/>
          </a:solidFill>
          <a:ln w="936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TR00539_" descr=""/>
          <p:cNvPicPr/>
          <p:nvPr/>
        </p:nvPicPr>
        <p:blipFill>
          <a:blip r:embed="rId1"/>
          <a:srcRect l="-7270" t="-4228" r="0" b="52311"/>
          <a:stretch/>
        </p:blipFill>
        <p:spPr>
          <a:xfrm>
            <a:off x="762120" y="1752480"/>
            <a:ext cx="186840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025240" y="25146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Se ascolto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ve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276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pongo  doman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discu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appl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inseg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57200"/>
            <a:ext cx="3886200" cy="1143000"/>
          </a:xfrm>
          <a:prstGeom prst="wedgeRectCallout">
            <a:avLst>
              <a:gd name="adj1" fmla="val -38601"/>
              <a:gd name="adj2" fmla="val 51527"/>
            </a:avLst>
          </a:prstGeom>
          <a:solidFill>
            <a:srgbClr val="f89d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487"/>
                </a:solidFill>
                <a:latin typeface="Times New Roman"/>
              </a:rPr>
              <a:t>Conoscenze inert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487"/>
                </a:solidFill>
                <a:latin typeface="Times New Roman"/>
              </a:rPr>
              <a:t>NO, grazi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fida maggiore investe i docenti di tutte le discipline che devono ricercare e valorizzare i contenuti,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odolog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e di rela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utazione degli apprendimen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e maggiormente favorisco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tecipazio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i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involgi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gli alunni, la percezione di star bene a scuola, la consapevolezza di essere in una comunità che accoglie, che mette in pratica le regole del vivere civile e soci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ittadinanza e Costituzione, Documento di indiriz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Segnaposto titolo 12" descr=""/>
          <p:cNvPicPr/>
          <p:nvPr/>
        </p:nvPicPr>
        <p:blipFill>
          <a:blip r:embed="rId1"/>
          <a:stretch/>
        </p:blipFill>
        <p:spPr>
          <a:xfrm>
            <a:off x="3362400" y="5181480"/>
            <a:ext cx="24192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UNA DEFINIZ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9520" y="456840"/>
            <a:ext cx="818352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può definire il Cooperative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me un insieme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tecnich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i conduzione della clas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base alle qua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li studenti lavora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piccoli gruppi eterogene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 attività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apprendi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cevono una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individu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i risultati conseguit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it-IT" sz="2800" spc="-1" strike="noStrike">
                <a:solidFill>
                  <a:srgbClr val="ff6903"/>
                </a:solidFill>
                <a:latin typeface="Verdana"/>
              </a:rPr>
              <a:t>PRINCIPI FONDAMENTALI DELL’APPRENDIMENTO COOPERA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530280"/>
            <a:ext cx="7924680" cy="335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faccia fac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egnamento apprendimento delle abilità soci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pers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vis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743200"/>
            <a:ext cx="2590920" cy="1371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Jigsa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JIGSAW</a:t>
            </a: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 consegne per i gruppi di esperti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5937120" cy="4187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individuino e si esaminin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tt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dament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concretizzino i concetti e si trovi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reparino del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n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verificare l’apprendimento dei membri del gruppo b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a propria spieg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Segnaposto testo 3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17T11:22:52Z</dcterms:modified>
  <cp:revision>92</cp:revision>
  <dc:subject/>
  <dc:title>GESTIRE LA CLASSE COMUNITA’ DI APPRENDIMENTO</dc:title>
</cp:coreProperties>
</file>