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BF7-91BB-40DC-9F3A-8A6EA9D3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B75-D104-4D65-96CD-FDFC2B5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E27-9143-4801-9A65-E6DC1518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B3A-649A-4DD8-B303-47430E48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167-1E97-43FA-9A63-930768F0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AC87-32E8-447B-A322-3A7B90F6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992-0547-4BA1-94DC-C65C99A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A0A-4622-4027-A50A-79120788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1517-765D-4EF9-8F72-90F07FF3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3453-7F66-44D4-9F26-A9D29BB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5559-B4E4-4B94-9303-D3BB744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E12-6249-474C-BA42-B86786E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A608-3AE0-4DF0-BEF0-7031651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208-BEC6-4C1B-A020-F2EA92B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78F-5AC8-4252-BEC1-3DADF23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B38-D676-4AC6-9D20-F6BC98FC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15DC-FF22-4CC4-B843-24998273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34F-8C15-4092-AC35-39F4A371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50A-280E-49A3-A6E1-8682342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AB8-367D-417C-BE70-D61F27C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B6-DEAD-4500-8950-076EEDA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302-A5EE-4F34-B5AE-4C71A7F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2E5-FB0C-432A-B4FF-8394F09D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4C4-C56A-4FB5-800D-393A72A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D377-78D9-4067-A0BF-21632F4E97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78E-C205-48EB-882F-0E9106439C3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agioli%20sulla%20testa.doc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catena%20amicizia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APPRENDIMENTO COOPERATIV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8183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consegne per il gruppo base</a:t>
            </a:r>
            <a:br>
              <a:rPr sz="20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spieghi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verifichi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intetizzi attraverso una mappa o con altra modal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Segnaposto testo 3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36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QUESTIONARIO DI CONTROLL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definireste il concetto d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dipendenza positi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i di interdipenden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ono caratterizzare un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comportamenti che facilitano l’attività di collaborazion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azione promozio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è l’importanza dell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lavoro di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signific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sabilità individu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uò essere ottenuta in u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uppo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 3 domande che possano essere di guida per un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isione dell’attività di grup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909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RIPENSANDO ALL’ESERCIT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952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e misura i principi dell’apprendimento cooperativo sono stati “giocati” nell’attivi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è  stato significativo nella sessione di studi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otreste riutilizzare questa struttura di lavoro nella vostra prassi didattic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886200"/>
            <a:ext cx="4038480" cy="838080"/>
          </a:xfrm>
          <a:prstGeom prst="rect">
            <a:avLst/>
          </a:prstGeom>
          <a:solidFill>
            <a:srgbClr val="1c21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nsa, discuti in coppia, condivi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BREVE STORIA DEL C.L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ecurso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inamiche di gruppo e interdipendenz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cuola e società democra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aticabilità didattica delle idee di Deuts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362320"/>
            <a:ext cx="2209680" cy="1218960"/>
          </a:xfrm>
          <a:prstGeom prst="wedgeRoundRectCallout">
            <a:avLst>
              <a:gd name="adj1" fmla="val -50217"/>
              <a:gd name="adj2" fmla="val -3997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.Le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.Lippi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.Deut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95680"/>
            <a:ext cx="1752840" cy="685800"/>
          </a:xfrm>
          <a:prstGeom prst="wedgeRoundRectCallout">
            <a:avLst>
              <a:gd name="adj1" fmla="val 28532"/>
              <a:gd name="adj2" fmla="val -418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 John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04920"/>
            <a:ext cx="2209680" cy="1295280"/>
          </a:xfrm>
          <a:prstGeom prst="wedgeRoundRectCallout">
            <a:avLst>
              <a:gd name="adj1" fmla="val -26291"/>
              <a:gd name="adj2" fmla="val 3737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.B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 Lanc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.Par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429000"/>
            <a:ext cx="1828800" cy="609480"/>
          </a:xfrm>
          <a:prstGeom prst="wedgeRoundRectCallout">
            <a:avLst>
              <a:gd name="adj1" fmla="val -48435"/>
              <a:gd name="adj2" fmla="val -182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Dew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560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 gioco per inizi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4419720" cy="12956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he cosa è diverso questo gio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petto a una versione tradiziona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abilità e percezio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  promuover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5718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066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560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156060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 menu per il grup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362320"/>
            <a:ext cx="327672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a inte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uove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a 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4290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1905120" cy="916920"/>
          </a:xfrm>
          <a:prstGeom prst="rect">
            <a:avLst/>
          </a:prstGeom>
          <a:solidFill>
            <a:srgbClr val="427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rgio, Marta, Giu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248520" y="17524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menu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menu1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59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239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60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ESERCITA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mpet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individuali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ope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7480" y="2895480"/>
            <a:ext cx="662940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vi siete sentiti emotiv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e tre divers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Quali elementi hanno diversificato le tr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724280"/>
            <a:ext cx="29718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4952880"/>
            <a:ext cx="1752480" cy="838440"/>
          </a:xfrm>
          <a:prstGeom prst="wedgeRectCallout">
            <a:avLst>
              <a:gd name="adj1" fmla="val 60870"/>
              <a:gd name="adj2" fmla="val 1041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9520" y="563832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685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… mettete le teste insie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abilità sociali sono coinvolte in questa struttu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curatevi che nella risposta ci siano le idee di tut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NI è applicabile a diversi contesti disciplina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83808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e076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000" y="563868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270160" y="1103400"/>
            <a:ext cx="5807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38360" y="6858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 competenze trasversali possono essere sviluppate attraverso l’apprendimento coopera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181160" y="2438280"/>
            <a:ext cx="67816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municazione: parlato asco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l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Negozi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267080"/>
            <a:ext cx="28195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REVIS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segna un termometro con tacche da 1 a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gna la temperatura dell’incontr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nfrontate le tempera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vostro gruppo e datevi le motivazion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e-57606-57-pide-000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27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</a:t>
            </a:r>
            <a:br>
              <a:rPr sz="3600"/>
            </a:b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progetto per il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781360"/>
            <a:ext cx="3886200" cy="1295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livelli di interdipendenz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o prese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organizzazione dell’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390920" cy="106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, per finire, … una cat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78918559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7280" y="2819520"/>
            <a:ext cx="3124440" cy="1981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obiettivo può av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’attività di questo tip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si collega ai princi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ativ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6095880" y="1066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Che cos’è </a:t>
            </a:r>
            <a:br>
              <a:rPr sz="3200"/>
            </a:b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l’apprendimento cooperativ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575080" y="1027080"/>
            <a:ext cx="53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 a mediazione 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54100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8520" y="5409720"/>
            <a:ext cx="816444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5562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1219320"/>
            <a:ext cx="6345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orizzazione della relazione tra pa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33520"/>
            <a:ext cx="6553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endere insi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537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1981080"/>
            <a:ext cx="7086600" cy="113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ile di insegnamento che sollecita il   coinvolgimento attivo di tutti gli studen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ttività comu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429000"/>
            <a:ext cx="3353040" cy="1981080"/>
          </a:xfrm>
          <a:prstGeom prst="wedgeRectCallout">
            <a:avLst>
              <a:gd name="adj1" fmla="val -32384"/>
              <a:gd name="adj2" fmla="val 1001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orse il maggior beneficio è che, quando viene usato effettivamente, nessuno studente è ignorato o emarginato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Wood, Algozzine e Ave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183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AT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133720"/>
            <a:ext cx="3886200" cy="3352680"/>
          </a:xfrm>
          <a:prstGeom prst="wedgeRectCallout">
            <a:avLst>
              <a:gd name="adj1" fmla="val -79046"/>
              <a:gd name="adj2" fmla="val -24666"/>
            </a:avLst>
          </a:prstGeom>
          <a:solidFill>
            <a:srgbClr val="f89d42"/>
          </a:solidFill>
          <a:ln w="936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TR00539_" descr="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762120" y="1752480"/>
            <a:ext cx="186840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5240" y="2514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e ascolto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ve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pongo  dom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disc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appl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inseg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57200"/>
            <a:ext cx="3886200" cy="1143000"/>
          </a:xfrm>
          <a:prstGeom prst="wedgeRectCallout">
            <a:avLst>
              <a:gd name="adj1" fmla="val -38601"/>
              <a:gd name="adj2" fmla="val 51527"/>
            </a:avLst>
          </a:prstGeom>
          <a:solidFill>
            <a:srgbClr val="f89d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Conoscenze iner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NO, grazi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fida maggiore investe i docenti di tutte le discipline che devono ricercare e valorizzare i contenuti,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 di rel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utazione degli apprendi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e maggiormente favorisco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tecipaz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involg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alunni, la percezione di star bene a scuola, la consapevolezza di essere in una comunità che accoglie, che mette in pratica le regole del vivere civile e soci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tadinanza e Costituzione, Documento di indiriz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Segnaposto titolo 12" descr=""/>
          <p:cNvPicPr/>
          <p:nvPr/>
        </p:nvPicPr>
        <p:blipFill>
          <a:blip r:embed="rId1"/>
          <a:stretch/>
        </p:blipFill>
        <p:spPr>
          <a:xfrm>
            <a:off x="3362400" y="5181480"/>
            <a:ext cx="24192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UNA DEFINI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9520" y="456840"/>
            <a:ext cx="818352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uò definire il Cooperative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e un insiem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tecnich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i conduzione della clas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base alle qu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li studenti lavora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iccoli gruppi eterogen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attività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cevono una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ndividu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risultati conseguit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it-IT" sz="2800" spc="-1" strike="noStrike">
                <a:solidFill>
                  <a:srgbClr val="ff6903"/>
                </a:solidFill>
                <a:latin typeface="Verdana"/>
              </a:rPr>
              <a:t>PRINCIPI FONDAMENTALI DELL’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530280"/>
            <a:ext cx="7924680" cy="335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faccia fac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 apprendimento delle 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pers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vis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743200"/>
            <a:ext cx="2590920" cy="1371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Jigs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consegne per i gruppi di esperti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5937120" cy="4187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ndividuino e si esamini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tt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ament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concretizzino i concetti e si trovi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reparino del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verificare l’apprendimento dei membri del gruppo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propria spieg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Segnaposto testo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17T11:22:52Z</dcterms:modified>
  <cp:revision>92</cp:revision>
  <dc:subject/>
  <dc:title>GESTIRE LA CLASSE COMUNITA’ DI APPRENDIMENTO</dc:title>
</cp:coreProperties>
</file>