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8.wmf" ContentType="image/x-wmf"/>
  <Override PartName="/ppt/media/image11.png" ContentType="image/png"/>
  <Override PartName="/ppt/media/image6.wmf" ContentType="image/x-wmf"/>
  <Override PartName="/ppt/media/image9.png" ContentType="image/png"/>
  <Override PartName="/ppt/media/image7.wmf" ContentType="image/x-wmf"/>
  <Override PartName="/ppt/media/image10.png" ContentType="image/png"/>
  <Override PartName="/ppt/media/image5.png" ContentType="image/png"/>
  <Override PartName="/ppt/media/image22.jpeg" ContentType="image/jpeg"/>
  <Override PartName="/ppt/media/image14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EBCD-5227-4ABC-8E46-5F84E16B7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5A8A-6DAC-494A-82B3-CAFCFB86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C8CF-14A7-49A6-A4CF-4D960CEC9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11D6-F001-41C0-B9D9-EA7F258DD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6A18-CC86-4309-A240-A2742DE0F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6750-907C-4620-99CB-E245B2D2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F958-50E5-48DD-A9BA-17A55E09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F50B-BFE7-4981-94DD-3E5D13E9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F5E3-D674-4ED2-A808-699330D7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0A5D-8D59-4015-9069-7BD3FA64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7E55-F926-4705-8391-B80479DF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5A0B-9869-49DF-9645-C49669F8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9013-C503-496C-86F8-BEEAA8DE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79D3-7974-44CB-988F-32C39666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4907-DB69-4A77-952A-A341DA79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E4E1-9A17-4E24-BB7E-596E06343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0C62-F938-4793-9853-18F40D773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FC71-B5AD-4E48-B14C-C2557C22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B0EC-F66D-4DAF-97C7-E481C4F7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3DA0-C8C8-41E6-AFB2-4759B5BB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3AEC-FC27-437C-9F1A-105729E3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0D63-3C95-4B7C-83E9-E459AF43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6D87-1265-4171-910F-65F65EE1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682E-24F6-413D-ABE4-561DCDFA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F3D1-BDA9-45F7-B456-3B708E06879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1A98-E98D-4F16-B136-39A0863DCFF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file:///fagioli%20sulla%20testa.doc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file:///catena%20amicizia.doc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6903"/>
                </a:solidFill>
                <a:latin typeface="Verdana"/>
              </a:rPr>
              <a:t>APPRENDIMENTO COOPERATIVO 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13880" y="4500720"/>
            <a:ext cx="7667640" cy="1442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Taverne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Anna Segreto                                                   20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5257800"/>
            <a:ext cx="818352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6903"/>
                </a:solidFill>
                <a:latin typeface="Verdana"/>
              </a:rPr>
              <a:t>JIGSAW</a:t>
            </a:r>
            <a:br>
              <a:rPr sz="2800"/>
            </a:br>
            <a:r>
              <a:rPr b="1" lang="en-US" sz="2800" spc="-1" strike="noStrike">
                <a:solidFill>
                  <a:srgbClr val="ff6903"/>
                </a:solidFill>
                <a:latin typeface="Verdana"/>
              </a:rPr>
              <a:t>consegne per il gruppo base</a:t>
            </a:r>
            <a:br>
              <a:rPr sz="2000"/>
            </a:b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228600"/>
            <a:ext cx="5184720" cy="4680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i si spieghi vicendevolmente il materiale di stud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i si verifichi l’un l’altro la comprensione, ponendo doman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sintetizzi attraverso una mappa o con altra modalità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Segnaposto testo 3" descr=""/>
          <p:cNvPicPr/>
          <p:nvPr/>
        </p:nvPicPr>
        <p:blipFill>
          <a:blip r:embed="rId1"/>
          <a:stretch/>
        </p:blipFill>
        <p:spPr>
          <a:xfrm>
            <a:off x="6400800" y="1981080"/>
            <a:ext cx="236232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79520" y="5562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903"/>
                </a:solidFill>
                <a:latin typeface="Verdana"/>
              </a:rPr>
              <a:t>QUESTIONARIO DI CONTROLLO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42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182880" rIns="90000" tIns="9144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 definireste il concetto di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terdipendenza positiv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 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ipi di interdipendenz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ssono caratterizzare un gruppo?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 sono i comportamenti che facilitano l’attività di collaborazione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terazione promozion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?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 è l’importanza delle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bilità social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l lavoro di gruppo?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 cosa signific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sponsabilità individu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 può essere ottenuta in u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ruppo clas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ula  3 domande che possano essere di guida per un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visione dell’attività di grupp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772400" y="152280"/>
            <a:ext cx="90972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903"/>
                </a:solidFill>
                <a:latin typeface="Verdana"/>
              </a:rPr>
              <a:t>RIPENSANDO ALL’ESERCITAZIONE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79520" y="533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he misura i principi dell’apprendimento cooperativo sono stati “giocati” nell’attivit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 cosa è  stato significativo nella sessione di studi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 potreste riutilizzare questa struttura di lavoro nella vostra prassi didattic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3886200"/>
            <a:ext cx="4038480" cy="838080"/>
          </a:xfrm>
          <a:prstGeom prst="rect">
            <a:avLst/>
          </a:prstGeom>
          <a:solidFill>
            <a:srgbClr val="1c21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ensa, discuti in coppia, condivid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79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903"/>
                </a:solidFill>
                <a:latin typeface="Verdana"/>
              </a:rPr>
              <a:t>BREVE STORIA DEL C.L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Precursor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Dinamiche di gruppo e interdipendenz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Scuola e società democratic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Praticabilità didattica delle idee di Deutsch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6477120" y="2362320"/>
            <a:ext cx="2209680" cy="1218960"/>
          </a:xfrm>
          <a:prstGeom prst="wedgeRoundRectCallout">
            <a:avLst>
              <a:gd name="adj1" fmla="val -50217"/>
              <a:gd name="adj2" fmla="val -39972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K.Lew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.Lippit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.Deuts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4495680"/>
            <a:ext cx="1752840" cy="685800"/>
          </a:xfrm>
          <a:prstGeom prst="wedgeRoundRectCallout">
            <a:avLst>
              <a:gd name="adj1" fmla="val 28532"/>
              <a:gd name="adj2" fmla="val -41898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. Johns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590920" y="304920"/>
            <a:ext cx="2209680" cy="1295280"/>
          </a:xfrm>
          <a:prstGeom prst="wedgeRoundRectCallout">
            <a:avLst>
              <a:gd name="adj1" fmla="val -26291"/>
              <a:gd name="adj2" fmla="val 37379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.Be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J. Lancas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.Park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3429000"/>
            <a:ext cx="1828800" cy="609480"/>
          </a:xfrm>
          <a:prstGeom prst="wedgeRoundRectCallout">
            <a:avLst>
              <a:gd name="adj1" fmla="val -48435"/>
              <a:gd name="adj2" fmla="val -1824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J.Dewe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6903"/>
                </a:solidFill>
                <a:latin typeface="Verdana"/>
              </a:rPr>
              <a:t>I PRINCIPI IN AZION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1560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Un gioco per inizi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2666880"/>
            <a:ext cx="4419720" cy="129564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he cosa è diverso questo gioc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petto a una versione tradizionale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 abilità e percezion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nde  promuovere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62120" y="257184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77120" y="10666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79520" y="54100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6903"/>
                </a:solidFill>
                <a:latin typeface="Verdana"/>
              </a:rPr>
              <a:t>I PRINCIPI IN AZION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1905120" y="156060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2270160" y="1560600"/>
            <a:ext cx="52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Un menu per il grupp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5715000" y="2362320"/>
            <a:ext cx="3276720" cy="18288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 cosa intend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muover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a attività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4038480" cy="33526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057400" y="342900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3429000"/>
            <a:ext cx="1905120" cy="916920"/>
          </a:xfrm>
          <a:prstGeom prst="rect">
            <a:avLst/>
          </a:prstGeom>
          <a:solidFill>
            <a:srgbClr val="427a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orgio, Marta, Giul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6248520" y="175248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menu2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477120"/>
          </a:xfrm>
          <a:prstGeom prst="rect">
            <a:avLst/>
          </a:prstGeom>
          <a:ln w="0">
            <a:noFill/>
          </a:ln>
        </p:spPr>
      </p:pic>
      <p:pic>
        <p:nvPicPr>
          <p:cNvPr id="156" name="menu1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79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e05b00"/>
                </a:solidFill>
                <a:latin typeface="Verdana"/>
              </a:rPr>
              <a:t>FACILITARE L’APPRENDIMENTO ATTRAVERSO </a:t>
            </a:r>
            <a:br>
              <a:rPr sz="2600"/>
            </a:br>
            <a:r>
              <a:rPr b="1" lang="it-IT" sz="2600" spc="-1" strike="noStrike">
                <a:solidFill>
                  <a:srgbClr val="e05b00"/>
                </a:solidFill>
                <a:latin typeface="Verdana"/>
              </a:rPr>
              <a:t>L’INTERAZIONE SIMULTANEA</a:t>
            </a:r>
            <a:endParaRPr b="1" lang="en-US" sz="2600" spc="-1" strike="noStrike">
              <a:solidFill>
                <a:srgbClr val="ff8d3e"/>
              </a:solidFill>
              <a:latin typeface="Verdana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304920"/>
            <a:ext cx="8001000" cy="4114440"/>
            <a:chOff x="380880" y="304920"/>
            <a:chExt cx="8001000" cy="4114440"/>
          </a:xfrm>
        </p:grpSpPr>
        <p:sp>
          <p:nvSpPr>
            <p:cNvPr id="159" name=""/>
            <p:cNvSpPr/>
            <p:nvPr/>
          </p:nvSpPr>
          <p:spPr>
            <a:xfrm>
              <a:off x="723600" y="3733920"/>
              <a:ext cx="182880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AZIONE SEQUENZIAL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81280" y="3733920"/>
              <a:ext cx="182880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AZION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MULTANEA IN GRUPPI DI 4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3080" y="3733920"/>
              <a:ext cx="182880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AZIONE SIMULTANEA IN COPPIA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86720" y="288792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52480" y="279648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26800" y="252216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301120" y="22478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92560" y="188208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6455000">
              <a:off x="2293920" y="152208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6455000">
              <a:off x="2040840" y="122796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6455000">
              <a:off x="1787400" y="93348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6455000">
              <a:off x="1386720" y="8762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1020960" y="28310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746640" y="255672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2320" y="228240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380880" y="19166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 rot="5145000">
              <a:off x="478800" y="155556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 rot="5145000">
              <a:off x="732240" y="12614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 rot="5145000">
              <a:off x="985680" y="96732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9644600">
              <a:off x="1752480" y="2740320"/>
              <a:ext cx="91440" cy="91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86720" y="2362320"/>
              <a:ext cx="548640" cy="251280"/>
            </a:xfrm>
            <a:prstGeom prst="wedgeRoundRectCallout">
              <a:avLst>
                <a:gd name="adj1" fmla="val -1157"/>
                <a:gd name="adj2" fmla="val 9924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28000" y="105300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28000" y="144072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12920" y="144072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12920" y="105300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5400000">
              <a:off x="3818520" y="1150200"/>
              <a:ext cx="96840" cy="96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22040" y="647640"/>
              <a:ext cx="581760" cy="307800"/>
            </a:xfrm>
            <a:prstGeom prst="wedgeRoundRectCallout">
              <a:avLst>
                <a:gd name="adj1" fmla="val -24671"/>
                <a:gd name="adj2" fmla="val 10051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5400000">
              <a:off x="3818160" y="2604960"/>
              <a:ext cx="97200" cy="96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28000" y="2507760"/>
              <a:ext cx="290880" cy="29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28000" y="289584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12920" y="289584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12920" y="2507760"/>
              <a:ext cx="290880" cy="29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22040" y="2133720"/>
              <a:ext cx="581760" cy="276840"/>
            </a:xfrm>
            <a:prstGeom prst="wedgeRoundRectCallout">
              <a:avLst>
                <a:gd name="adj1" fmla="val -24671"/>
                <a:gd name="adj2" fmla="val 10619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91160" y="1053000"/>
              <a:ext cx="29124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91160" y="1440720"/>
              <a:ext cx="29124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76440" y="1440720"/>
              <a:ext cx="29052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76440" y="1053000"/>
              <a:ext cx="29052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5400000">
              <a:off x="4982400" y="1150200"/>
              <a:ext cx="96840" cy="96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85560" y="647640"/>
              <a:ext cx="581400" cy="307800"/>
            </a:xfrm>
            <a:prstGeom prst="wedgeRoundRectCallout">
              <a:avLst>
                <a:gd name="adj1" fmla="val -24671"/>
                <a:gd name="adj2" fmla="val 10051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91160" y="2507760"/>
              <a:ext cx="290520" cy="29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91160" y="2895840"/>
              <a:ext cx="29052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76440" y="2895840"/>
              <a:ext cx="29052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176440" y="2507760"/>
              <a:ext cx="290520" cy="29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5400000">
              <a:off x="4982040" y="2604960"/>
              <a:ext cx="97200" cy="97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85560" y="2133720"/>
              <a:ext cx="581400" cy="276840"/>
            </a:xfrm>
            <a:prstGeom prst="wedgeRoundRectCallout">
              <a:avLst>
                <a:gd name="adj1" fmla="val -24671"/>
                <a:gd name="adj2" fmla="val 10619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53080" y="7009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022880" y="7009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5400000">
              <a:off x="6834600" y="794880"/>
              <a:ext cx="9360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41000" y="304920"/>
              <a:ext cx="563760" cy="302040"/>
            </a:xfrm>
            <a:prstGeom prst="wedgeRoundRectCallout">
              <a:avLst>
                <a:gd name="adj1" fmla="val -24773"/>
                <a:gd name="adj2" fmla="val 100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7022160" y="150120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6552360" y="150120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rot="16200000">
              <a:off x="6918840" y="1585440"/>
              <a:ext cx="113760" cy="93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6553080" y="1104840"/>
              <a:ext cx="563760" cy="302040"/>
            </a:xfrm>
            <a:prstGeom prst="wedgeRoundRectCallout">
              <a:avLst>
                <a:gd name="adj1" fmla="val -24666"/>
                <a:gd name="adj2" fmla="val 9957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53080" y="2301480"/>
              <a:ext cx="281880" cy="281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22880" y="2301480"/>
              <a:ext cx="281880" cy="281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5400000">
              <a:off x="6834600" y="2395440"/>
              <a:ext cx="9396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41000" y="1905120"/>
              <a:ext cx="563760" cy="302040"/>
            </a:xfrm>
            <a:prstGeom prst="wedgeRoundRectCallout">
              <a:avLst>
                <a:gd name="adj1" fmla="val -24773"/>
                <a:gd name="adj2" fmla="val 100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7022160" y="31093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6552360" y="31093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rot="16200000">
              <a:off x="6928560" y="3202920"/>
              <a:ext cx="93960" cy="93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553080" y="2705040"/>
              <a:ext cx="563760" cy="309600"/>
            </a:xfrm>
            <a:prstGeom prst="wedgeRoundRectCallout">
              <a:avLst>
                <a:gd name="adj1" fmla="val -24666"/>
                <a:gd name="adj2" fmla="val 9856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87360" y="7009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057520" y="7009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5400000">
              <a:off x="7868880" y="794880"/>
              <a:ext cx="9360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775640" y="304920"/>
              <a:ext cx="563760" cy="302040"/>
            </a:xfrm>
            <a:prstGeom prst="wedgeRoundRectCallout">
              <a:avLst>
                <a:gd name="adj1" fmla="val -24773"/>
                <a:gd name="adj2" fmla="val 100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8056800" y="150120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7586640" y="150120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rot="16200000">
              <a:off x="7952400" y="1585080"/>
              <a:ext cx="11376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7587360" y="1104840"/>
              <a:ext cx="563760" cy="302040"/>
            </a:xfrm>
            <a:prstGeom prst="wedgeRoundRectCallout">
              <a:avLst>
                <a:gd name="adj1" fmla="val -24666"/>
                <a:gd name="adj2" fmla="val 9957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87360" y="2301480"/>
              <a:ext cx="281880" cy="281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057520" y="2301480"/>
              <a:ext cx="281880" cy="281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7868880" y="2395440"/>
              <a:ext cx="9396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775640" y="1905120"/>
              <a:ext cx="563760" cy="302040"/>
            </a:xfrm>
            <a:prstGeom prst="wedgeRoundRectCallout">
              <a:avLst>
                <a:gd name="adj1" fmla="val -24773"/>
                <a:gd name="adj2" fmla="val 100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8056800" y="31093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586640" y="31093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rot="16200000">
              <a:off x="7962480" y="3202920"/>
              <a:ext cx="9396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7587360" y="2705040"/>
              <a:ext cx="563760" cy="309600"/>
            </a:xfrm>
            <a:prstGeom prst="wedgeRoundRectCallout">
              <a:avLst>
                <a:gd name="adj1" fmla="val -24666"/>
                <a:gd name="adj2" fmla="val 9856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79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e05b00"/>
                </a:solidFill>
                <a:latin typeface="Verdana"/>
              </a:rPr>
              <a:t>FACILITARE L’APPRENDIMENTO ATTRAVERSO L’EQUA PARTECIPAZIONE</a:t>
            </a:r>
            <a:endParaRPr b="1" lang="en-US" sz="2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"/>
          <p:cNvSpPr/>
          <p:nvPr/>
        </p:nvSpPr>
        <p:spPr>
          <a:xfrm>
            <a:off x="304920" y="1371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400040" y="457200"/>
            <a:ext cx="6343920" cy="3772080"/>
            <a:chOff x="1400040" y="457200"/>
            <a:chExt cx="6343920" cy="3772080"/>
          </a:xfrm>
        </p:grpSpPr>
        <p:sp>
          <p:nvSpPr>
            <p:cNvPr id="239" name=""/>
            <p:cNvSpPr/>
            <p:nvPr/>
          </p:nvSpPr>
          <p:spPr>
            <a:xfrm>
              <a:off x="4886280" y="3543480"/>
              <a:ext cx="1828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PARI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LIVELLO DI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PARTECIPAZION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1400040" y="1485720"/>
              <a:ext cx="3019320" cy="2742840"/>
              <a:chOff x="1400040" y="1485720"/>
              <a:chExt cx="3019320" cy="2742840"/>
            </a:xfrm>
          </p:grpSpPr>
          <p:pic>
            <p:nvPicPr>
              <p:cNvPr id="24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485800" y="2771640"/>
                <a:ext cx="685800" cy="59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28800" y="2714400"/>
                <a:ext cx="79056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"/>
              <p:cNvSpPr/>
              <p:nvPr/>
            </p:nvSpPr>
            <p:spPr>
              <a:xfrm>
                <a:off x="2371320" y="3543120"/>
                <a:ext cx="1828800" cy="6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Black"/>
                  </a:rPr>
                  <a:t>DISUGUALE LIVELLO DI PARTECIPAZION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599920" y="1485720"/>
                <a:ext cx="1371600" cy="848160"/>
              </a:xfrm>
              <a:prstGeom prst="wedgeRoundRectCallout">
                <a:avLst>
                  <a:gd name="adj1" fmla="val -15925"/>
                  <a:gd name="adj2" fmla="val 87273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Red, white, yellow,pink, green, black, 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285720" y="2400120"/>
                <a:ext cx="548640" cy="251280"/>
              </a:xfrm>
              <a:prstGeom prst="wedgeRoundRectCallout">
                <a:avLst>
                  <a:gd name="adj1" fmla="val -347"/>
                  <a:gd name="adj2" fmla="val 115402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400040" y="1714320"/>
                <a:ext cx="1142640" cy="848160"/>
              </a:xfrm>
              <a:prstGeom prst="wedgeRoundRectCallout">
                <a:avLst>
                  <a:gd name="adj1" fmla="val -64944"/>
                  <a:gd name="adj2" fmla="val 90643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avorando con un tuo compagno 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247" name="" descr=""/>
            <p:cNvPicPr/>
            <p:nvPr/>
          </p:nvPicPr>
          <p:blipFill>
            <a:blip r:embed="rId3"/>
            <a:stretch/>
          </p:blipFill>
          <p:spPr>
            <a:xfrm>
              <a:off x="4886280" y="2705040"/>
              <a:ext cx="68544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4"/>
            <a:stretch/>
          </p:blipFill>
          <p:spPr>
            <a:xfrm>
              <a:off x="591516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6600960" y="2019240"/>
              <a:ext cx="1143000" cy="505440"/>
            </a:xfrm>
            <a:prstGeom prst="wedgeRoundRectCallout">
              <a:avLst>
                <a:gd name="adj1" fmla="val 70888"/>
                <a:gd name="adj2" fmla="val 12387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 e B a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urno ……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71800" y="457200"/>
              <a:ext cx="914400" cy="342720"/>
            </a:xfrm>
            <a:prstGeom prst="wedgeRoundRectCallout">
              <a:avLst>
                <a:gd name="adj1" fmla="val -15972"/>
                <a:gd name="adj2" fmla="val 14611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800680" y="685440"/>
              <a:ext cx="914400" cy="342720"/>
            </a:xfrm>
            <a:prstGeom prst="wedgeRoundRectCallout">
              <a:avLst>
                <a:gd name="adj1" fmla="val -10138"/>
                <a:gd name="adj2" fmla="val 20185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57680" y="1142640"/>
              <a:ext cx="914400" cy="342720"/>
            </a:xfrm>
            <a:prstGeom prst="wedgeRoundRectCallout">
              <a:avLst>
                <a:gd name="adj1" fmla="val -24722"/>
                <a:gd name="adj2" fmla="val 15462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ellow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686200" y="1590480"/>
              <a:ext cx="914400" cy="342720"/>
            </a:xfrm>
            <a:prstGeom prst="wedgeRoundRectCallout">
              <a:avLst>
                <a:gd name="adj1" fmla="val -10138"/>
                <a:gd name="adj2" fmla="val 1490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Pink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3200" y="1828800"/>
              <a:ext cx="914400" cy="342720"/>
            </a:xfrm>
            <a:prstGeom prst="wedgeRoundRectCallout">
              <a:avLst>
                <a:gd name="adj1" fmla="val 25277"/>
                <a:gd name="adj2" fmla="val 21018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een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57960" y="2286000"/>
              <a:ext cx="914400" cy="342720"/>
            </a:xfrm>
            <a:prstGeom prst="wedgeRoundRectCallout">
              <a:avLst>
                <a:gd name="adj1" fmla="val 30486"/>
                <a:gd name="adj2" fmla="val 990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lack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4419720" y="380880"/>
            <a:ext cx="4724280" cy="4343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79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e05b00"/>
                </a:solidFill>
                <a:latin typeface="Verdana"/>
              </a:rPr>
              <a:t>FACILITARE L’APPRENDIMENTO ATTRAVERSO L’EQUA PARTECIPAZIONE</a:t>
            </a:r>
            <a:endParaRPr b="1" lang="en-US" sz="2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1371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400040" y="533520"/>
            <a:ext cx="6343920" cy="3771720"/>
            <a:chOff x="1400040" y="533520"/>
            <a:chExt cx="6343920" cy="3771720"/>
          </a:xfrm>
        </p:grpSpPr>
        <p:sp>
          <p:nvSpPr>
            <p:cNvPr id="260" name=""/>
            <p:cNvSpPr/>
            <p:nvPr/>
          </p:nvSpPr>
          <p:spPr>
            <a:xfrm>
              <a:off x="4886280" y="3619440"/>
              <a:ext cx="1828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PARI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LIVELLO DI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PARTECIPAZION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1400040" y="1562040"/>
              <a:ext cx="3019320" cy="2742840"/>
              <a:chOff x="1400040" y="1562040"/>
              <a:chExt cx="3019320" cy="2742840"/>
            </a:xfrm>
          </p:grpSpPr>
          <p:pic>
            <p:nvPicPr>
              <p:cNvPr id="26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485800" y="2847960"/>
                <a:ext cx="685800" cy="59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28800" y="2790720"/>
                <a:ext cx="79056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"/>
              <p:cNvSpPr/>
              <p:nvPr/>
            </p:nvSpPr>
            <p:spPr>
              <a:xfrm>
                <a:off x="2371320" y="3619440"/>
                <a:ext cx="1828800" cy="6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Black"/>
                  </a:rPr>
                  <a:t>DISUGUALE LIVELLO DI PARTECIPAZION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599920" y="1562040"/>
                <a:ext cx="1371600" cy="848160"/>
              </a:xfrm>
              <a:prstGeom prst="wedgeRoundRectCallout">
                <a:avLst>
                  <a:gd name="adj1" fmla="val -15925"/>
                  <a:gd name="adj2" fmla="val 87273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Red, white, yellow,pink, green, black, 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285720" y="2476440"/>
                <a:ext cx="548640" cy="251280"/>
              </a:xfrm>
              <a:prstGeom prst="wedgeRoundRectCallout">
                <a:avLst>
                  <a:gd name="adj1" fmla="val -347"/>
                  <a:gd name="adj2" fmla="val 115402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400040" y="1790640"/>
                <a:ext cx="1142640" cy="848160"/>
              </a:xfrm>
              <a:prstGeom prst="wedgeRoundRectCallout">
                <a:avLst>
                  <a:gd name="adj1" fmla="val -64944"/>
                  <a:gd name="adj2" fmla="val 90643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avorando con un tuo compagno 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268" name="" descr=""/>
            <p:cNvPicPr/>
            <p:nvPr/>
          </p:nvPicPr>
          <p:blipFill>
            <a:blip r:embed="rId3"/>
            <a:stretch/>
          </p:blipFill>
          <p:spPr>
            <a:xfrm>
              <a:off x="4886280" y="2781360"/>
              <a:ext cx="68544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4"/>
            <a:stretch/>
          </p:blipFill>
          <p:spPr>
            <a:xfrm>
              <a:off x="5915160" y="278136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6600960" y="2095560"/>
              <a:ext cx="1143000" cy="505440"/>
            </a:xfrm>
            <a:prstGeom prst="wedgeRoundRectCallout">
              <a:avLst>
                <a:gd name="adj1" fmla="val 70888"/>
                <a:gd name="adj2" fmla="val 12387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 e B a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urno ……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771800" y="533520"/>
              <a:ext cx="914400" cy="342720"/>
            </a:xfrm>
            <a:prstGeom prst="wedgeRoundRectCallout">
              <a:avLst>
                <a:gd name="adj1" fmla="val -15972"/>
                <a:gd name="adj2" fmla="val 14611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00680" y="761760"/>
              <a:ext cx="914400" cy="342720"/>
            </a:xfrm>
            <a:prstGeom prst="wedgeRoundRectCallout">
              <a:avLst>
                <a:gd name="adj1" fmla="val -10138"/>
                <a:gd name="adj2" fmla="val 20185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57680" y="1218960"/>
              <a:ext cx="914400" cy="342720"/>
            </a:xfrm>
            <a:prstGeom prst="wedgeRoundRectCallout">
              <a:avLst>
                <a:gd name="adj1" fmla="val -24722"/>
                <a:gd name="adj2" fmla="val 15462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ellow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686200" y="1666800"/>
              <a:ext cx="914400" cy="342720"/>
            </a:xfrm>
            <a:prstGeom prst="wedgeRoundRectCallout">
              <a:avLst>
                <a:gd name="adj1" fmla="val -10138"/>
                <a:gd name="adj2" fmla="val 1490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Pink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543200" y="1905120"/>
              <a:ext cx="914400" cy="342720"/>
            </a:xfrm>
            <a:prstGeom prst="wedgeRoundRectCallout">
              <a:avLst>
                <a:gd name="adj1" fmla="val 25277"/>
                <a:gd name="adj2" fmla="val 21018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een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457960" y="2362320"/>
              <a:ext cx="914400" cy="342720"/>
            </a:xfrm>
            <a:prstGeom prst="wedgeRoundRectCallout">
              <a:avLst>
                <a:gd name="adj1" fmla="val 30486"/>
                <a:gd name="adj2" fmla="val 990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lack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903"/>
                </a:solidFill>
                <a:latin typeface="Verdana"/>
              </a:rPr>
              <a:t>ESERCITAZION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endimento competit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endimento individualisti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endimento cooperat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257480" y="2895480"/>
            <a:ext cx="6629400" cy="18288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 vi siete sentiti emotivam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lle tre diverse situazioni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Quali elementi hanno diversificato le tre situazioni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4724280"/>
            <a:ext cx="297180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este numerate insie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79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05b00"/>
                </a:solidFill>
                <a:latin typeface="Verdana"/>
              </a:rPr>
              <a:t>STRUTTUR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35120" y="1828440"/>
            <a:ext cx="76723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approccio strutturale è  basato sulla definizion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 modi semplici per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trutturar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terazion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gli studenti in compiti di apprendimen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gn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truttura,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combinandosi con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ntenut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versi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re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ttività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vers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Segnaposto testo 3" descr=""/>
          <p:cNvPicPr/>
          <p:nvPr/>
        </p:nvPicPr>
        <p:blipFill>
          <a:blip r:embed="rId1"/>
          <a:stretch/>
        </p:blipFill>
        <p:spPr>
          <a:xfrm>
            <a:off x="6156360" y="0"/>
            <a:ext cx="2808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79520" y="54100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5b00"/>
                </a:solidFill>
                <a:latin typeface="Verdana"/>
              </a:rPr>
              <a:t>ESEMPIO DI STRUTTURA 1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79520" y="1644120"/>
            <a:ext cx="8183520" cy="3567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ate una definizione di INTERAZIONE SIMULTANE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he cosa si intende per PARTECIPAZIONE EQU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Qual è la differenza tra STRUTTURA e ATTIVITA’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me l’insegnante potrebbe favorire l’attivazione della RESPONSABILITA’ INDIVIDUAL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4191120" y="380880"/>
            <a:ext cx="4952880" cy="762120"/>
          </a:xfrm>
          <a:prstGeom prst="wedgeRectCallout">
            <a:avLst>
              <a:gd name="adj1" fmla="val -54231"/>
              <a:gd name="adj2" fmla="val 26666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cisione per consulto di grup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enne al centro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4952880"/>
            <a:ext cx="1752480" cy="838440"/>
          </a:xfrm>
          <a:prstGeom prst="wedgeRectCallout">
            <a:avLst>
              <a:gd name="adj1" fmla="val 60870"/>
              <a:gd name="adj2" fmla="val 10416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cheda di confro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79520" y="5638320"/>
            <a:ext cx="81835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5b00"/>
                </a:solidFill>
                <a:latin typeface="Verdana"/>
              </a:rPr>
              <a:t>ESEMPIO DI STRUTTURA 2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71320" y="6858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ali processi cognitivi TNI può attivar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Pensate individualmente, poi … mettete le teste insiem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ali abilità sociali sono coinvolte in questa struttur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Assicuratevi che nella risposta ci siano le idee di tutt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che misura TNI può modificare il clima di clas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Discutete finché trovate una risposta di sintesi condivis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NI è applicabile a diversi contesti disciplinar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Supportatevi reciprocamente in modo che ciascuno riesca a fare un esemp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6172200" y="838080"/>
            <a:ext cx="2743200" cy="762120"/>
          </a:xfrm>
          <a:prstGeom prst="wedgeRectCallout">
            <a:avLst>
              <a:gd name="adj1" fmla="val 57986"/>
              <a:gd name="adj2" fmla="val -7708"/>
            </a:avLst>
          </a:prstGeom>
          <a:solidFill>
            <a:srgbClr val="e076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ste numerate insie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440000" y="5638680"/>
            <a:ext cx="62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7f09"/>
                </a:solidFill>
                <a:latin typeface="Verdana"/>
              </a:rPr>
              <a:t>RIFLESSI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2270160" y="1103400"/>
            <a:ext cx="5807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1638360" y="685800"/>
            <a:ext cx="58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li competenze trasversali possono essere sviluppate attraverso l’apprendimento cooperativ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1181160" y="2438280"/>
            <a:ext cx="678168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1" lang="en-US" sz="2000" spc="-1" strike="noStrike">
                <a:solidFill>
                  <a:srgbClr val="f07f09"/>
                </a:solidFill>
                <a:latin typeface="Arial"/>
              </a:rPr>
              <a:t>Comunicazione: parlato ascol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1" lang="en-US" sz="2000" spc="-1" strike="noStrike">
                <a:solidFill>
                  <a:srgbClr val="f07f0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07f09"/>
                </a:solidFill>
                <a:latin typeface="Arial"/>
              </a:rPr>
              <a:t>Collabor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1" lang="en-US" sz="2000" spc="-1" strike="noStrike">
                <a:solidFill>
                  <a:srgbClr val="f07f0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07f09"/>
                </a:solidFill>
                <a:latin typeface="Arial"/>
              </a:rPr>
              <a:t>Autonom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1" lang="en-US" sz="2000" spc="-1" strike="noStrike">
                <a:solidFill>
                  <a:srgbClr val="f07f0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07f09"/>
                </a:solidFill>
                <a:latin typeface="Arial"/>
              </a:rPr>
              <a:t>Abilità soci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1" lang="en-US" sz="2000" spc="-1" strike="noStrike">
                <a:solidFill>
                  <a:srgbClr val="f07f0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07f09"/>
                </a:solidFill>
                <a:latin typeface="Arial"/>
              </a:rPr>
              <a:t>Negozi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1" lang="en-US" sz="2000" spc="-1" strike="noStrike">
                <a:solidFill>
                  <a:srgbClr val="f07f09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ebdings"/>
                <a:ea typeface="Webdings"/>
              </a:rPr>
              <a:t></a:t>
            </a:r>
            <a:r>
              <a:rPr b="1" lang="en-US" sz="2000" spc="-1" strike="noStrike">
                <a:solidFill>
                  <a:srgbClr val="f07f09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172200" y="4267080"/>
            <a:ext cx="2819520" cy="9907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ecff"/>
                </a:solidFill>
                <a:latin typeface="Arial"/>
              </a:rPr>
              <a:t>Teste numerate insie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79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903"/>
                </a:solidFill>
                <a:latin typeface="Verdana"/>
              </a:rPr>
              <a:t>QUESTIONING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a domanda che vorrei porre è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dividuale e di grup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3657600" y="26668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5b00"/>
                </a:solidFill>
                <a:latin typeface="Verdana"/>
              </a:rPr>
              <a:t>REVISION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Termomet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Disegna un termometro con tacche da 1 a 10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Segna la temperatura dell’incontr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Confrontate le tempera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nel vostro gruppo e datevi le motivazioni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e-57606-57-pide-000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127944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6903"/>
                </a:solidFill>
                <a:latin typeface="Verdana"/>
              </a:rPr>
              <a:t>I PRINCIPI </a:t>
            </a:r>
            <a:br>
              <a:rPr sz="3600"/>
            </a:br>
            <a:r>
              <a:rPr b="1" lang="it-IT" sz="3600" spc="-1" strike="noStrike">
                <a:solidFill>
                  <a:srgbClr val="ff6903"/>
                </a:solidFill>
                <a:latin typeface="Verdana"/>
              </a:rPr>
              <a:t>IN AZION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0" name=""/>
          <p:cNvSpPr/>
          <p:nvPr/>
        </p:nvSpPr>
        <p:spPr>
          <a:xfrm>
            <a:off x="2514600" y="15238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Un progetto per il grup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"/>
          <p:cNvSpPr/>
          <p:nvPr/>
        </p:nvSpPr>
        <p:spPr>
          <a:xfrm>
            <a:off x="4952880" y="2781360"/>
            <a:ext cx="3886200" cy="12952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 livelli di interdipendenz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no present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ll’organizzazione dell’attività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4390920" cy="1060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79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903"/>
                </a:solidFill>
                <a:latin typeface="Verdana"/>
              </a:rPr>
              <a:t>I PRINCIPI IN AZION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, per finire, … una cate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789185592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5715000" cy="312408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5867280" y="2819520"/>
            <a:ext cx="3124440" cy="198108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 obiettivo può ave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’attività di questo tipo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e si collega ai princip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l’apprendiment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perativo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">
            <a:hlinkClick r:id="rId2"/>
          </p:cNvPr>
          <p:cNvSpPr/>
          <p:nvPr/>
        </p:nvSpPr>
        <p:spPr>
          <a:xfrm>
            <a:off x="6095880" y="1066680"/>
            <a:ext cx="976320" cy="381240"/>
          </a:xfrm>
          <a:prstGeom prst="rightArrow">
            <a:avLst>
              <a:gd name="adj1" fmla="val 50000"/>
              <a:gd name="adj2" fmla="val 64023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6903"/>
                </a:solidFill>
                <a:latin typeface="Verdana"/>
              </a:rPr>
              <a:t>Che cos’è </a:t>
            </a:r>
            <a:br>
              <a:rPr sz="3200"/>
            </a:br>
            <a:r>
              <a:rPr b="1" lang="it-IT" sz="3200" spc="-1" strike="noStrike">
                <a:solidFill>
                  <a:srgbClr val="ff6903"/>
                </a:solidFill>
                <a:latin typeface="Verdana"/>
              </a:rPr>
              <a:t>l’apprendimento cooperativo?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2575080" y="1027080"/>
            <a:ext cx="53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odo a mediazione soci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429000" y="1447920"/>
            <a:ext cx="541008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88520" y="5409720"/>
            <a:ext cx="816444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903"/>
                </a:solidFill>
                <a:latin typeface="Verdana"/>
              </a:rPr>
              <a:t>APPRENDIMENTO COOPERATIVO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55627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398600" y="1219320"/>
            <a:ext cx="6345360" cy="429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alorizzazione della relazione tra par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533520"/>
            <a:ext cx="6553440" cy="429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rendere insie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45370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028880" y="1981080"/>
            <a:ext cx="7086600" cy="1130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ile di insegnamento che sollecita il   coinvolgimento attivo di tutti gli studenti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attività comun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3429000"/>
            <a:ext cx="3353040" cy="1981080"/>
          </a:xfrm>
          <a:prstGeom prst="wedgeRectCallout">
            <a:avLst>
              <a:gd name="adj1" fmla="val -32384"/>
              <a:gd name="adj2" fmla="val 10013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Forse il maggior beneficio è che, quando viene usato effettivamente, nessuno studente è ignorato o emarginato</a:t>
            </a:r>
            <a:r>
              <a:rPr b="1" i="1" lang="it-IT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Wood, Algozzine e Avet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818352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903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ff6903"/>
                </a:solidFill>
                <a:latin typeface="Verdana"/>
              </a:rPr>
              <a:t>APPRENDIMENTO ATTIVO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2133720"/>
            <a:ext cx="3886200" cy="3352680"/>
          </a:xfrm>
          <a:prstGeom prst="wedgeRectCallout">
            <a:avLst>
              <a:gd name="adj1" fmla="val -79046"/>
              <a:gd name="adj2" fmla="val -24666"/>
            </a:avLst>
          </a:prstGeom>
          <a:solidFill>
            <a:srgbClr val="f89d42"/>
          </a:solidFill>
          <a:ln w="936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TR00539_" descr=""/>
          <p:cNvPicPr/>
          <p:nvPr/>
        </p:nvPicPr>
        <p:blipFill>
          <a:blip r:embed="rId1"/>
          <a:srcRect l="-7270" t="-4228" r="0" b="52311"/>
          <a:stretch/>
        </p:blipFill>
        <p:spPr>
          <a:xfrm>
            <a:off x="762120" y="1752480"/>
            <a:ext cx="1868400" cy="2819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025240" y="2514600"/>
            <a:ext cx="18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Se ascolto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28954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… </a:t>
            </a: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ve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27672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… </a:t>
            </a: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pongo  doman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… </a:t>
            </a: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discu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40384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… </a:t>
            </a: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appli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4419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… </a:t>
            </a:r>
            <a:r>
              <a:rPr b="0" lang="en-US" sz="2400" spc="-1" strike="noStrike">
                <a:solidFill>
                  <a:srgbClr val="003399"/>
                </a:solidFill>
                <a:latin typeface="Verdana"/>
              </a:rPr>
              <a:t>inseg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457200"/>
            <a:ext cx="3886200" cy="1143000"/>
          </a:xfrm>
          <a:prstGeom prst="wedgeRectCallout">
            <a:avLst>
              <a:gd name="adj1" fmla="val -38601"/>
              <a:gd name="adj2" fmla="val 51527"/>
            </a:avLst>
          </a:prstGeom>
          <a:solidFill>
            <a:srgbClr val="f89d4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487"/>
                </a:solidFill>
                <a:latin typeface="Times New Roman"/>
              </a:rPr>
              <a:t>Conoscenze inerti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487"/>
                </a:solidFill>
                <a:latin typeface="Times New Roman"/>
              </a:rPr>
              <a:t>NO, grazi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sfida maggiore investe i docenti di tutte le discipline che devono ricercare e valorizzare i contenuti, l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todologi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 l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me di relazion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alutazione degli apprendiment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he maggiormente favoriscon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tecipazion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 il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involgiment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gli alunni, la percezione di star bene a scuola, la consapevolezza di essere in una comunità che accoglie, che mette in pratica le regole del vivere civile e socia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ittadinanza e Costituzione, Documento di indirizz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Segnaposto titolo 12" descr=""/>
          <p:cNvPicPr/>
          <p:nvPr/>
        </p:nvPicPr>
        <p:blipFill>
          <a:blip r:embed="rId1"/>
          <a:stretch/>
        </p:blipFill>
        <p:spPr>
          <a:xfrm>
            <a:off x="3362400" y="5181480"/>
            <a:ext cx="2419200" cy="10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6903"/>
                </a:solidFill>
                <a:latin typeface="Verdana"/>
              </a:rPr>
              <a:t>UNA DEFINIZION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9520" y="456840"/>
            <a:ext cx="8183520" cy="418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Si può definire il Cooperative Learn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come un insieme di </a:t>
            </a:r>
            <a:r>
              <a:rPr b="1" i="1" lang="it-IT" sz="2200" spc="-1" strike="noStrike">
                <a:solidFill>
                  <a:srgbClr val="000000"/>
                </a:solidFill>
                <a:latin typeface="Arial"/>
              </a:rPr>
              <a:t>principi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 di </a:t>
            </a:r>
            <a:r>
              <a:rPr b="1" i="1" lang="it-IT" sz="2200" spc="-1" strike="noStrike">
                <a:solidFill>
                  <a:srgbClr val="000000"/>
                </a:solidFill>
                <a:latin typeface="Arial"/>
              </a:rPr>
              <a:t>tecnich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di conduzione della clas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n base alle qua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gli studenti lavorano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i="1" lang="it-IT" sz="2200" spc="-1" strike="noStrike">
                <a:solidFill>
                  <a:srgbClr val="000000"/>
                </a:solidFill>
                <a:latin typeface="Arial"/>
              </a:rPr>
              <a:t>piccoli gruppi eterogene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er attività di </a:t>
            </a:r>
            <a:r>
              <a:rPr b="1" i="1" lang="it-IT" sz="2200" spc="-1" strike="noStrike">
                <a:solidFill>
                  <a:srgbClr val="000000"/>
                </a:solidFill>
                <a:latin typeface="Arial"/>
              </a:rPr>
              <a:t>apprendimen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ricevono una </a:t>
            </a:r>
            <a:r>
              <a:rPr b="1" i="1" lang="it-IT" sz="2200" spc="-1" strike="noStrike">
                <a:solidFill>
                  <a:srgbClr val="000000"/>
                </a:solidFill>
                <a:latin typeface="Arial"/>
              </a:rPr>
              <a:t>valutazion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2200" spc="-1" strike="noStrike">
                <a:solidFill>
                  <a:srgbClr val="000000"/>
                </a:solidFill>
                <a:latin typeface="Arial"/>
              </a:rPr>
              <a:t>individual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dei risultati conseguiti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it-IT" sz="2800" spc="-1" strike="noStrike">
                <a:solidFill>
                  <a:srgbClr val="ff6903"/>
                </a:solidFill>
                <a:latin typeface="Verdana"/>
              </a:rPr>
              <a:t>PRINCIPI FONDAMENTALI DELL’APPRENDIMENTO COOPERATIVO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530280"/>
            <a:ext cx="7924680" cy="335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erazione faccia fac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erdipendenza positi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segnamento apprendimento delle abilità soci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Responsabilità person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Revis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2743200"/>
            <a:ext cx="2590920" cy="1371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ecff"/>
                </a:solidFill>
                <a:latin typeface="Arial"/>
              </a:rPr>
              <a:t>Jigsa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800" spc="-1" strike="noStrike">
                <a:solidFill>
                  <a:srgbClr val="ff6903"/>
                </a:solidFill>
                <a:latin typeface="Verdana"/>
              </a:rPr>
              <a:t>JIGSAW</a:t>
            </a:r>
            <a:br>
              <a:rPr sz="2800"/>
            </a:br>
            <a:r>
              <a:rPr b="1" lang="en-US" sz="2800" spc="-1" strike="noStrike">
                <a:solidFill>
                  <a:srgbClr val="ff6903"/>
                </a:solidFill>
                <a:latin typeface="Verdana"/>
              </a:rPr>
              <a:t> consegne per i gruppi di esperti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5937120" cy="4187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individuino e si esaminino 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ett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damental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concretizzino i concetti e si trovin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emp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 si accordi sul modo più efficace p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ieg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preparino del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mand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verificare l’apprendimento dei membri del gruppo ba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urno si faccia un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ulazio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la propria spiegazio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Segnaposto testo 3" descr=""/>
          <p:cNvPicPr/>
          <p:nvPr/>
        </p:nvPicPr>
        <p:blipFill>
          <a:blip r:embed="rId1"/>
          <a:stretch/>
        </p:blipFill>
        <p:spPr>
          <a:xfrm>
            <a:off x="6372360" y="2205000"/>
            <a:ext cx="2376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20:05:28Z</dcterms:created>
  <dc:creator>Francy</dc:creator>
  <dc:description/>
  <dc:language>en-US</dc:language>
  <cp:lastModifiedBy>anna</cp:lastModifiedBy>
  <dcterms:modified xsi:type="dcterms:W3CDTF">2011-03-17T11:22:52Z</dcterms:modified>
  <cp:revision>92</cp:revision>
  <dc:subject/>
  <dc:title>GESTIRE LA CLASSE COMUNITA’ DI APPRENDIMENTO</dc:title>
</cp:coreProperties>
</file>