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073-8455-4E6A-A809-D9EC239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491-CCA7-4759-A6C6-F6C3E4B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5F6-875B-4BD0-8577-37DC5987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3FC-4837-485C-9DB9-FF8B5300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18C-EF21-46EF-907A-AD6FD9FF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B265-7D42-4AD5-B83D-7F85138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4766-2D67-4344-AA6B-88DA7B8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0841-E588-41D6-9736-AC8D7EC6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A39E-6DFB-463C-A687-637060A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ADEB-3CB7-4644-BCB6-07B10C6F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604F-02CB-46DD-A03A-622EA0A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468-BBD9-4F60-ACD2-CB88CD68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3D1-1B0F-42D1-BCBB-646DBA1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3613-BA51-47C1-846F-4485F7D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062-6CE5-4F22-AC54-19D60E3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E9F0-F4E8-4BCC-A459-5244F7E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20A4-D1B1-4A34-85C8-EF8D28EC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E735-99CE-4A9C-979C-B5110029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F71C-E6E2-4D5D-B166-FB9DDCD5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A47E-6102-4662-97DA-2194D671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CC8C-0E0D-44AA-92D7-4926756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E77C-D588-464E-9933-B3DD5845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3E9-2952-4D0E-AEA5-F16274F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020B-736F-4186-AD14-189CF86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C19D-7560-4D02-8560-B71C8222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8265-9A8F-455B-80B6-8314D17F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6522-8606-4ECA-98CB-3A6494E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4717-DA12-439A-8005-E9F22BF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231C-FD25-43D4-A01E-7E9C0961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ADAE1-56FF-4CEF-8C13-5FFD5BD7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3F0BA-9BA2-4C7B-80D4-A99CFE7E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2E3C-6A5E-4A4C-AE22-13CD140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65F8-588E-48FB-B767-F80F4F6C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218-D2BC-4F56-BF15-D4633D8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275F-506E-4847-A901-CF594AE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F674-678A-40DD-B506-66255573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62761-11D6-4B04-9A3F-17C09D41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3523-37BA-4DB9-A717-27A0867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D401-1603-4CCB-8E27-2930864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65EC-161E-4249-82E1-76E589D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CDB9-2106-4982-A8FB-AD7DC089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F9AE-09E8-4BC4-9EC8-1415C212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E390-CB3D-43E7-8BBC-40FF8B83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E5B0-6AD3-4D7B-B7A6-9952234C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98A-D142-48FF-BFD6-8BFD20B6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E5A5-F4B7-4346-A08E-1ABC5D55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EADD-FBF8-4EE6-8A77-5AF044A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003D-6852-45E3-96BE-992B59D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B6AC-394F-4F44-9A38-43D52B2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E0B1-8100-458C-AB02-D537EB1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74E3-730A-4D89-A946-F59E5DE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9A89-3196-4936-BDCF-956972EF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A2ED-8F46-4C9D-A4B9-3F1D7FD4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5365-FC6A-43B7-8981-44C98FA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ED1C-ED4C-489E-8491-8E503001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B6B-EE40-48B9-ABDE-FE69EDCB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BB42D-C040-40F0-A6D0-7C1DD5A3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322D-ACC6-4563-A2DB-F70C3298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EA3CC-F568-4338-A546-9EA2C459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AA96-BF3E-488D-B093-F3F5927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0FC9D-7B28-4DDD-A8DF-93E3533D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584D-4A02-4652-962E-45B4485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E8FE-13A9-4DED-B2B5-CE36B54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F1197-797B-40B6-B789-2741D380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1ED35-9F08-4A89-935F-04880D9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09FE-B92F-480E-B610-B6EC18F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2AB-6B12-4F39-89BB-366D716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54AA-A02C-4422-BEB1-6B3AD77B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2067-57EE-436A-8CAA-A55E5280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90C6D-EA15-480F-A4D9-76BA3F04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76DF-E533-4F48-918E-D988535C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B9C0-FF4B-43FE-95FD-652242D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AAC76-0481-40FA-996A-FB1CD5E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83B0-5D91-41ED-957D-17E49E2C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C8DA-9776-4166-B9F4-4BB1ADBB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70BC-CAB3-4B2F-B112-AF57A1A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54544-7A3C-4719-8EAF-911BD2B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A22-84DB-4DEA-956E-3746FE6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F1AD5-8517-43D8-83A5-71FE8B06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27467-F394-43A9-A329-189AC6E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38C7C-FA1D-4F2B-A41D-4C567FC6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012C-6747-4C6C-A577-413A34FA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53B0-7C68-4D15-A301-BD73CF9E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75414-B96F-460E-83C2-69AFC720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9E24-5587-45B7-89A9-59B0D92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AD6FA-CDE6-49BE-BABC-639B7170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CFDB-DC1E-4187-8E93-6BB78A3A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3CDC-7DED-4368-81A0-498DC53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0A3-6812-4358-9B56-09BD20D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853DC-656B-448A-A82C-ABD4BE6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25E01-C3A1-496C-8E8D-BE744DA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5354-92C1-44E9-91C5-1F3AB02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A8C9-87F7-4CCB-A017-891AB06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BA17-8221-4A50-B210-642A1F6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0FC2-1507-4F46-9C96-9E623577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C1ED4-521A-4E1A-B908-52094AF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4BD-B35C-4BCF-94B9-FD57DECF3AB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igura a mano liber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igura a mano liber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ttore 1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958-CE7A-4D71-B445-A3AB1B5BDE85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1F18-4F70-461C-BFBF-9D4D1FF50C8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802-37A7-405A-8EEA-974E98766BB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5C3B-8ACA-4878-884B-3E36AF9EE49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553B-2833-4CF4-BF2E-70ED7D0EE6A4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E9A-F310-4589-9560-30C6DBE6132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olo rettango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olo rettango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ttore 1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allone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A7D0-5BB1-4B4E-8864-244975AC51BF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NDICAZIONI NAZIONALI PER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L CURRICOLO DELLA SCUOL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DELL’INFANZIA E DEL PRIM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CICLO D’ISTRUZIO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</a:rPr>
              <a:t>(16 novembre 2012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rmanda Selva                                                                       18 marzo 201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7548-7B70-4963-9770-9C639C1D6F1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5653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 tre paragrafi vanno riletti con attenzione, anche se  sono  rimasti  pressoché invariati, perché costituiscono il fulcro del nostro fare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olo 4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73432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9E0-EE0B-4955-8C38-9F2CDD5752C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SCUOLA, COSTITUZIONE, EUR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La scuola italiana, statale e paritaria, svolge l’insostituibile funzione pubblica  assegnatale dealla Costituzione della Repubblica, per la formazione di ogni persona e la crescita civile e sociale del Paese”. (pag.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FE11-46BC-44BD-B6F9-BD9EF3D8FC8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 le responsabilità comuni dei docenti che operano nella scuola  con alunni dai tre ai quattordic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 le competenze - chiave indicate dal Parlamento europe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fende la peculiarità della ns. cultura pedagog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olo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240760" cy="2333520"/>
          </a:xfrm>
          <a:prstGeom prst="rect">
            <a:avLst/>
          </a:prstGeom>
          <a:ln w="0">
            <a:noFill/>
          </a:ln>
        </p:spPr>
      </p:pic>
      <p:sp>
        <p:nvSpPr>
          <p:cNvPr id="40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2F24-7602-4460-A393-A79BB02504A4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nd. Naz.li sono quadro di riferimento per la progettazione del curricolo affidata alle scu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costruzione del curricolo...processo con il quale si sviluppano e organizzano la ricerca e l’innovazione educ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gni scuola predispone il curricolo all’interno del POF con riferimento al profilo dello studente al termine del primo ciclo di istruzione (pag. 1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4F19-C13C-4DA5-9379-EE2F245C074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ura della valu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ertificazione delle compet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nza della diversità come valore irrinuncia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mento delle pratiche inclusi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articolare cura riservata agli allievi con disabilità o con 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cuola comunità educativa (studenti, docenti, genito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unità professionale dei doc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olo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710-2E10-457D-9BE6-070F0803CCB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 la funzione di evitare la frammentazione dei campi d’esperienza e di favorire il passaggio alla scuola primaria con particolare attenzione agli aspetti socio-emot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iflettere molto su questo paragra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olo 2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472600" cy="1450800"/>
          </a:xfrm>
          <a:prstGeom prst="rect">
            <a:avLst/>
          </a:prstGeom>
          <a:ln w="0">
            <a:noFill/>
          </a:ln>
        </p:spPr>
      </p:pic>
      <p:sp>
        <p:nvSpPr>
          <p:cNvPr id="417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DC4A-C6D6-41E5-AB42-291FC3093B4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flettere su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lfabetizzazione culturale di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ittadinanza e costit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mbiente di apprendi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a soprattutto su: 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’ambiente di apprendimento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mparare ad apprend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oraggiare l’apprendimento collaborativo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alizzar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ività didattich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 forma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boratori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AC03-9506-462D-AD01-754BB9211E7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 valut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sume una preminent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funzione formativ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di accompagnamento dei processi di apprendimento e di stimolo al miglioramento continu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2E16-3FAB-43F8-BE39-B225268481B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di crescita professionale attraverso la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ricerca-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centrato sulla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Matematica ,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più concreta delle discipline ( i concetti matematici, il calcolo, la misura... Sono presenti nella vita quotidiana di tutti gli uomi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per lo sviluppo di processi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pprendimento collabor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DF9-9819-40FD-AA76-EC6E6D8F39E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spetta all’autonomia didattica delle comunità professional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rogettare percorsi per la promozione, la rilevazione e la valutazione delle competenze. [...] Solo a seguito d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regolare osservazione, documentazione e valutazione delle competenze è possibile la loro certificazione,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petenza 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ompetenza esperta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 Pellere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182-72B4-4288-8276-36C370A5939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9 DEL 15 MARZO 1997- art.2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c.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275 dell’8 marzo 1999, cap. III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urricolo nell’autonomi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art.8 (definisce senso ne significato indicazioni, precisando ni compiti dello Stato e quelli delle singole Istituzioni Scolastich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3 del 28 marzo 2003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Morat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Lgs. 59 del 19 febbraio 2004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Allegati A, B, C, 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6E35-5AE4-4D59-8FB2-1D7368B1F8A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olo 6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686800" cy="1309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5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7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8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ivazione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buone pratiche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 un insegnamento – apprendimento efficace al fine di “forgiare individui autonomi e uomini liberi” (F. Sav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0BAF-EB61-4DB2-86D7-26746160D65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INDICAZIONI PER IL CURRICOLO PER LA SCUOLA DELL’INFANZIA E PER IL PRIMO CICLO D’ISTRUZIONE, 2007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o d’indirizz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nistro Gelmini dell’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settembre 2009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– Premessa –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89/2009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prevede la  revisione delle Indicazioni 2007 dopo il triennio 2009 –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101 del 4 novembre 201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avvio monitoragg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31del 18 april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splicita criteri di revis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CBA2-F5CB-44FD-9CEC-C912A9F79F8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Giugno 2012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pubblicazione “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Bozz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5 settembr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zione 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“Bozza“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rivista in base alle osservazioni di docenti, esperti 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26 novembre 2012: pubblic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fficial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NUOVE INDICAZION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itamente al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egolament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uativo (Min.o Profum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.N. sostituiscono i Piani di studio Personalizzati del 2004 (Moratti) e le I.N. del 2007 (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AEA-386F-429E-88E9-2DBE3561EFF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uovo docu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on è stato redatto ex-novo, ma è 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isultato della revisione delle Indicazioni 200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È  il frutto degli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iti del monitoraggio trienna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, della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sultazion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iretta delle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scuo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e del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tributo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egli 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perti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Delinea un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 nuovo scenar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6B82-8477-406D-BB79-6DF1B917544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LE NOVITÀ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Lucida Sans Unicode"/>
              </a:rPr>
              <a:t>FINALITÀ GENERALI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(le 8 competenze chiave per l’apprendimento permanente – Raccomandazioni del Parlamento europeo  e del Consiglio UE del 18 dicembre 2006; il profilo dello studente e delle competenze al termine del primo ciclo d’istruzione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ORGANIZZAZIONE DEL CURRICO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I CAMPI DI ESPERIENZ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DALLA SCUOLA DELL’INFANZIA ALLA PRIMA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041D-48A4-454A-81AF-198377FDCEE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CULTURA, SCUOLA,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 riflettere su INTERCULTURA e NUOVE TECNOLOGIE di informazione e comunicazione, confrontando il testo con quello del 200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I 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DOCENT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I: vale per tut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995E-2B85-4F92-8BEC-B01DCF64E80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 La scuola non ha più il monopolio delle informazioni e dei modi di apprendere [...] il fare scuola oggi significa mettere in relazione la complessità di modi radicalmente nuovi di apprendimento con un’opera quotidiana di guida  [....]. Al contempo significa curare e consolidare le competenze e i saperi di base, che sono irrinunciabili perché sono le fondamenta per l’uso consapevole del sapere diffuso...” ( 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078-C98D-4D9A-8B68-E104F69F690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olo 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molteplicità di culture e di lingue sono entrate nella scuola. L’intercultura è già oggi il modello che permette a tutti i bambini e ragazzi il riconoscimento reciproco e dell’identità di ciascuno. [...]La scuola raccoglie con successo una sfida universale, di apertura verso il mondo, di pratica dell’uguaglianza nel riconoscimento delle differenze.” (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CB1-88AE-4A95-998D-405FDBDC5C08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46:01Z</dcterms:created>
  <dc:creator>Armanda2</dc:creator>
  <dc:description/>
  <dc:language>en-US</dc:language>
  <cp:lastModifiedBy>Toshiba</cp:lastModifiedBy>
  <dcterms:modified xsi:type="dcterms:W3CDTF">2014-04-05T04:49:01Z</dcterms:modified>
  <cp:revision>54</cp:revision>
  <dc:subject/>
  <dc:title>INSERIMENTO SCOLASTICO ALUNNI STRANIERI</dc:title>
</cp:coreProperties>
</file>