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8E4-D4F6-47D0-86A3-311B1AE4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450-4A2C-4525-8818-9BE1DC5A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E6-83E9-4FD9-93AB-4791893E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75F-C74F-429D-9D26-E65F598C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96A-5CC9-4ABE-A94E-E6B9F53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114-4910-46B0-AE81-DBEE888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CD0D-FC59-417A-82F4-5B298E79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D7BC-8DF4-47D2-A65A-805CD74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763-6EB6-4A57-AADD-C4E4EA6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1FFB-0219-45CA-BF68-C13A4C5D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FCE-EA95-4222-B40F-4E421F3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B7D-727D-4CF2-BE70-E8BD381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9974-D1EE-4919-AC76-F00C570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287E-CA3E-4C75-806A-41CEF03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2ED3-0367-4DE6-9543-E4B303A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8EF2-7EC3-4DB8-8CB9-32BD9DC4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76EB-DF62-4858-9751-BA9211A3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7A01-5567-42EB-A095-401E261E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42D4-8017-490B-AEA5-2260D7C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6A7F-E193-43E0-A348-EE334A65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EFF8-BDA4-4AAD-893A-B12155A6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DD37-144F-4CE1-8ECF-87013E4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A43-9BBA-47EE-8266-498F507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DD88-81F9-4AC5-86BF-F7F45167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A872-FB0C-4013-9CF2-657707BE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62BB-4B63-4B39-805C-2877D98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C2C3-D041-4842-916A-28BE92E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5E8F-0D2A-4D8F-876D-D0257817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33FE-F92B-4F91-ABDD-D0A672EB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E821-EA6A-464F-8E33-920AE0FB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5C41-9E61-4EC0-862C-5FBBA047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6E92-DA93-4C49-A796-A27F4A2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B1342-6DEE-4AC7-8677-21CE154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71A-A346-4FD6-8212-2FD0DC0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47C3-923B-4297-823A-F5C0BD38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00ACD-F673-465E-B33F-8E39CFA3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DA6D-DCB5-4EA2-AB8A-D7CD99A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FE25-43DD-49F8-94FD-C5514DC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71BB-B961-408A-8BF0-5901220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1B591-8965-411C-9639-B96044C1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71D5-D6E6-430F-9AAD-5D28DCC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F6D3-E6C9-42CF-852B-F939CD27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4ED9-3BD0-47DA-B85F-23E8FD33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B128-6315-495D-A597-3F448EEF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BED-495F-4C97-96C9-D46E75A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2788-267D-4618-A96A-2F40D3D1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DE1DF-4CBB-493F-91F5-6D11CA5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C068-8119-4F37-9DAE-60FCE29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8AB3-048E-403E-BB34-1FA7666C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7C75-34CC-403B-BDA4-E842DB24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64CF-4D6A-4A72-89A2-B98FE3D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8371-2AA8-48ED-9CE7-63283E3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3C05-369B-4D01-B5E4-20BF1F8E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6E73-9FC8-476C-9D79-F52FD4D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21AD-B8C7-441E-9FB7-5679797F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827-B66A-4390-A68E-0988E1E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2361A-83B7-4F3E-86CB-84AAD91D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C77E-1345-4DD9-9B29-1FC90B04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3E84A-8829-40AA-93ED-E22A0FC4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C65E4-F0A7-44A7-8C97-5D7C10B4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30C55-6E8A-43C5-8B8D-173210E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51374-3E32-4080-BA92-9976874F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76CE-FEB4-4000-B1D3-91F6666C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E791-92B1-4D95-90DC-F5416E29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C36C-5A42-4B0F-A8D9-6CCD8E5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92D0-ACEE-4863-9961-A915A87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79B-EFE8-4CF6-B171-A51846D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4A1D-A899-4E08-9889-3051B5A6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E4D2-860D-409F-A1C3-40C597DE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A7E0-29AA-4E46-ACA1-6F74CD74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73DC-2648-40AD-941F-2F07DA2F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B044-38E9-407E-AF6C-F78C8B45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BB71A-9576-4967-9018-02F3C49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B51E-D411-4AE5-9DD9-96C9FB07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600CF-6FF3-4436-8645-90F087F8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EDFE-6AAC-4290-A22B-CEC4199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1F82-D204-440F-B6FC-D46E701B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AC0-AB56-45E4-8295-2B23055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DF794-2DBF-493F-A6ED-370A634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B10B-72AE-4E7D-BF09-1951A0E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DD21-F8EE-41FC-A1F2-C9F13B1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1024-8E2C-46B9-A5A7-8CB7B31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D0AA-A69A-4CD5-B77F-9782477D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AEEE8-DFD7-46C1-B8F3-1F4BD8D5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68392-B8E4-4E6B-9DA0-0A99784D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EF63D-28FB-4DE4-877D-30C2247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3B303-A78B-4C92-9EA3-0AB48DB4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74E0-139E-4A54-B6A1-C5C15185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0F3-86A7-4775-BBEB-4C8BDA4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00549-832D-4E7B-A42D-A998057F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E794-6591-492C-980E-40455A2D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27A45-457D-4932-815D-A4A06ADC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F083-D9D1-4E21-8F96-E3E2FF2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1C5E9-9976-4403-9A77-3040124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E0E82-570C-4E55-8915-C9528525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4C67-403E-43BE-B6FE-68A4624B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39F6-E30D-49F7-92A6-E4A7C449352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igura a mano liber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igura a mano liber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nettore 1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9BDB-0DE0-4D6F-93B4-10D46D0B2D00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allone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D01-27DA-40F5-A3A8-6977339949D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8884-1319-427D-BEA8-34805EB8E26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2BB0-EA6C-4127-993B-5A814268447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F899-3D44-46CF-AF18-83851CD2520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DE1-0330-44D2-A038-BFCC2D267FF4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angolo rettango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olo rettango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nettore 1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Gallone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D374-837C-422D-B2D3-ED6D0D51055E}" type="slidenum">
              <a:rPr b="0" lang="it-IT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NDICAZIONI NAZIONALI PER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IL CURRICOLO DELLA SCUOL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DELL’INFANZIA E DEL PRIM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Lucida Sans Unicode"/>
              </a:rPr>
              <a:t>CICLO D’ISTRUZIO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</a:rPr>
              <a:t>(16 novembre 2012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Armanda Selva                                                                       18 marzo 2014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F1FB-EAEF-4391-8448-BE7FD3CDF0F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56536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 tre paragrafi vanno riletti con attenzione, anche se  sono  rimasti  pressoché invariati, perché costituiscono il fulcro del nostro fare scuo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olo 4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734320" cy="3529080"/>
          </a:xfrm>
          <a:prstGeom prst="rect">
            <a:avLst/>
          </a:prstGeom>
          <a:ln w="0">
            <a:noFill/>
          </a:ln>
        </p:spPr>
      </p:pic>
      <p:sp>
        <p:nvSpPr>
          <p:cNvPr id="402" name="Segnaposto numero diapositiva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A6C-8AF2-479E-9934-FB3E662AD0F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SCUOLA, COSTITUZIONE, EUR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 “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La scuola italiana, statale e paritaria, svolge l’insostituibile funzione pubblica  assegnatale dealla Costituzione della Repubblica, per la formazione di ogni persona e la crescita civile e sociale del Paese”. (pag.13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5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06E-CC1D-42B5-A56B-DD6F27C3E2CB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 le responsabilità comuni dei docenti che operano nella scuola  con alunni dai tre ai quattordici ann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 le competenze - chiave indicate dal Parlamento europe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Difende la peculiarità della ns. cultura pedagog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olo 2" descr=""/>
          <p:cNvPicPr/>
          <p:nvPr/>
        </p:nvPicPr>
        <p:blipFill>
          <a:blip r:embed="rId1"/>
          <a:stretch/>
        </p:blipFill>
        <p:spPr>
          <a:xfrm>
            <a:off x="317520" y="165240"/>
            <a:ext cx="8240760" cy="2333520"/>
          </a:xfrm>
          <a:prstGeom prst="rect">
            <a:avLst/>
          </a:prstGeom>
          <a:ln w="0">
            <a:noFill/>
          </a:ln>
        </p:spPr>
      </p:pic>
      <p:sp>
        <p:nvSpPr>
          <p:cNvPr id="408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45DE-3390-429B-9B8C-07DDD85382CE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nd. Naz.li sono quadro di riferimento per la progettazione del curricolo affidata alle scuo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costruzione del curricolo...processo con il quale si sviluppano e organizzano la ricerca e l’innovazione educativ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gni scuola predispone il curricolo all’interno del POF con riferimento al profilo dello studente al termine del primo ciclo di istruzione (pag. 1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411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3B9C-6922-4CA2-A573-FA8B888E25B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ultura della valu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ertificazione delle competen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ccoglienza della diversità come valore irrinunciab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nsolidamento delle pratiche inclusi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articolare cura riservata agli allievi con disabilità o con B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cuola comunità educativa (studenti, docenti, genitor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unità professionale dei docen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olo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414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A6EC-1AB0-43D4-8C26-6AA21B38F793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 la funzione di evitare la frammentazione dei campi d’esperienza e di favorire il passaggio alla scuola primaria con particolare attenzione agli aspetti socio-emotiv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iflettere molto su questo paragraf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Titolo 2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472600" cy="1450800"/>
          </a:xfrm>
          <a:prstGeom prst="rect">
            <a:avLst/>
          </a:prstGeom>
          <a:ln w="0">
            <a:noFill/>
          </a:ln>
        </p:spPr>
      </p:pic>
      <p:sp>
        <p:nvSpPr>
          <p:cNvPr id="417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8ED-7103-4ADA-B8DB-6665C89BF47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iflettere su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lfabetizzazione culturale di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ittadinanza e costitu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’ambiente di apprendimen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a soprattutto su: 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’ambiente di apprendimento</a:t>
            </a:r>
            <a:r>
              <a:rPr b="0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mparare ad apprend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r>
              <a:rPr b="1" lang="es-E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coraggiare l’apprendimento collaborativo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alizzar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ività didattich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 forma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boratori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306-AB80-4FFC-AE91-ECB6177AF047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a valut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ssume una preminent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funzione formativ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di accompagnamento dei processi di apprendimento e di stimolo al miglioramento continuo.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9551-E316-44CB-8500-B0EFA90F0F7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di crescita professionale attraverso la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 ricerca-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centrato sulla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Matematica ,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 più concreta delle discipline ( i concetti matematici, il calcolo, la misura... Sono presenti nella vita quotidiana di tutti gli uomi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Occasione per lo sviluppo di processi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pprendimento collaborativ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234-E8E9-46E7-91CA-57A7A4959B5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spetta all’autonomia didattica delle comunità professional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progettare percorsi per la promozione, la rilevazione e la valutazione delle competenze. [...] Solo a seguito d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regolare osservazione, documentazione e valutazione delle competenze è possibile la loro certificazione,..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ompetenza 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ompetenza esperta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 Pellere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FC1-23F3-4F28-96F6-1C8B04874CF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9 DEL 15 MARZO 1997- art.2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c.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275 dell’8 marzo 1999, cap. III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urricolo nell’autonomia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, art.8 (definisce senso ne significato indicazioni, precisando ni compiti dello Stato e quelli delle singole Istituzioni Scolastich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Legge 53 del 28 marzo 2003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Morat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Lgs. 59 del 19 febbraio 2004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Allegati A, B, C, 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DBC-93FA-440A-8F72-A5A4F15A4B75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Titolo 6" descr=""/>
          <p:cNvPicPr/>
          <p:nvPr/>
        </p:nvPicPr>
        <p:blipFill>
          <a:blip r:embed="rId1"/>
          <a:stretch/>
        </p:blipFill>
        <p:spPr>
          <a:xfrm>
            <a:off x="317520" y="-109440"/>
            <a:ext cx="8686800" cy="1309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3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5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7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8"/>
          <a:stretch/>
        </p:blipFill>
        <p:spPr>
          <a:xfrm>
            <a:off x="-4680" y="3424320"/>
            <a:ext cx="9153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ivazione di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buone pratiche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 un insegnamento – apprendimento efficace al fine di “forgiare individui autonomi e uomini liberi” (F. Savat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olo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7DA-1C16-42AF-80E7-598EEF9C8E3F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INDICAZIONI PER IL CURRICOLO PER LA SCUOLA DELL’INFANZIA E PER IL PRIMO CICLO D’ISTRUZIONE, 2007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(Min.o 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Atto d’indirizz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inistro Gelmini dell’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settembre 2009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– Premessa –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D.P.R. 89/2009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prevede la  revisione delle Indicazioni 2007 dopo il triennio 2009 –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101 del 4 novembre 2011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avvio monitoraggi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C.M. N. 31del 18 april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esplicita criteri di revis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65F7-27B9-490A-8D7E-9EAAF5FA50C1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Giugno 2012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: pubblicazione “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Bozza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5 settembre 2012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pubblicazione </a:t>
            </a:r>
            <a:r>
              <a:rPr b="1" lang="it-IT" sz="2700" spc="-1" strike="noStrike">
                <a:solidFill>
                  <a:srgbClr val="000000"/>
                </a:solidFill>
                <a:latin typeface="Lucida Sans Unicode"/>
              </a:rPr>
              <a:t>“Bozza“ 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rivista in base alle osservazioni di docenti, esperti 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26 novembre 2012: pubblicazione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fficiale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NUOVE INDICAZIONI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itamente al </a:t>
            </a:r>
            <a:r>
              <a:rPr b="1" lang="es-ES" sz="2700" spc="-1" strike="noStrike">
                <a:solidFill>
                  <a:srgbClr val="000000"/>
                </a:solidFill>
                <a:latin typeface="Lucida Sans Unicode"/>
              </a:rPr>
              <a:t>Regolamento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ttuativo (Min.o Profum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e I.N. sostituiscono i Piani di studio Personalizzati del 2004 (Moratti) e le I.N. del 2007 (Fioron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6518-4F46-412E-895E-A2375E9B5AE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3964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Quind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nuovo documento </a:t>
            </a:r>
            <a:r>
              <a:rPr b="0" lang="it-IT" sz="2800" spc="-1" strike="noStrike">
                <a:solidFill>
                  <a:srgbClr val="000000"/>
                </a:solidFill>
                <a:latin typeface="Lucida Sans Unicode"/>
              </a:rPr>
              <a:t>non è stato redatto ex-novo, ma è il </a:t>
            </a:r>
            <a:r>
              <a:rPr b="1" lang="it-IT" sz="2800" spc="-1" strike="noStrike">
                <a:solidFill>
                  <a:srgbClr val="000000"/>
                </a:solidFill>
                <a:latin typeface="Lucida Sans Unicode"/>
              </a:rPr>
              <a:t>risultato della revisione delle Indicazioni 2007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È  il frutto degli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iti del monitoraggio trienna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, della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sultazion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iretta delle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scuole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e del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contributo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degli 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esperti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Delinea un </a:t>
            </a:r>
            <a:r>
              <a:rPr b="1" lang="es-ES" sz="2800" spc="-1" strike="noStrike">
                <a:solidFill>
                  <a:srgbClr val="000000"/>
                </a:solidFill>
                <a:latin typeface="Lucida Sans Unicode"/>
              </a:rPr>
              <a:t> nuovo scenar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2C2-8408-4828-A3B3-410E584675C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it-IT" sz="3500" spc="-1" strike="noStrike">
                <a:solidFill>
                  <a:srgbClr val="000000"/>
                </a:solidFill>
                <a:latin typeface="Lucida Sans Unicode"/>
              </a:rPr>
              <a:t>LE NOVITÀ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Lucida Sans Unicode"/>
              </a:rPr>
              <a:t>FINALITÀ GENERALI </a:t>
            </a:r>
            <a:r>
              <a:rPr b="0" lang="it-IT" sz="2500" spc="-1" strike="noStrike">
                <a:solidFill>
                  <a:srgbClr val="000000"/>
                </a:solidFill>
                <a:latin typeface="Lucida Sans Unicode"/>
              </a:rPr>
              <a:t>(le 8 competenze chiave per l’apprendimento permanente – Raccomandazioni del Parlamento europeo  e del Consiglio UE del 18 dicembre 2006; il profilo dello studente e delle competenze al termine del primo ciclo d’istruzione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ORGANIZZAZIONE DEL CURRICOL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I CAMPI DI ESPERIENZ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Lucida Sans Unicode"/>
              </a:rPr>
              <a:t>DALLA SCUOLA DELL’INFANZIA ALLA PRIMAR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A8B-0DBF-4906-9F11-7ECD431450B2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CULTURA, SCUOLA,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 riflettere su INTERCULTURA e NUOVE TECNOLOGIE di informazione e comunicazione, confrontando il testo con quello del 2007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LA SCUOLA DELL’INFANZ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(I </a:t>
            </a:r>
            <a:r>
              <a:rPr b="1" lang="es-ES" sz="2400" spc="-1" strike="noStrike">
                <a:solidFill>
                  <a:srgbClr val="000000"/>
                </a:solidFill>
                <a:latin typeface="Lucida Sans Unicode"/>
              </a:rPr>
              <a:t>DOCENT</a:t>
            </a: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I: vale per tut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Segnaposto numero diapositiva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87E1-834E-491A-BBD5-0CB247E37B79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... La scuola non ha più il monopolio delle informazioni e dei modi di apprendere [...] il fare scuola oggi significa mettere in relazione la complessità di modi radicalmente nuovi di apprendimento con un’opera quotidiana di guida  [....]. Al contempo significa curare e consolidare le competenze e i saperi di base, che sono irrinunciabili perché sono le fondamenta per l’uso consapevole del sapere diffuso...” ( 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Segnaposto numero diapositiva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C11-69EE-4529-AAD9-5F0EED0F184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Titolo 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Una molteplicità di culture e di lingue sono entrate nella scuola. L’intercultura è già oggi il modello che permette a tutti i bambini e ragazzi il riconoscimento reciproco e dell’identità di ciascuno. [...]La scuola raccoglie con successo una sfida universale, di apertura verso il mondo, di pratica dell’uguaglianza nel riconoscimento delle differenze.” (pag. 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olo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99" name="Segnaposto numero diapositiva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E97B-203E-4F3D-9E1F-53BF0E5B0D4A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3:46:01Z</dcterms:created>
  <dc:creator>Armanda2</dc:creator>
  <dc:description/>
  <dc:language>en-US</dc:language>
  <cp:lastModifiedBy>Toshiba</cp:lastModifiedBy>
  <dcterms:modified xsi:type="dcterms:W3CDTF">2014-04-05T04:49:01Z</dcterms:modified>
  <cp:revision>54</cp:revision>
  <dc:subject/>
  <dc:title>INSERIMENTO SCOLASTICO ALUNNI STRANIERI</dc:title>
</cp:coreProperties>
</file>