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A58-3174-48C2-A79C-B904A44C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38F-FF31-4C38-BD51-331CB5C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7D0-C3DC-4EF1-BC47-8A9984E8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69C-4731-41EF-8199-50EE1FF5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A9A-5590-4C43-B234-7905394A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5CD1-8E3F-4F35-B8BC-8B5CB111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657E-5E40-4975-AB71-1FFE923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DF77-7128-4595-BA51-D9C3758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359B-703D-41F2-8BCC-20470FD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AFA0-A0AB-44B5-8382-EA1E6DE1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BEAD-12C1-4940-9E9C-165C6CB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ED8-0B86-47BB-9B51-231839E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2E52-A72B-40A6-B73B-793F70F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BC74-B48C-420B-8824-AE8C3BF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5C13-3A28-418A-A63E-DBABADD6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28E0-B840-4881-9172-47AF411B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6B30-0CFE-47EF-9A74-FE7860C9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7E14-C537-4883-944D-843110B4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3B62-FCD5-4B66-82DD-27AD2AB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BE02-080B-42A4-B450-2311D29C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0552-3415-4D7D-9DAA-ACE365C4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3C99-BB87-41F1-8086-16693DE6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983-9A7E-4F5F-923B-DC06419F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54C5-285A-4C90-BCB1-0AFB95AF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1D7A-8D6C-4578-9CF9-B2A34598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EB57-B91B-492A-B876-5510133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9884-AC27-4894-8917-48384D6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5E7C-E4B4-4A77-9535-998174CF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2AD3-A3CF-4D6B-979C-59839DD2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7BB3-0058-44C8-8A34-5A79FA0A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FFC8-B943-41A6-A3CB-C2EDD00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4103-CA0A-4748-ACAA-35A5FB0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A648-3758-4D3E-849F-F5E026D5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2BA-42CA-47A4-9D96-CBF50EE9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170F-4DE1-4EB3-920C-E57A8495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923E-4BE0-4DEC-B9AE-97E4BE6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B2C0-5FE3-44DA-9E96-BD28F85B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17AD-DE5A-43C5-B864-14F6CC16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6AE8-9DB4-4EA9-B6D6-AB74B2E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1975-ABFD-4A32-8CA0-F8121F51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85C4-EC95-4D5E-BF98-8B051ED3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6A80-1BB6-44A5-9898-4A894298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03CF-1251-4EEE-AC0E-DE8CF351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95D9-5F75-4FF8-9B7F-F27BCEFC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654-1E60-4FE3-94C3-39569AE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FE77-9410-4286-B954-E1324AD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A2D1-B263-491F-8D99-ED86415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EF05-A3E0-41F0-8F66-FD70E345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F0C7-6337-44F6-A921-FAA44BB5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C2373-69BF-493A-B3B5-6DD3A17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8B3E-D56B-487D-B209-11F2235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1C4B-839D-47A3-A0D3-EE096131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72524-08DB-4A0C-99B7-724373C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8220-8FF8-43EF-92BF-4E75CF1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0B6F3-07C9-4F24-BEAE-46F8B8ED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076-87D7-4776-8D09-EB04AB7D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0159-D601-48E7-B5A9-09D68E61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96E4-27B5-4BFB-BEF5-05E37D4B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72F0-32BF-4929-8F6A-C63F853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43F9-FB16-4385-8B68-C4171B9C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260E-4A61-45B5-A6A5-3576E2F0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DC98-C264-4ED2-A1FB-2F2556A2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68A5-8209-46A1-8BCD-6CB95F3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CC7E-E624-44B5-A584-80CFD569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BBBD-FCB6-484D-81FF-22057D7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344C-B84D-483A-B5AC-08523230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229-4162-4722-99D0-B7DC5C2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CBED-59B6-4387-94AE-FD568EF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1961-A73E-43D2-BF0B-65BF68BA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2FC76-E479-475B-A8B4-1B151CA0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DA4A-E97B-45D6-8480-B201B39A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936FD-7BB3-47C7-B544-B189C678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4336-3D45-418E-B0D2-1DF5528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C9A9-C5B0-4F85-9054-2749446B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DFD0-4D87-4CC6-8551-CD4B8B9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3BC2-7220-456E-86B8-4AE8CF94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38D9D-C8B7-4641-9244-17217E2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E82-9439-49A6-AFE0-DE8F3CB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2F7FB-9BE1-464D-B1E3-BBBE8094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0D039-0A62-4EAC-AD40-1539D76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B787C-E8CA-4885-99F8-C66267D0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93B02-5A82-47DD-82C9-359D4B2F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87C27-8C4F-4EA3-BBB1-90607D34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9B45F-9543-4090-9934-CF7789A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E54C5-137B-4690-B723-71A04E59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B10C1-A7D7-41C1-932D-35A739E6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B3E8-0E47-4D48-8709-D00E63A3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0515-83E9-4CC4-9793-D62A243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90F-B7BC-4A9B-B52D-0B2271A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D698-FCB2-4D33-B013-DE11E410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3146E-C44A-4F58-93AF-2518D53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F64CB-717D-4C91-9A78-BD04CFD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BAC8-523D-44A6-A684-DA4D2CC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41331-654F-49E3-AC9E-CFAD743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6439-93D6-46D7-B616-A566BB13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AE76-935B-4031-AAAA-25E5C29A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6D01-0B99-499D-9F8F-F51A27C2146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olo rettango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igura a mano libera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igura a mano libera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igura a mano liber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igura a mano liber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nettore 1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2348-D202-4216-8481-71C43F995234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allone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915-3475-449F-8115-7DD42DE0E62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59C-5021-482F-9AE9-47C9BCABB16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A6E1-66CB-44B1-B6C4-D30F989AB2A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609-4A2C-4B59-BDED-1EA9A11D1CE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1EF-D1A4-40C8-89AE-D619CE45CDC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olo rettango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olo rettango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ttore 1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Gallone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Gallone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C784-FB15-4B3B-9218-681D737494C4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NDICAZIONI NAZIONALI PER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L CURRICOLO DELLA SCUOL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DELL’INFANZIA E DEL PRIMO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CICLO D’ISTRUZIO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</a:rPr>
              <a:t>(16 novembre 2012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Armanda Selva                                                                       18 marzo 201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6AE-E70F-4947-A412-CA3EEB0989E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5653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 tre paragrafi vanno riletti con attenzione, anche se  sono  rimasti  pressoché invariati, perché costituiscono il fulcro del nostro fare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olo 4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734320" cy="3529080"/>
          </a:xfrm>
          <a:prstGeom prst="rect">
            <a:avLst/>
          </a:prstGeom>
          <a:ln w="0">
            <a:noFill/>
          </a:ln>
        </p:spPr>
      </p:pic>
      <p:sp>
        <p:nvSpPr>
          <p:cNvPr id="40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6224-E9D0-4020-AEB5-F7A76234DA8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SCUOLA, COSTITUZIONE, EUR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 “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La scuola italiana, statale e paritaria, svolge l’insostituibile funzione pubblica  assegnatale dealla Costituzione della Repubblica, per la formazione di ogni persona e la crescita civile e sociale del Paese”. (pag.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DF3-3BDA-4592-A83A-9FBFFE9A0E1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 le responsabilità comuni dei docenti che operano nella scuola  con alunni dai tre ai quattordici an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 le competenze - chiave indicate dal Parlamento europe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fende la peculiarità della ns. cultura pedagog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olo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240760" cy="2333520"/>
          </a:xfrm>
          <a:prstGeom prst="rect">
            <a:avLst/>
          </a:prstGeom>
          <a:ln w="0">
            <a:noFill/>
          </a:ln>
        </p:spPr>
      </p:pic>
      <p:sp>
        <p:nvSpPr>
          <p:cNvPr id="408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DD5-39DA-4984-9849-22804E9995F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nd. Naz.li sono quadro di riferimento per la progettazione del curricolo affidata alle scu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costruzione del curricolo...processo con il quale si sviluppano e organizzano la ricerca e l’innovazione educ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gni scuola predispone il curricolo all’interno del POF con riferimento al profilo dello studente al termine del primo ciclo di istruzione (pag. 1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8AF9-5F90-4A57-A2E3-025C8191958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ura della valu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ertificazione delle compet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nza della diversità come valore irrinuncia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mento delle pratiche inclusi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articolare cura riservata agli allievi con disabilità o con B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cuola comunità educativa (studenti, docenti, genitor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unità professionale dei doc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olo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14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A420-AEEA-445F-BC91-AF36EBF8A324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 la funzione di evitare la frammentazione dei campi d’esperienza e di favorire il passaggio alla scuola primaria con particolare attenzione agli aspetti socio-emoti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iflettere molto su questo paragra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olo 2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472600" cy="1450800"/>
          </a:xfrm>
          <a:prstGeom prst="rect">
            <a:avLst/>
          </a:prstGeom>
          <a:ln w="0">
            <a:noFill/>
          </a:ln>
        </p:spPr>
      </p:pic>
      <p:sp>
        <p:nvSpPr>
          <p:cNvPr id="417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D2D-3511-4B59-B9E6-7C6E0EBE85F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flettere su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lfabetizzazione culturale di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ittadinanza e costit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mbiente di apprendimen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a soprattutto su: 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’ambiente di apprendimento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mparare ad apprend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coraggiare l’apprendimento collaborativo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alizzar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ività didattich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 forma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boratori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5F8C-6CE3-4554-A10F-F4134E52BBC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 valut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sume una preminent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funzione formativ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di accompagnamento dei processi di apprendimento e di stimolo al miglioramento continu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3A1E-C794-4B24-9427-F21A163F5C7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di crescita professionale attraverso la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ricerca-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centrato sulla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Matematica ,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più concreta delle discipline ( i concetti matematici, il calcolo, la misura... Sono presenti nella vita quotidiana di tutti gli uomi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per lo sviluppo di processi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pprendimento collabora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DCF-F387-4931-B3A2-B1DB35C5E23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spetta all’autonomia didattica delle comunità professional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rogettare percorsi per la promozione, la rilevazione e la valutazione delle competenze. [...] Solo a seguito d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regolare osservazione, documentazione e valutazione delle competenze è possibile la loro certificazione,..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petenza 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ompetenza esperta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 Pellere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D0B-C889-4DC6-AAE4-0611FFA4A686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9 DEL 15 MARZO 1997- art.2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c.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275 dell’8 marzo 1999, cap. III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urricolo nell’autonomi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art.8 (definisce senso ne significato indicazioni, precisando ni compiti dello Stato e quelli delle singole Istituzioni Scolastich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3 del 28 marzo 2003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Morat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Lgs. 59 del 19 febbraio 2004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Allegati A, B, C, 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28E1-E6BD-40D4-886A-DA28DE4D3B1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itolo 6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686800" cy="1309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3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5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6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7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8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ivazione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buone pratiche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 un insegnamento – apprendimento efficace al fine di “forgiare individui autonomi e uomini liberi” (F. Sav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7EEC-C5B9-41B8-89A3-4651E155352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INDICAZIONI PER IL CURRICOLO PER LA SCUOLA DELL’INFANZIA E PER IL PRIMO CICLO D’ISTRUZIONE, 2007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o d’indirizz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nistro Gelmini dell’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settembre 2009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– Premessa –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89/2009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prevede la  revisione delle Indicazioni 2007 dopo il triennio 2009 –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101 del 4 novembre 201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avvio monitoragg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31del 18 april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splicita criteri di revis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1400-3FA3-4983-9224-5AB866F048A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Giugno 2012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: pubblicazione “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Bozz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5 settembr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zione 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“Bozza“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rivista in base alle osservazioni di docenti, esperti 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26 novembre 2012: pubblic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fficial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NUOVE INDICAZION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itamente al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egolament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uativo (Min.o Profum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.N. sostituiscono i Piani di studio Personalizzati del 2004 (Moratti) e le I.N. del 2007 (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143-DE0A-4792-9E23-3F8AA80339F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nuovo docu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on è stato redatto ex-novo, ma è 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risultato della revisione delle Indicazioni 200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È  il frutto degli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iti del monitoraggio trienna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, della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sultazion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iretta delle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scuo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e del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tributo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egli 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perti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Delinea un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 nuovo scenari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8DB-BF32-4522-BE53-FADA1871EEC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LE NOVITÀ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Lucida Sans Unicode"/>
              </a:rPr>
              <a:t>FINALITÀ GENERALI 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(le 8 competenze chiave per l’apprendimento permanente – Raccomandazioni del Parlamento europeo  e del Consiglio UE del 18 dicembre 2006; il profilo dello studente e delle competenze al termine del primo ciclo d’istruzione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ORGANIZZAZIONE DEL CURRICOL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I CAMPI DI ESPERIENZ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DALLA SCUOLA DELL’INFANZIA ALLA PRIMAR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99D-DAE4-422E-893E-AF6A7F4FF3E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CULTURA, SCUOLA,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 riflettere su INTERCULTURA e NUOVE TECNOLOGIE di informazione e comunicazione, confrontando il testo con quello del 2007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I 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DOCENT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I: vale per tut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575-00A5-45A8-AE09-F22F553B542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 La scuola non ha più il monopolio delle informazioni e dei modi di apprendere [...] il fare scuola oggi significa mettere in relazione la complessità di modi radicalmente nuovi di apprendimento con un’opera quotidiana di guida  [....]. Al contempo significa curare e consolidare le competenze e i saperi di base, che sono irrinunciabili perché sono le fondamenta per l’uso consapevole del sapere diffuso...” ( 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B4F5-1158-4677-8A9F-5209DA61BBA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olo 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molteplicità di culture e di lingue sono entrate nella scuola. L’intercultura è già oggi il modello che permette a tutti i bambini e ragazzi il riconoscimento reciproco e dell’identità di ciascuno. [...]La scuola raccoglie con successo una sfida universale, di apertura verso il mondo, di pratica dell’uguaglianza nel riconoscimento delle differenze.” (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E504-5996-4C79-8D7B-EF3FE7644C1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46:01Z</dcterms:created>
  <dc:creator>Armanda2</dc:creator>
  <dc:description/>
  <dc:language>en-US</dc:language>
  <cp:lastModifiedBy>Toshiba</cp:lastModifiedBy>
  <dcterms:modified xsi:type="dcterms:W3CDTF">2014-04-05T04:49:01Z</dcterms:modified>
  <cp:revision>54</cp:revision>
  <dc:subject/>
  <dc:title>INSERIMENTO SCOLASTICO ALUNNI STRANIERI</dc:title>
</cp:coreProperties>
</file>