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FF1D-3646-4089-962B-6E33DA3B8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3B7A-6D6C-42A5-8E08-09184A62E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B162-313A-4DC0-A4B3-116196BE3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9A14-0FD4-4E9D-BC00-7E8CBDF69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6633C-2CA3-470A-98F1-78E3785FF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0534C-A138-436C-81A2-679D90404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CC044-571D-434B-8636-D516D52A3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77CCC-326F-4973-B390-F28C16BA7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E4CFB-7598-402F-BB6E-856364F59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5B997-8013-46DB-A78A-C6FF1CE8E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3BBE8-B83C-462A-9410-C360756B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2CB8-4A49-4C53-8A73-B5978EA1D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B98A8-8BB0-492F-AE99-0C3AE3D1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916A1-2305-4EEF-A5C8-15F75644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CFEEB-9032-4D12-BF07-7510760E4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7D682-218C-417A-B044-1FDAF9E9C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CB277-4941-46D4-9CDB-4DADDC035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0BD7E-4281-4C09-AF04-F19023841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22B49-000C-4B77-A192-06CAAC881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87286-C9F8-4178-A464-BFD2A4125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7FE9C-C07B-4BC8-A6B6-899F94076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D3258-4B76-45E0-8BC4-E94AE9947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DC0B-7C12-48C7-8E2A-BCF8C6D8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45198-0372-4D68-9F19-39574F0F1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4D37B-7C2B-46BA-B3F0-D7E9F945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81D90-0D92-43CD-AE5B-C399DE07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81222-5EB9-4538-B42A-F1197AB4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8A32C-F34D-4618-AAAD-0A08BCBDD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B64AB-E179-4EDF-8403-9265B7E37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EE32B-BDC3-44C9-BF98-2F4A7454B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83F38-C7C1-4C69-BE4E-5B50B0610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FF3F4-E7D5-46A5-B075-427089E31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7B6E2-0E48-4D94-B3D1-902FCA2FA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C784-9C25-4AB0-A9C2-0D790AD04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F9003-8174-4D4B-A383-E19C7FCE8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9A5FA-786A-4EB4-A5BA-AB4BCAFEB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E5C2A-C6AC-486B-8CD8-A63311E4A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DA58C-0F6A-4B69-AA9A-41E59538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11F8E-BD90-49AB-82E6-8587311A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E3142-6FA4-4489-951C-864A2ED3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EA9AE-D603-49D6-B266-AC7B7982C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C479C-1051-4357-99EA-7B1905309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446DC-69D7-453F-855D-EFF719688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3CBC5-E294-4E16-96F3-6A3AFEB99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628E-BA95-45A9-9DB0-B1BFC8063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442BC-F085-4F3A-81E5-FF7BE1C2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65569-8DB1-48CD-9B81-40471D911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432B2-EA4A-47A0-98EA-2D8CC3CFB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51467-5EB6-464D-BC1A-696DD247D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6D007-A644-4B48-9833-53ACBEAB2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DE90D-51B4-4E70-B81D-F6DF28A6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B6FFC-1F62-4648-9152-4E3B6A27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D615A-20FF-4E3E-B836-CEAC5502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9A7A4-0835-4602-8B1B-DEB1E28F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C7CA0-B096-44CC-942F-C5A3EBC87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300C-5063-4C55-854D-76E254379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6AA50-3101-46C3-8B09-9F1494296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415F4-0694-48DE-9417-DFAD5C784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532518-7AA8-494A-8136-399BE61FF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8167A-CD41-4D7E-A1F9-0BFD5228F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8076F8-F6D4-46E3-8BE1-1D799EA37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A2A0D6-9918-4010-AB76-732BA79F7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3EF72-3158-4E73-BF35-85C59D01B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B5698-7556-4F52-A3EC-8242889B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74C84-910B-4829-9F98-861EE2ED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E258A-8482-49D2-AB6A-4F7845C7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6C70-1B46-4C2B-A0B9-294912AE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C7BBB-809F-41A0-8B74-05F29DD3D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589A7-3A0B-44DE-A708-15B74AE0D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A8EE8-BE72-4485-96B1-4A66B1078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943F2-6D19-4140-A60F-B82BEA9FC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0A823E-403A-4BFB-BB7A-2A488F993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C39EE8-F08A-41C2-87F1-C1170F7B1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C6CEB-BAFE-4791-BB96-318E0A426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781B4-61C1-468B-AF98-60B7DD8B4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971591-B53E-4D8D-A301-CC57CC268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CADBA-77C6-4141-9A73-15516FEB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5DB1-1F08-4563-A01E-54ED0A07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DB957-16C6-408E-80AD-DCE483C3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F7FA10-7AF0-4EC3-AB06-EF3CB983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149C4-2ABB-47AB-B59D-75E130F8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888937-599A-4A87-A847-B21B41AA3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FD2DA-6CD5-42E4-8EF4-5A58B7016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E4674D-3247-490B-9124-D8895A9C4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9A899D-7C96-46BE-AD00-9C79ADF60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59E990-5F91-45FF-8B24-A80D2C3C7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10203F-B6DD-4E17-AD83-9FC6E5474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AD5205-4579-46E0-AA04-72DC1B5E3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D652-0CC5-4B93-8905-7D3A3BD7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AA6A10-1880-40CD-8B00-0FBCB49A2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3A2C4-001E-4E61-9ADE-584AE9C6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1DB980-0DA3-4A48-A3BB-C08D4DF3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1C2200-921D-478C-9839-9A7A95BE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3833BA-1E02-4401-B2BE-82C59527C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CD2BB4-D3B6-4293-9391-9DAC9BC40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829EE7-BC23-442A-BE09-B9CE15FD4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igura a mano libera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igura a mano libera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Triangolo rettangolo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Triangolo rettangolo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Connettore 1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F9779-04BE-458A-88BF-1D9145D9B6AA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riangolo rettangolo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uppo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igura a mano libera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igura a mano libera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igura a mano libera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igura a mano libera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Connettore 1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21E05-BD34-4637-A980-BA81DACB0194}" type="slidenum">
              <a:rPr b="0" lang="it-IT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igura a mano libera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igura a mano libera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Triangolo rettangolo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Triangolo rettangolo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Connettore 1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Gallone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Gallone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89AAF-039E-4659-82A2-19C8CA49DB72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igura a mano libera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igura a mano libera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Triangolo rettangolo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Triangolo rettangolo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Connettore 1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925BB-2077-47B3-9438-4E2DFC9569D8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BC059-0EC5-4674-A36F-81C930F524ED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gura a mano libera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igura a mano libera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Triangolo rettangolo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Triangolo rettangolo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Connettore 1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306D7-EA35-43C1-904C-451DD97648C7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0968F-68E7-4D6D-888E-1F79A40D27BA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igura a mano libera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igura a mano libera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Triangolo rettangolo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Triangolo rettangolo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Connettore 1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Gallone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Gallone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35B53-A725-438A-8EE8-F1659215BEC1}" type="slidenum">
              <a:rPr b="0" lang="it-IT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539280" y="620280"/>
            <a:ext cx="814716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Lucida Sans Unicode"/>
              </a:rPr>
              <a:t>INDICAZIONI NAZIONALI PER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s-ES" sz="4400" spc="-1" strike="noStrike">
                <a:solidFill>
                  <a:srgbClr val="000000"/>
                </a:solidFill>
                <a:latin typeface="Lucida Sans Unicode"/>
              </a:rPr>
              <a:t>IL CURRICOLO DELLA SCUOLA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s-ES" sz="4400" spc="-1" strike="noStrike">
                <a:solidFill>
                  <a:srgbClr val="000000"/>
                </a:solidFill>
                <a:latin typeface="Lucida Sans Unicode"/>
              </a:rPr>
              <a:t>DELL’INFANZIA E DEL PRIMO 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Lucida Sans Unicode"/>
              </a:rPr>
              <a:t>CICLO D’ISTRUZIONE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Lucida Sans Unicode"/>
              </a:rPr>
              <a:t>(16 novembre 2012)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Lucida Sans Unicode"/>
              </a:rPr>
              <a:t>Armanda Selva                                                                       18 marzo 2014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Segnaposto numero diapositiva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9B008-2BB1-476A-9AF8-0FEFD8D14F1F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1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2565360"/>
            <a:ext cx="8229600" cy="34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I tre paragrafi vanno riletti con attenzione, anche se  sono  rimasti  pressoché invariati, perché costituiscono il fulcro del nostro fare scuol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Titolo 4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734320" cy="3529080"/>
          </a:xfrm>
          <a:prstGeom prst="rect">
            <a:avLst/>
          </a:prstGeom>
          <a:ln w="0">
            <a:noFill/>
          </a:ln>
        </p:spPr>
      </p:pic>
      <p:sp>
        <p:nvSpPr>
          <p:cNvPr id="402" name="Segnaposto numero diapositiva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7B3D0-D1AD-4B1C-A85E-9F67C44B9A9A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Lucida Sans Unicode"/>
              </a:rPr>
              <a:t>SCUOLA, COSTITUZIONE, EUROP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 Unicode"/>
              </a:rPr>
              <a:t>  “</a:t>
            </a:r>
            <a:r>
              <a:rPr b="0" lang="es-ES" sz="3200" spc="-1" strike="noStrike">
                <a:solidFill>
                  <a:srgbClr val="000000"/>
                </a:solidFill>
                <a:latin typeface="Lucida Sans Unicode"/>
              </a:rPr>
              <a:t>La scuola italiana, statale e paritaria, svolge l’insostituibile funzione pubblica  assegnatale dealla Costituzione della Repubblica, per la formazione di ogni persona e la crescita civile e sociale del Paese”. (pag.13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Titolo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05" name="Segnaposto numero diapositiva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D8FD0-9EDA-4FA7-8BD5-BF1F9DB5D960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234936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Consolida le responsabilità comuni dei docenti che operano nella scuola  con alunni dai tre ai quattordici ann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Accoglie le competenze - chiave indicate dal Parlamento europe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Difende la peculiarità della ns. cultura pedagogic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Titolo 2" descr=""/>
          <p:cNvPicPr/>
          <p:nvPr/>
        </p:nvPicPr>
        <p:blipFill>
          <a:blip r:embed="rId1"/>
          <a:stretch/>
        </p:blipFill>
        <p:spPr>
          <a:xfrm>
            <a:off x="317520" y="165240"/>
            <a:ext cx="8240760" cy="2333520"/>
          </a:xfrm>
          <a:prstGeom prst="rect">
            <a:avLst/>
          </a:prstGeom>
          <a:ln w="0">
            <a:noFill/>
          </a:ln>
        </p:spPr>
      </p:pic>
      <p:sp>
        <p:nvSpPr>
          <p:cNvPr id="408" name="Segnaposto numero diapositiva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9D214-E694-4A08-9A0B-F05CA8C84D0E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Le Ind. Naz.li sono quadro di riferimento per la progettazione del curricolo affidata alle scuol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La costruzione del curricolo...processo con il quale si sviluppano e organizzano la ricerca e l’innovazione educativ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Ogni scuola predispone il curricolo all’interno del POF con riferimento al profilo dello studente al termine del primo ciclo di istruzione (pag. 17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0" name="Titolo 2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41360"/>
          </a:xfrm>
          <a:prstGeom prst="rect">
            <a:avLst/>
          </a:prstGeom>
          <a:ln w="0">
            <a:noFill/>
          </a:ln>
        </p:spPr>
      </p:pic>
      <p:sp>
        <p:nvSpPr>
          <p:cNvPr id="411" name="Segnaposto numero diapositiva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34D69-1A14-495E-B63F-03CB6623FC6C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Cultura della valutazio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Certificazione delle competenz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Accoglienza della diversità come valore irrinunciabil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Consolidamento delle pratiche inclusiv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Particolare cura riservata agli allievi con disabilità o con B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Scuola comunità educativa (studenti, docenti, genitori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Comunità professionale dei docent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3" name="Titolo 2" descr=""/>
          <p:cNvPicPr/>
          <p:nvPr/>
        </p:nvPicPr>
        <p:blipFill>
          <a:blip r:embed="rId1"/>
          <a:stretch/>
        </p:blipFill>
        <p:spPr>
          <a:xfrm>
            <a:off x="450720" y="60480"/>
            <a:ext cx="8242560" cy="1450800"/>
          </a:xfrm>
          <a:prstGeom prst="rect">
            <a:avLst/>
          </a:prstGeom>
          <a:ln w="0">
            <a:noFill/>
          </a:ln>
        </p:spPr>
      </p:pic>
      <p:sp>
        <p:nvSpPr>
          <p:cNvPr id="414" name="Segnaposto numero diapositiva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369FA-B198-4377-B2FD-C5437E91BED0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Ha la funzione di evitare la frammentazione dei campi d’esperienza e di favorire il passaggio alla scuola primaria con particolare attenzione agli aspetti socio-emotiv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Riflettere molto su questo paragraf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6" name="Titolo 2" descr=""/>
          <p:cNvPicPr/>
          <p:nvPr/>
        </p:nvPicPr>
        <p:blipFill>
          <a:blip r:embed="rId1"/>
          <a:stretch/>
        </p:blipFill>
        <p:spPr>
          <a:xfrm>
            <a:off x="396720" y="60480"/>
            <a:ext cx="8472600" cy="1450800"/>
          </a:xfrm>
          <a:prstGeom prst="rect">
            <a:avLst/>
          </a:prstGeom>
          <a:ln w="0">
            <a:noFill/>
          </a:ln>
        </p:spPr>
      </p:pic>
      <p:sp>
        <p:nvSpPr>
          <p:cNvPr id="417" name="Segnaposto numero diapositiva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5CDA0-D6E6-41D6-A548-9DB337E4CD01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Riflettere su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L’alfabetizzazione culturale di bas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Cittadinanza e costituzio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L’ambiente di apprendiment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Ma soprattutto su: </a:t>
            </a:r>
            <a:r>
              <a:rPr b="1" lang="es-E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l’ambiente di apprendimento</a:t>
            </a:r>
            <a:r>
              <a:rPr b="0" lang="es-E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 ...</a:t>
            </a:r>
            <a:r>
              <a:rPr b="1" lang="es-E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imparare ad apprender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...</a:t>
            </a:r>
            <a:r>
              <a:rPr b="1" lang="es-E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incoraggiare l’apprendimento collaborativo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..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Realizzare </a:t>
            </a: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attività didattiche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in forma di </a:t>
            </a: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laboratorio..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9" name="Titolo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20" name="Segnaposto numero diapositiva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565C9-F63C-4D2E-AF07-B38754DE7C1D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La valutazione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assume una preminente </a:t>
            </a: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funzione formativa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, di accompagnamento dei processi di apprendimento e di stimolo al miglioramento continuo..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2" name="Titolo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23" name="Segnaposto numero diapositiva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1A507-0E32-4D19-9075-FE5EABCF365E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Occasione di crescita professionale attraverso la</a:t>
            </a: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 ricerca-azio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Incentrato sulla </a:t>
            </a: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Matematica ,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la più concreta delle discipline ( i concetti matematici, il calcolo, la misura... Sono presenti nella vita quotidiana di tutti gli uomini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Occasione per lo sviluppo di processi di </a:t>
            </a: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apprendimento collaborativ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5" name="Titolo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26" name="Segnaposto numero diapositiva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314B3-280C-42C3-85FC-9FD20C2E6291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...spetta all’autonomia didattica delle comunità professionali </a:t>
            </a: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progettare percorsi per la promozione, la rilevazione e la valutazione delle competenze. [...] Solo a seguito di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una regolare osservazione, documentazione e valutazione delle competenze è possibile la loro certificazione,..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Competenza e </a:t>
            </a: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competenza esperta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( Pellerey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Titolo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29" name="Segnaposto numero diapositiva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FF0B3-3632-47E5-8AAD-46F0F3A8854F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LEGGE 59 DEL 15 MARZO 1997- art.21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, c.9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D.P.R. 275 dell’8 marzo 1999, cap. III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 – </a:t>
            </a: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Curricolo nell’autonomia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, art.8 (definisce senso ne significato indicazioni, precisando ni compiti dello Stato e quelli delle singole Istituzioni Scolastich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Legge 53 del 28 marzo 2003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(Min.o Moratti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D.Lgs. 59 del 19 febbraio 2004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(Allegati A, B, C, D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Segnaposto numero diapositiva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5DF4D-0BF4-46A3-8C7E-5090637152EA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2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Titolo 6" descr=""/>
          <p:cNvPicPr/>
          <p:nvPr/>
        </p:nvPicPr>
        <p:blipFill>
          <a:blip r:embed="rId1"/>
          <a:stretch/>
        </p:blipFill>
        <p:spPr>
          <a:xfrm>
            <a:off x="317520" y="-109440"/>
            <a:ext cx="8686800" cy="13096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"/>
          <p:cNvPicPr/>
          <p:nvPr/>
        </p:nvPicPr>
        <p:blipFill>
          <a:blip r:embed="rId2"/>
          <a:stretch/>
        </p:blipFill>
        <p:spPr>
          <a:xfrm>
            <a:off x="0" y="3424320"/>
            <a:ext cx="9153360" cy="936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5" descr=""/>
          <p:cNvPicPr/>
          <p:nvPr/>
        </p:nvPicPr>
        <p:blipFill>
          <a:blip r:embed="rId3"/>
          <a:stretch/>
        </p:blipFill>
        <p:spPr>
          <a:xfrm>
            <a:off x="-4680" y="3424320"/>
            <a:ext cx="9153360" cy="93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6" descr=""/>
          <p:cNvPicPr/>
          <p:nvPr/>
        </p:nvPicPr>
        <p:blipFill>
          <a:blip r:embed="rId4"/>
          <a:stretch/>
        </p:blipFill>
        <p:spPr>
          <a:xfrm>
            <a:off x="-4680" y="3424320"/>
            <a:ext cx="9153360" cy="93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7" descr=""/>
          <p:cNvPicPr/>
          <p:nvPr/>
        </p:nvPicPr>
        <p:blipFill>
          <a:blip r:embed="rId5"/>
          <a:stretch/>
        </p:blipFill>
        <p:spPr>
          <a:xfrm>
            <a:off x="-4680" y="3424320"/>
            <a:ext cx="9153360" cy="93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8" descr=""/>
          <p:cNvPicPr/>
          <p:nvPr/>
        </p:nvPicPr>
        <p:blipFill>
          <a:blip r:embed="rId6"/>
          <a:stretch/>
        </p:blipFill>
        <p:spPr>
          <a:xfrm>
            <a:off x="-4680" y="3424320"/>
            <a:ext cx="9153360" cy="9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"/>
          <p:cNvPicPr/>
          <p:nvPr/>
        </p:nvPicPr>
        <p:blipFill>
          <a:blip r:embed="rId7"/>
          <a:stretch/>
        </p:blipFill>
        <p:spPr>
          <a:xfrm>
            <a:off x="-4680" y="3424320"/>
            <a:ext cx="9153360" cy="93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0" descr=""/>
          <p:cNvPicPr/>
          <p:nvPr/>
        </p:nvPicPr>
        <p:blipFill>
          <a:blip r:embed="rId8"/>
          <a:stretch/>
        </p:blipFill>
        <p:spPr>
          <a:xfrm>
            <a:off x="-4680" y="3424320"/>
            <a:ext cx="9153360" cy="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attivazione di </a:t>
            </a: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buone pratiche 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per un insegnamento – apprendimento efficace al fine di “forgiare individui autonomi e uomini liberi” (F. Savater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1" name="Titolo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32" name="Segnaposto numero diapositiva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2A8B1-3F17-43B6-81C1-A36CB0C77BB9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INDICAZIONI PER IL CURRICOLO PER LA SCUOLA DELL’INFANZIA E PER IL PRIMO CICLO D’ISTRUZIONE, 2007 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(Min.o Fioroni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Atto d’indirizzo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Ministro Gelmini dell’</a:t>
            </a: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8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settembre 2009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– Premessa – 2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D.P.R. 89/2009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: prevede la  revisione delle Indicazioni 2007 dopo il triennio 2009 – 201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C.M. N. 101 del 4 novembre 2011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: avvio monitoraggi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C.M. N. 31del 18 aprile 2012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: esplicita criteri di revisio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Segnaposto numero diapositiva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A0907-BAEB-46A2-B4C3-140138910219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700" spc="-1" strike="noStrike">
                <a:solidFill>
                  <a:srgbClr val="000000"/>
                </a:solidFill>
                <a:latin typeface="Lucida Sans Unicode"/>
              </a:rPr>
              <a:t>Giugno 2012</a:t>
            </a: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: pubblicazione “</a:t>
            </a:r>
            <a:r>
              <a:rPr b="1" lang="it-IT" sz="2700" spc="-1" strike="noStrike">
                <a:solidFill>
                  <a:srgbClr val="000000"/>
                </a:solidFill>
                <a:latin typeface="Lucida Sans Unicode"/>
              </a:rPr>
              <a:t>Bozza </a:t>
            </a: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pubblica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5 settembre 2012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pubblicazione </a:t>
            </a:r>
            <a:r>
              <a:rPr b="1" lang="it-IT" sz="2700" spc="-1" strike="noStrike">
                <a:solidFill>
                  <a:srgbClr val="000000"/>
                </a:solidFill>
                <a:latin typeface="Lucida Sans Unicode"/>
              </a:rPr>
              <a:t>“Bozza“ </a:t>
            </a: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rivista in base alle osservazioni di docenti, esperti …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26 novembre 2012: pubblicazione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ufficiale </a:t>
            </a: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NUOVE INDICAZIONI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unitamente al </a:t>
            </a: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Regolamento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attuativo (Min.o Profumo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Le I.N. sostituiscono i Piani di studio Personalizzati del 2004 (Moratti) e le I.N. del 2007 (Fioroni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Segnaposto numero diapositiva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FE96C-30E7-4746-A5A6-61BDAB95E773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539640" y="90792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Quindi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Il </a:t>
            </a:r>
            <a:r>
              <a:rPr b="1" lang="it-IT" sz="2800" spc="-1" strike="noStrike">
                <a:solidFill>
                  <a:srgbClr val="000000"/>
                </a:solidFill>
                <a:latin typeface="Lucida Sans Unicode"/>
              </a:rPr>
              <a:t>nuovo documento 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non è stato redatto ex-novo, ma è il </a:t>
            </a:r>
            <a:r>
              <a:rPr b="1" lang="it-IT" sz="2800" spc="-1" strike="noStrike">
                <a:solidFill>
                  <a:srgbClr val="000000"/>
                </a:solidFill>
                <a:latin typeface="Lucida Sans Unicode"/>
              </a:rPr>
              <a:t>risultato della revisione delle Indicazioni 2007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s-ES" sz="2800" spc="-1" strike="noStrike">
                <a:solidFill>
                  <a:srgbClr val="000000"/>
                </a:solidFill>
                <a:latin typeface="Lucida Sans Unicode"/>
              </a:rPr>
              <a:t>È  il frutto degli </a:t>
            </a:r>
            <a:r>
              <a:rPr b="1" lang="es-ES" sz="2800" spc="-1" strike="noStrike">
                <a:solidFill>
                  <a:srgbClr val="000000"/>
                </a:solidFill>
                <a:latin typeface="Lucida Sans Unicode"/>
              </a:rPr>
              <a:t>esiti del monitoraggio triennale</a:t>
            </a:r>
            <a:r>
              <a:rPr b="0" lang="es-ES" sz="2800" spc="-1" strike="noStrike">
                <a:solidFill>
                  <a:srgbClr val="000000"/>
                </a:solidFill>
                <a:latin typeface="Lucida Sans Unicode"/>
              </a:rPr>
              <a:t>, della </a:t>
            </a:r>
            <a:r>
              <a:rPr b="1" lang="es-ES" sz="2800" spc="-1" strike="noStrike">
                <a:solidFill>
                  <a:srgbClr val="000000"/>
                </a:solidFill>
                <a:latin typeface="Lucida Sans Unicode"/>
              </a:rPr>
              <a:t>consultazione</a:t>
            </a:r>
            <a:r>
              <a:rPr b="0" lang="es-ES" sz="2800" spc="-1" strike="noStrike">
                <a:solidFill>
                  <a:srgbClr val="000000"/>
                </a:solidFill>
                <a:latin typeface="Lucida Sans Unicode"/>
              </a:rPr>
              <a:t> diretta delle </a:t>
            </a:r>
            <a:r>
              <a:rPr b="1" lang="es-ES" sz="2800" spc="-1" strike="noStrike">
                <a:solidFill>
                  <a:srgbClr val="000000"/>
                </a:solidFill>
                <a:latin typeface="Lucida Sans Unicode"/>
              </a:rPr>
              <a:t>scuole</a:t>
            </a:r>
            <a:r>
              <a:rPr b="0" lang="es-ES" sz="2800" spc="-1" strike="noStrike">
                <a:solidFill>
                  <a:srgbClr val="000000"/>
                </a:solidFill>
                <a:latin typeface="Lucida Sans Unicode"/>
              </a:rPr>
              <a:t> e del </a:t>
            </a:r>
            <a:r>
              <a:rPr b="1" lang="es-ES" sz="2800" spc="-1" strike="noStrike">
                <a:solidFill>
                  <a:srgbClr val="000000"/>
                </a:solidFill>
                <a:latin typeface="Lucida Sans Unicode"/>
              </a:rPr>
              <a:t>contributo</a:t>
            </a:r>
            <a:r>
              <a:rPr b="0" lang="es-ES" sz="2800" spc="-1" strike="noStrike">
                <a:solidFill>
                  <a:srgbClr val="000000"/>
                </a:solidFill>
                <a:latin typeface="Lucida Sans Unicode"/>
              </a:rPr>
              <a:t> degli  </a:t>
            </a:r>
            <a:r>
              <a:rPr b="1" lang="es-ES" sz="2800" spc="-1" strike="noStrike">
                <a:solidFill>
                  <a:srgbClr val="000000"/>
                </a:solidFill>
                <a:latin typeface="Lucida Sans Unicode"/>
              </a:rPr>
              <a:t>esperti</a:t>
            </a:r>
            <a:r>
              <a:rPr b="0" lang="es-ES" sz="28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Lucida Sans Unicode"/>
              </a:rPr>
              <a:t>Delinea un </a:t>
            </a:r>
            <a:r>
              <a:rPr b="1" lang="es-ES" sz="2800" spc="-1" strike="noStrike">
                <a:solidFill>
                  <a:srgbClr val="000000"/>
                </a:solidFill>
                <a:latin typeface="Lucida Sans Unicode"/>
              </a:rPr>
              <a:t> nuovo scenario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Segnaposto numero diapositiva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A8832-9509-49B8-A1FA-79DF525828FC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5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1" lang="it-IT" sz="3500" spc="-1" strike="noStrike">
                <a:solidFill>
                  <a:srgbClr val="000000"/>
                </a:solidFill>
                <a:latin typeface="Lucida Sans Unicode"/>
              </a:rPr>
              <a:t>LE NOVITÀ</a:t>
            </a:r>
            <a:r>
              <a:rPr b="0" lang="it-IT" sz="25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0000"/>
                </a:solidFill>
                <a:latin typeface="Lucida Sans Unicode"/>
              </a:rPr>
              <a:t>FINALITÀ GENERALI </a:t>
            </a:r>
            <a:r>
              <a:rPr b="0" lang="it-IT" sz="2500" spc="-1" strike="noStrike">
                <a:solidFill>
                  <a:srgbClr val="000000"/>
                </a:solidFill>
                <a:latin typeface="Lucida Sans Unicode"/>
              </a:rPr>
              <a:t>(le 8 competenze chiave per l’apprendimento permanente – Raccomandazioni del Parlamento europeo  e del Consiglio UE del 18 dicembre 2006; il profilo dello studente e delle competenze al termine del primo ciclo d’istruzione)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Lucida Sans Unicode"/>
              </a:rPr>
              <a:t>ORGANIZZAZIONE DEL CURRICOLO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Lucida Sans Unicode"/>
              </a:rPr>
              <a:t>LA SCUOLA DELL’INFANZIA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Lucida Sans Unicode"/>
              </a:rPr>
              <a:t>I CAMPI DI ESPERIENZA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Lucida Sans Unicode"/>
              </a:rPr>
              <a:t>DALLA SCUOLA DELL’INFANZIA ALLA PRIMARIA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Segnaposto numero diapositiva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AFB09-954E-423F-AFB2-3B026578C747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395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Lucida Sans Unicode"/>
              </a:rPr>
              <a:t>CULTURA, SCUOLA, PERSON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 Unicode"/>
              </a:rPr>
              <a:t>( riflettere su INTERCULTURA e NUOVE TECNOLOGIE di informazione e comunicazione, confrontando il testo con quello del 2007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Lucida Sans Unicode"/>
              </a:rPr>
              <a:t>L’ORGANIZZAZIONE DEL CURRICOL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Lucida Sans Unicode"/>
              </a:rPr>
              <a:t>LA SCUOLA DELL’INFANZI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 Unicode"/>
              </a:rPr>
              <a:t>(I </a:t>
            </a:r>
            <a:r>
              <a:rPr b="1" lang="es-ES" sz="2400" spc="-1" strike="noStrike">
                <a:solidFill>
                  <a:srgbClr val="000000"/>
                </a:solidFill>
                <a:latin typeface="Lucida Sans Unicode"/>
              </a:rPr>
              <a:t>DOCENT</a:t>
            </a:r>
            <a:r>
              <a:rPr b="0" lang="es-ES" sz="2400" spc="-1" strike="noStrike">
                <a:solidFill>
                  <a:srgbClr val="000000"/>
                </a:solidFill>
                <a:latin typeface="Lucida Sans Unicode"/>
              </a:rPr>
              <a:t>I: vale per tutti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Segnaposto numero diapositiva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841E3-659D-4AED-8CB4-7C26CE02D25B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... La scuola non ha più il monopolio delle informazioni e dei modi di apprendere [...] il fare scuola oggi significa mettere in relazione la complessità di modi radicalmente nuovi di apprendimento con un’opera quotidiana di guida  [....]. Al contempo significa curare e consolidare le competenze e i saperi di base, che sono irrinunciabili perché sono le fondamenta per l’uso consapevole del sapere diffuso...” ( pag. 8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Segnaposto numero diapositiva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CCF7A-9DDE-4FB4-B4C1-3BDC68EA4D43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Titolo 3" descr=""/>
          <p:cNvPicPr/>
          <p:nvPr/>
        </p:nvPicPr>
        <p:blipFill>
          <a:blip r:embed="rId1"/>
          <a:stretch/>
        </p:blipFill>
        <p:spPr>
          <a:xfrm>
            <a:off x="450720" y="139680"/>
            <a:ext cx="824256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Una molteplicità di culture e di lingue sono entrate nella scuola. L’intercultura è già oggi il modello che permette a tutti i bambini e ragazzi il riconoscimento reciproco e dell’identità di ciascuno. [...]La scuola raccoglie con successo una sfida universale, di apertura verso il mondo, di pratica dell’uguaglianza nel riconoscimento delle differenze.” (pag. 8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olo 2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41360"/>
          </a:xfrm>
          <a:prstGeom prst="rect">
            <a:avLst/>
          </a:prstGeom>
          <a:ln w="0">
            <a:noFill/>
          </a:ln>
        </p:spPr>
      </p:pic>
      <p:sp>
        <p:nvSpPr>
          <p:cNvPr id="399" name="Segnaposto numero diapositiva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26495-FB72-48A0-9938-C0DD018B94D8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0T23:46:01Z</dcterms:created>
  <dc:creator>Armanda2</dc:creator>
  <dc:description/>
  <dc:language>en-US</dc:language>
  <cp:lastModifiedBy>Toshiba</cp:lastModifiedBy>
  <dcterms:modified xsi:type="dcterms:W3CDTF">2014-04-05T04:49:01Z</dcterms:modified>
  <cp:revision>54</cp:revision>
  <dc:subject/>
  <dc:title>INSERIMENTO SCOLASTICO ALUNNI STRANIERI</dc:title>
</cp:coreProperties>
</file>